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D74-0682-4989-9CB0-EC5CD541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4C9-DF1B-48BC-8A90-82EA1916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93D-5B12-4A37-BDB1-C7C1D862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4E7-61DE-47EC-B2C8-A3120091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F538-D782-4483-9552-59F84C56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4C13-E3E2-4EBB-96E6-2E7423EA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0712-98CD-4B74-B2D2-C7441BDC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2912-3E72-4F20-8F38-6860B94A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C9C7-1BDE-4937-8431-9311C8BE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033C-E8C2-4159-8C94-B5B75AC1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30F1-FF52-4702-90D4-8514A4A9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0BE-CEDC-44D5-8405-132F9B3F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A645-FB69-4EE0-9F23-6A53FC41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4565-B929-4EF3-AE4B-324C63A4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3A2F-D655-4ED8-9BB8-FF228ABD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61B9-1B3F-44F4-9EAF-EA5F2EE3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1C31-3AA8-4751-8583-2103735F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A47-94D1-4FE2-BDD4-9772EDB5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D28-AB8A-433C-97B6-9BEC20A0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DC6-44E2-4B20-98AE-828E1170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16C-3AB7-467F-895E-3D4ADA11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848-4D2E-4C9E-B1CF-F122787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F1E-B209-4D70-A6EE-FD999BF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C55-E2B1-4A3C-B656-7B2BC3AA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0479-CF56-44B3-97C1-157E3C5EA6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E798-010A-4D76-8ADE-D4CEEC97B9E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a500"/>
                </a:solidFill>
                <a:latin typeface="Arial"/>
              </a:rPr>
              <a:t>Химическая связь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a500"/>
                </a:solidFill>
                <a:latin typeface="Tahoma"/>
              </a:rPr>
              <a:t>Водородная связь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лектростатической притяжение между положительно поляризованными атомами водорода одной молекулы и отрицательно поляризованными атомами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,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еж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,C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ой молеку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a500"/>
                </a:solidFill>
                <a:latin typeface="Tahoma"/>
              </a:rPr>
              <a:t>Водородная связь быва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жмолекуля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нутримолекуля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54200" y="981000"/>
            <a:ext cx="3097080" cy="1963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2952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5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крыть причину образования химической связ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уализировать знания о видах химической связ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казать относительный характер ее классифик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чиной образования химической связи является стремление системы к минимуму энергии: при её образовании, как правило, энергия выделяется, образующаяся система обладает меньшей энергией, чем изолированные ато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дит уменьшение энергии на величину энергии связи(Есв.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a500"/>
                </a:solidFill>
                <a:latin typeface="Tahoma"/>
              </a:rPr>
              <a:t>Энергия связи (Есв.)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нергия, необходимая для разрушения этой связ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a500"/>
                </a:solidFill>
                <a:latin typeface="Tahoma"/>
              </a:rPr>
              <a:t>Химическая связь-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заимодействие между атомами, приводящее к образованию  устойчивой системы- молекулы, иона, кристалл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a500"/>
                </a:solidFill>
                <a:latin typeface="Tahoma"/>
              </a:rPr>
              <a:t>Ковалентная связь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язь между атомами, возникающая за счёт образования общих электронных па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a500"/>
                </a:solidFill>
                <a:latin typeface="Tahoma"/>
              </a:rPr>
              <a:t>Способы образования общей электронной пар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двумя неспаренными электронами-обменный механиз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1" lang="ru-RU" sz="3600" spc="-1" strike="noStrike" baseline="20000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1" lang="ru-RU" sz="36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 baseline="20000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lang="ru-RU" sz="36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ru-RU" sz="3600" spc="-1" strike="noStrike" baseline="30000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 : В   или А-В (1: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электронной парой и свободной орбиталью- донорно- акцепторный механиз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: +     В=  А : В  или А-В (2: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716280"/>
            <a:ext cx="576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6360" y="3716280"/>
            <a:ext cx="576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805360"/>
            <a:ext cx="216000" cy="2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5661000"/>
            <a:ext cx="57636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5661000"/>
            <a:ext cx="57636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a500"/>
                </a:solidFill>
                <a:latin typeface="Tahoma"/>
              </a:rPr>
              <a:t>Полярность ковалентной связ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а определяется разницей значений э.о связанных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4167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21467400">
            <a:off x="254160" y="259920"/>
            <a:ext cx="86389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a5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cca500"/>
                </a:solidFill>
                <a:latin typeface="Tahoma"/>
              </a:rPr>
              <a:t>Ионная связь-</a:t>
            </a:r>
            <a:r>
              <a:rPr b="0" lang="ru-RU" sz="2400" spc="-1" strike="noStrike">
                <a:solidFill>
                  <a:srgbClr val="cca5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ктростатическое притяжение между ион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a500"/>
                </a:solidFill>
                <a:latin typeface="Tahoma"/>
              </a:rPr>
              <a:t>Ионных соединений немного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элементы           +          элементы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р. гл. подгр.     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I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II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р. гл. подг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Если  значение э.о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gt;= 2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то связь считают ионной.Если же значение э.о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,то ковалентной полярн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a500"/>
                </a:solidFill>
                <a:latin typeface="Tahoma"/>
              </a:rPr>
              <a:t>Чёткой границы между ионной и ковалентной полярной связью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4200" y="1341360"/>
            <a:ext cx="7634160" cy="15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0:14:39Z</dcterms:created>
  <dc:creator>1</dc:creator>
  <dc:description/>
  <dc:language>en-US</dc:language>
  <cp:lastModifiedBy>User</cp:lastModifiedBy>
  <dcterms:modified xsi:type="dcterms:W3CDTF">2000-01-02T19:50:55Z</dcterms:modified>
  <cp:revision>11</cp:revision>
  <dc:subject/>
  <dc:title>Химическая связь</dc:title>
</cp:coreProperties>
</file>