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850-129B-4D0C-9BA0-E833F457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B6C-F1DA-409B-B2E7-2C32770E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2EE-E98F-4C67-A007-82BE0B16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1C7-6E39-4548-9848-B1998124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EF05-D3CF-4050-913B-97F7C7C0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A0E1-6072-4899-BF60-615251B9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2306-ABFD-4619-BE35-646EFB07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4EE0-2C80-43F1-B011-058A2C13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AEE-D146-4B8B-B0EC-13FC38C1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A231-6242-4ECA-9D45-A666986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D70-D3A3-4265-8DA3-95D55BB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922-C534-4CDD-9652-8EE67D66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1032-B171-451D-8B4F-04265AF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310B-30C1-42FC-A4C2-3A47D0BE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0A86-8222-4FAE-ADBA-A420CA48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B844-E794-4685-8D91-0BD5DAC6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B8C-FAC7-40BA-893A-43F4CA6E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C05A-F5B4-4263-997A-15D4B111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43A4-88E1-4734-8138-190CE54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2419-9CF1-421A-9FCF-9E01D0A9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0235-AA5C-4AE5-8F05-D6802F3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8334-6DCC-45E2-8B94-BC57B80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D82-646B-4589-BAB5-116F574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BF2D-3A4C-413D-9B75-8644A995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D2BB-7216-4D6D-8FCB-C783295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49E3-96A9-4F8B-B086-4BCCAC0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2F69-1A40-4BA9-A03A-552D2F7F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8E02-0618-45A3-8028-C1B6E74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3FE9-2B24-495A-B49B-C4CC95CC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15A1-4244-4150-8202-42A58772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695C-2660-4D8C-8269-E91FD20B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DB5C-4EAB-4E9F-83F1-D81C0FC5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6A9F-E2B0-4A88-8A02-DFF75E1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3BD-6A9A-43BE-828E-91A91067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788F-44F2-44BB-BDF1-2729F1E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C99E-F266-4147-890D-8A9CA38A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D54A-EA4D-44AB-8CD6-1D58F4BA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41B4-E926-442F-8A8A-8E6201C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9976-FA4D-4429-B025-6E1B49B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1C95-2770-4618-8A6A-CC0F3121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C132-290E-49DD-8E72-A9C80EDD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B5E5-3327-498F-AF04-E6C3E46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E03D-8271-4503-ACBA-A49D053C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C44B-7D5C-49C3-859B-FE45FC49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33A-89AE-47D9-8555-6F9FD422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D43F-7E76-49AE-853C-103967B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8B5B-1905-4E49-ADEC-E08EA8D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3B20-1BD6-41AC-9E2A-98DF31C7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F102-46B3-45F0-8FE7-8A886C5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8559-1AA0-4064-BE5B-F6100485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3847B-6C89-46C7-870B-0C1A62E1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66DA-7B44-4F7F-8E06-CBE3ADA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9A4D-E9AB-4A0C-BF0C-CBEC5F59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188B-DD71-4724-91EC-3ABBEE44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5235-125B-47CB-9669-ADFD4C7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554-F4D0-4C74-A0FE-FCAF8C6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ADD2B-2D68-4DC6-87DA-C5A69FC6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C0656-2723-4C16-A676-18D858CF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3351-F82E-4B25-AFC3-C9E7EE1E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8E7D1-726A-4C2F-9DDE-9BB0210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5309-7F1A-467E-ADBA-292BB71F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54A2-B3D8-4E6C-8812-EE10257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2246B-F20D-4A5D-B4AC-0AE983E6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88988-5C6B-4279-9294-D0AEBC8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5878-0B39-4AD3-9E98-9C070A4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F11B-B207-49F5-BFC1-1B7DBF6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280-D8C7-4C50-971A-C6E4424D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369A-7598-4009-9AA4-159C1A90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526A4-9CF4-4FF1-B4AD-03AFE9E5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656A-ED31-4CCD-8E87-5A73A50F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70D-5C60-49DD-82B5-528FA6C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D05-7A0A-42DE-A9D8-ED4C992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C8EB-39C9-4B4B-9A2C-AC36F53613E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C16-73D2-4E07-AC21-CA5DE12C160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1B93-21EE-4ED3-BB91-B8D9059DDDF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B25-E5BB-4113-B05A-42A5FB3595E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BCDD-92EE-47FB-81BA-4B3EBA4FAF2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358-141D-43FA-ABFC-CA890BA92D8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Интегрированный подход в обучении школьников с ОВЗ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Развитие речи на основе ознакомления с предметами и явлениями окружающей действительност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Тема: «Растения летом и осенью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исование « Деревья осенью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ение «Русский лес» И.Соколов-Мики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руд «Составление композиции из природного материала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Структура интегрированного урока отличается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ельной чёткостью, компактностью учебного материа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ой взаимообусловленностью, взаимообязанностью материа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ируемых предметов на каждом этапе уро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информативной ёмкостью учебного материала, используемого на уро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Методы и формы, способствующие осуществлению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нтегрированного подход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есе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кскурс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овесное рис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исунки-пантоми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 в группах и пар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ворческий поис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утешеств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г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еимуществ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 окружающий детей познаётся ими в многообразии и еди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ированные уроки развивают детей с ОВЗ, побуждают к активному познанию, к осмыслению и нахождению причинно-следственных связей, способствуют развитию логики мышления, коммуникативных способ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ей степени чем обычные способствуют развитию речи, формированию умения сравнивать, обобщать, делать 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грация даёт возможность для самореализации, самовыражения творчества учителя, способствует раскрытию творческого начала ученико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грированные уроки дают ученику достаточно  полное представление о мире, в котором он живё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Трудност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Главной проблемой при проведении интегрированных уроков является выбор темы урока, четкая постановка целей и задач к каждому этапу урока и понимание путей их достиж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рудно организовать одновременную работу нескольких учителей из-за жёсткого расписани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тсутствие достаточного количества методических рекомендаций в коррекционных школах по реализации межпредметных связей в конкретных учебных темах.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ерспективы развития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актика работы показала плодотворность интеграции и выявила перспективы дальнейшего развития и совершенствования такого подхода к обучен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549360" y="1444680"/>
            <a:ext cx="8277120" cy="53164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333000"/>
            <a:ext cx="6481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403280" y="26028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уальность                   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нтеграц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нительно к системе обучения "интеграция" как понятие может принимать 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ва значения: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-первых, это создание у школьников целостного представления об окружающем мире (здесь интеграция рассматривается как цель обучения);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-вторых, это нахождение возможности сближения предметных знаний (здесь интеграция - средство обучения)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Franklin Gothic Book"/>
              </a:rPr>
              <a:t>Ведущая педагогическая идея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казать ребенку единство и разнообразие постоянно меняющегося ми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йти связь между близкими по методике преподавания предметами (и по предлагаемому материалу), связь между кажущимися разными (по предполагаемому материалу) предмета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учить ребёнка находить главное, важное (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 данный для него момент)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 из всего потока полученной информации и использовать этот материал на практик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ри планировании интегрированных уроков учителю необходимо соблюдать условия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ированным может считаться любой урок, если для его проведения привлекаются знания , умения и результаты изучаемого материала методами других учебных предм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грированном уроке из нескольких предметов один считается ведущ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ированный урок может проводиться как одним учителем , так и несколькими, возможна различная интеграция учебных предм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сообразно в форме интегрированных уроков проводить обобщающие ур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Варианты интеграции предметов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тения и письма, музыки и ИЗО, чтения и музы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тематики и трудового обучения, письма и развития ре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вития речи и изобразительного искусства, развития речи и ч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вития  речи и физической куль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етодологическая функция – формирование у учащихся современных представлений об изучаемых дисциплинах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разовательная функция – формирование системности, связанности отдельных частей как системы, глубины, гибкости и  осознанности позна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ющая функция – формирование познавательной активности, преодоление инертности мышления, расширения кругозор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онструктивная функция – совершенствование содержания учебного материала, методов и форм организации обуч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6" descr=""/>
          <p:cNvPicPr/>
          <p:nvPr/>
        </p:nvPicPr>
        <p:blipFill>
          <a:blip r:embed="rId1"/>
          <a:stretch/>
        </p:blipFill>
        <p:spPr>
          <a:xfrm>
            <a:off x="444600" y="1444680"/>
            <a:ext cx="76564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Содержимое 5" descr=""/>
          <p:cNvPicPr/>
          <p:nvPr/>
        </p:nvPicPr>
        <p:blipFill>
          <a:blip r:embed="rId1"/>
          <a:stretch/>
        </p:blipFill>
        <p:spPr>
          <a:xfrm>
            <a:off x="450720" y="1590840"/>
            <a:ext cx="74804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6:21:50Z</dcterms:created>
  <dc:creator>SPA</dc:creator>
  <dc:description/>
  <dc:language>en-US</dc:language>
  <cp:lastModifiedBy>SPA</cp:lastModifiedBy>
  <dcterms:modified xsi:type="dcterms:W3CDTF">2013-02-08T10:28:06Z</dcterms:modified>
  <cp:revision>40</cp:revision>
  <dc:subject/>
  <dc:title> массовой школе ученики обычно изучают отдельные предметы, но не видят того, что мир един и целостен. Изучая математику, русский язык, окружающий мир , изобразительное искусство и другие предметы, ребята не осознают, что знания и умения приобретенные на одном из предметов можно использовать не только в жизненной практике, но и на другом предмете. Детский возраст тем и хорош, что ребенку дается различная база знаний, умений, навыков, способность научиться учиться и применять эти знания в жизни, научиться пользоваться различными справочниками и опытом других поколений. Но в детском возрасте ребенок еще не всегда точно знает кем он хочет стать (или станет), поэтому он увлечен одними предметами и совершенно не обращает внимание на другие, а в связи с постоянно меняющимися условиями жизни еще не известно понадобятся ли данные предметы этому человеку в дальнейшей. В интегрированном обучениипроисходит некоторое стирание граней между предметами, и человек (непроизвольно) учится добывать знания и умения не только по интересующему его предмету, но и по другим, не интересующим его . Пополняется база общечеловеческих и научных умений, знаний, навыков, которая в дальнейшей ему еще неоднократно пригодится в жизни.</dc:title>
</cp:coreProperties>
</file>