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891-04DC-4045-BB39-E1AECA7D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3E0-BCD9-473A-B84F-0716BB5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F32-8C82-4AFC-8CBA-FF9402F9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C26-8008-4CE7-8C7C-E88444E3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1B-0D53-4B91-9994-CCCB2DE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E8A-7B76-4660-91A4-CB187A0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C16-A14B-469F-A9E7-7EA52B26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B4A-4700-48E5-9578-B8DB7AF4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979-8ADB-4697-99FE-F2465DB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C8A-92F0-4DB3-9697-95482A5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91D-1103-484D-9831-344EBFC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F8E-0BD3-44AB-AA59-00D6843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BF89-B63C-4FB4-830A-90BBB0FD5F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1143000" y="357120"/>
            <a:ext cx="7143840" cy="806400"/>
          </a:xfrm>
          <a:prstGeom prst="roundRect">
            <a:avLst>
              <a:gd name="adj" fmla="val 6389"/>
            </a:avLst>
          </a:prstGeom>
          <a:solidFill>
            <a:srgbClr val="daedef">
              <a:alpha val="24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</a:rPr>
              <a:t>Государственное бюджетное общеобразовательное учреждение Сама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</a:rPr>
              <a:t>Средняя общеобразовательная школа №22 г. Сызрани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</a:rPr>
              <a:t>структурное подразделение, реализующее основные общеобразовательные программы дошкольного образования «Детский с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4" descr=""/>
          <p:cNvPicPr/>
          <p:nvPr/>
        </p:nvPicPr>
        <p:blipFill>
          <a:blip r:embed="rId1"/>
          <a:stretch/>
        </p:blipFill>
        <p:spPr>
          <a:xfrm>
            <a:off x="907920" y="2505240"/>
            <a:ext cx="76136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Taisiya\Рабочий стол\МОИ ПРЕЗЕНТАЦИИ\DSCN0924.jpg"/>
          <p:cNvPicPr/>
          <p:nvPr/>
        </p:nvPicPr>
        <p:blipFill>
          <a:blip r:embed="rId1"/>
          <a:stretch/>
        </p:blipFill>
        <p:spPr>
          <a:xfrm>
            <a:off x="179280" y="1285920"/>
            <a:ext cx="4105440" cy="2935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28760" y="428760"/>
            <a:ext cx="807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сле того как дети научились работать с пооперационными картами предложила сх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Taisiya\Рабочий стол\МОИ ПРЕЗЕНТАЦИИ\DSCN5796.jpg"/>
          <p:cNvPicPr/>
          <p:nvPr/>
        </p:nvPicPr>
        <p:blipFill>
          <a:blip r:embed="rId2"/>
          <a:stretch/>
        </p:blipFill>
        <p:spPr>
          <a:xfrm>
            <a:off x="4643280" y="2205000"/>
            <a:ext cx="4286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57120" y="375840"/>
            <a:ext cx="842976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 Изготовление сюжетных компози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воив технику выполнения моделей, дети за одно занятие успевали сделать несколько поделок, что позволило объединять их в сюжетные композ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ждая композиция дополняется  элементами аппликативного оформления фона.   Для выразительности композиции использовали цветовое оформление. При помощи цвета передается определенное настроение или состояние человека или природы. В процессе создания композиций у детей формируется чувство центра, симметрии, представление о глубине пространства листа бумаги. Они учатся правильно располагать предметы на плоскости листа, устанавливать связь между предметами, расположенными в разных частях композиции (ближе, выше, ниже, рядом).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Так были созданы коллективные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южетно-тематические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мпозиции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отражающие тему недели  («Грачи прилетели», «Лес», «Дикие животные», «Деревенский дворик», «Домашние животные», «Транспорт», «Лебеди на пруду», «Рыбки в аквариуме»,  «Ну лугу», «Осенний лес»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Taisiya\Рабочий стол\МОИ ПРЕЗЕНТАЦИИ\DSCN9875.jpg"/>
          <p:cNvPicPr/>
          <p:nvPr/>
        </p:nvPicPr>
        <p:blipFill>
          <a:blip r:embed="rId1"/>
          <a:stretch/>
        </p:blipFill>
        <p:spPr>
          <a:xfrm>
            <a:off x="6227640" y="2906640"/>
            <a:ext cx="2071800" cy="2928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046400" y="407196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Грачи приле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Taisiya\Рабочий стол\МОИ ПРЕЗЕНТАЦИИ\DSCN0465.jpg"/>
          <p:cNvPicPr/>
          <p:nvPr/>
        </p:nvPicPr>
        <p:blipFill>
          <a:blip r:embed="rId2"/>
          <a:stretch/>
        </p:blipFill>
        <p:spPr>
          <a:xfrm>
            <a:off x="500040" y="3143160"/>
            <a:ext cx="3214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Taisiya\Рабочий стол\МОИ ПРЕЗЕНТАЦИИ\DSCN2373.jpg"/>
          <p:cNvPicPr/>
          <p:nvPr/>
        </p:nvPicPr>
        <p:blipFill>
          <a:blip r:embed="rId1"/>
          <a:stretch/>
        </p:blipFill>
        <p:spPr>
          <a:xfrm>
            <a:off x="274680" y="262080"/>
            <a:ext cx="3808440" cy="259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Documents and Settings\Taisiya\Рабочий стол\МОИ ПРЕЗЕНТАЦИИ\DSCN3619.jpg"/>
          <p:cNvPicPr/>
          <p:nvPr/>
        </p:nvPicPr>
        <p:blipFill>
          <a:blip r:embed="rId2"/>
          <a:stretch/>
        </p:blipFill>
        <p:spPr>
          <a:xfrm>
            <a:off x="4714920" y="285840"/>
            <a:ext cx="409428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Taisiya\Рабочий стол\МОИ ПРЕЗЕНТАЦИИ\DSCN0945.jpg"/>
          <p:cNvPicPr/>
          <p:nvPr/>
        </p:nvPicPr>
        <p:blipFill>
          <a:blip r:embed="rId3"/>
          <a:stretch/>
        </p:blipFill>
        <p:spPr>
          <a:xfrm>
            <a:off x="5357880" y="3214800"/>
            <a:ext cx="2928960" cy="3357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881280" y="59292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ыбки в аквариу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690120" y="292896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ашины на нашей ул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5934960" y="62866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бочки на л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5357880" y="278604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Лебеди на пру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Taisiya\Рабочий стол\МОИ ПРЕЗЕНТАЦИИ\DSCN2308.jpg"/>
          <p:cNvPicPr/>
          <p:nvPr/>
        </p:nvPicPr>
        <p:blipFill>
          <a:blip r:embed="rId4"/>
          <a:stretch/>
        </p:blipFill>
        <p:spPr>
          <a:xfrm>
            <a:off x="357120" y="3429000"/>
            <a:ext cx="3643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Taisiya\Рабочий стол\МОИ ПРЕЗЕНТАЦИИ\DSCN2350.jpg"/>
          <p:cNvPicPr/>
          <p:nvPr/>
        </p:nvPicPr>
        <p:blipFill>
          <a:blip r:embed="rId1"/>
          <a:stretch/>
        </p:blipFill>
        <p:spPr>
          <a:xfrm>
            <a:off x="2428920" y="3629160"/>
            <a:ext cx="4000320" cy="289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Taisiya\Рабочий стол\МОИ ПРЕЗЕНТАЦИИ\DSCN2306.jpg"/>
          <p:cNvPicPr/>
          <p:nvPr/>
        </p:nvPicPr>
        <p:blipFill>
          <a:blip r:embed="rId2"/>
          <a:stretch/>
        </p:blipFill>
        <p:spPr>
          <a:xfrm>
            <a:off x="4875120" y="290520"/>
            <a:ext cx="4002120" cy="278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Taisiya\Рабочий стол\МОИ ПРЕЗЕНТАЦИИ\DSCN2306.jpg"/>
          <p:cNvPicPr/>
          <p:nvPr/>
        </p:nvPicPr>
        <p:blipFill>
          <a:blip r:embed="rId3"/>
          <a:stretch/>
        </p:blipFill>
        <p:spPr>
          <a:xfrm>
            <a:off x="214200" y="28584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971520" y="319716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сенний ле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6953040" y="47973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  луг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28760" y="26028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олшебная страна бумажных игрушек ждёт все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кого пытливый ум и умелые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Taisiya\Рабочий стол\МОИ ПРЕЗЕНТАЦИИ\DSCN2366.jpg"/>
          <p:cNvPicPr/>
          <p:nvPr/>
        </p:nvPicPr>
        <p:blipFill>
          <a:blip r:embed="rId1"/>
          <a:stretch/>
        </p:blipFill>
        <p:spPr>
          <a:xfrm>
            <a:off x="428760" y="981000"/>
            <a:ext cx="4143240" cy="421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Taisiya\Рабочий стол\МОИ ПРЕЗЕНТАЦИИ\РЕГ1 090.jpg"/>
          <p:cNvPicPr/>
          <p:nvPr/>
        </p:nvPicPr>
        <p:blipFill>
          <a:blip r:embed="rId2"/>
          <a:stretch/>
        </p:blipFill>
        <p:spPr>
          <a:xfrm>
            <a:off x="5207040" y="1413000"/>
            <a:ext cx="3495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928800" y="142920"/>
            <a:ext cx="757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Documents and Settings\Taisiya\Рабочий стол\МОИ ПРЕЗЕНТАЦИИ\img016.jpg"/>
          <p:cNvPicPr/>
          <p:nvPr/>
        </p:nvPicPr>
        <p:blipFill>
          <a:blip r:embed="rId1"/>
          <a:stretch/>
        </p:blipFill>
        <p:spPr>
          <a:xfrm>
            <a:off x="357120" y="3214800"/>
            <a:ext cx="3843360" cy="2571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5000760" y="578880"/>
            <a:ext cx="3500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вадратный листочек бумаги, ловкие, почти неуловимые движения пальцев - и вот уже в руках поя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бавные котя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обычные цв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ли декоративные рыбки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Taisiya\Рабочий стол\МОИ ПРЕЗЕНТАЦИИ\DSCN0930.jpg"/>
          <p:cNvPicPr/>
          <p:nvPr/>
        </p:nvPicPr>
        <p:blipFill>
          <a:blip r:embed="rId2"/>
          <a:stretch/>
        </p:blipFill>
        <p:spPr>
          <a:xfrm>
            <a:off x="357120" y="428760"/>
            <a:ext cx="385776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Taisiya\Рабочий стол\МОИ ПРЕЗЕНТАЦИИ\Изображение 332.jpg"/>
          <p:cNvPicPr/>
          <p:nvPr/>
        </p:nvPicPr>
        <p:blipFill>
          <a:blip r:embed="rId3"/>
          <a:stretch/>
        </p:blipFill>
        <p:spPr>
          <a:xfrm>
            <a:off x="4786200" y="3214800"/>
            <a:ext cx="3571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тересно вместе создавать различные подел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Taisiya\Рабочий стол\МОИ ПРЕЗЕНТАЦИИ\DSCN5203.jpg"/>
          <p:cNvPicPr/>
          <p:nvPr/>
        </p:nvPicPr>
        <p:blipFill>
          <a:blip r:embed="rId1"/>
          <a:stretch/>
        </p:blipFill>
        <p:spPr>
          <a:xfrm>
            <a:off x="357120" y="692280"/>
            <a:ext cx="4143600" cy="30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Taisiya\Рабочий стол\МОИ ПРЕЗЕНТАЦИИ\DSCN6000.jpg"/>
          <p:cNvPicPr/>
          <p:nvPr/>
        </p:nvPicPr>
        <p:blipFill>
          <a:blip r:embed="rId2"/>
          <a:stretch/>
        </p:blipFill>
        <p:spPr>
          <a:xfrm>
            <a:off x="357120" y="3989520"/>
            <a:ext cx="4143600" cy="260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Taisiya\Рабочий стол\МОИ ПРЕЗЕНТАЦИИ\DSCN0448.jpg"/>
          <p:cNvPicPr/>
          <p:nvPr/>
        </p:nvPicPr>
        <p:blipFill>
          <a:blip r:embed="rId3"/>
          <a:stretch/>
        </p:blipFill>
        <p:spPr>
          <a:xfrm>
            <a:off x="5072040" y="1428840"/>
            <a:ext cx="3747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ематические 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Taisiya\Рабочий стол\МОИ ПРЕЗЕНТАЦИИ\DSCN2336.jpg"/>
          <p:cNvPicPr/>
          <p:nvPr/>
        </p:nvPicPr>
        <p:blipFill>
          <a:blip r:embed="rId1"/>
          <a:stretch/>
        </p:blipFill>
        <p:spPr>
          <a:xfrm>
            <a:off x="393840" y="928800"/>
            <a:ext cx="3493800" cy="401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Taisiya\Рабочий стол\МОИ ПРЕЗЕНТАЦИИ\DSCN2310.jpg"/>
          <p:cNvPicPr/>
          <p:nvPr/>
        </p:nvPicPr>
        <p:blipFill>
          <a:blip r:embed="rId2"/>
          <a:stretch/>
        </p:blipFill>
        <p:spPr>
          <a:xfrm>
            <a:off x="4140360" y="928800"/>
            <a:ext cx="4717800" cy="4012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845640" y="5072040"/>
            <a:ext cx="25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Цветы для любимой м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5129640" y="507204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Этот загадочный косм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Taisiya\Рабочий стол\МОИ ПРЕЗЕНТАЦИИ\DSCN2319.jpg"/>
          <p:cNvPicPr/>
          <p:nvPr/>
        </p:nvPicPr>
        <p:blipFill>
          <a:blip r:embed="rId1"/>
          <a:stretch/>
        </p:blipFill>
        <p:spPr>
          <a:xfrm>
            <a:off x="214200" y="260280"/>
            <a:ext cx="42148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Taisiya\Рабочий стол\МОИ ПРЕЗЕНТАЦИИ\DSCN2317.jpg"/>
          <p:cNvPicPr/>
          <p:nvPr/>
        </p:nvPicPr>
        <p:blipFill>
          <a:blip r:embed="rId2"/>
          <a:stretch/>
        </p:blipFill>
        <p:spPr>
          <a:xfrm>
            <a:off x="4786200" y="1268280"/>
            <a:ext cx="4214880" cy="351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Taisiya\Рабочий стол\МОИ ПРЕЗЕНТАЦИИ\DSCN2334.jpg"/>
          <p:cNvPicPr/>
          <p:nvPr/>
        </p:nvPicPr>
        <p:blipFill>
          <a:blip r:embed="rId3"/>
          <a:stretch/>
        </p:blipFill>
        <p:spPr>
          <a:xfrm>
            <a:off x="214200" y="344160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4896720" y="642960"/>
            <a:ext cx="35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ши любимые домашние живо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6036480" y="478620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Домашние пт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428840" y="635796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Здравствуй, 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Documents and Settings\Taisiya\Рабочий стол\МОИ ПРЕЗЕНТАЦИИ\DSCN2306.jpg"/>
          <p:cNvPicPr/>
          <p:nvPr/>
        </p:nvPicPr>
        <p:blipFill>
          <a:blip r:embed="rId1"/>
          <a:stretch/>
        </p:blipFill>
        <p:spPr>
          <a:xfrm>
            <a:off x="324000" y="285840"/>
            <a:ext cx="4392360" cy="307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Taisiya\Рабочий стол\МОИ ПРЕЗЕНТАЦИИ\DSCN2329.jpg"/>
          <p:cNvPicPr/>
          <p:nvPr/>
        </p:nvPicPr>
        <p:blipFill>
          <a:blip r:embed="rId2"/>
          <a:stretch/>
        </p:blipFill>
        <p:spPr>
          <a:xfrm>
            <a:off x="4286160" y="3357720"/>
            <a:ext cx="4572000" cy="3384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319400" y="36432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Золотая ос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5969880" y="3000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Зимушка -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 японском искусстве складывания бумаг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39640" y="1484280"/>
            <a:ext cx="81471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Оригами –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японское искусство складывания бумаги. Оно привлекло к себе внимание многих, так как является не только увлекательным способом проведения досуга, но и средством решения многих педагогических задач, в том числе и коррекционных. Многие учёные, педагоги, психологи обращали и обращают серьёзное внимание на значение развития мелкой моторики ру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ристотель говорил: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«Рука – это инструмент всех инструментов»</a:t>
            </a: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дразумевая под этим взаимосвязь руки с мыслительными способ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ажность развития руки отмечал Кант: </a:t>
            </a: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Рука- это своего рода внешний моз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.А. Сухомлинский писал: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«Чем  больше ма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в детской руке, тем умнее ребёно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Taisiya\Рабочий стол\МОИ ПРЕЗЕНТАЦИИ\DSCN2361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48574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143080" y="500040"/>
            <a:ext cx="36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прекрасен это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Taisiya\Рабочий стол\МОИ ПРЕЗЕНТАЦИИ\DSCN2374.jpg"/>
          <p:cNvPicPr/>
          <p:nvPr/>
        </p:nvPicPr>
        <p:blipFill>
          <a:blip r:embed="rId2"/>
          <a:stretch/>
        </p:blipFill>
        <p:spPr>
          <a:xfrm>
            <a:off x="4786200" y="1071720"/>
            <a:ext cx="4143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Taisiya\Рабочий стол\МОИ ПРЕЗЕНТАЦИИ\DSCN5143.jpg"/>
          <p:cNvPicPr/>
          <p:nvPr/>
        </p:nvPicPr>
        <p:blipFill>
          <a:blip r:embed="rId1"/>
          <a:stretch/>
        </p:blipFill>
        <p:spPr>
          <a:xfrm>
            <a:off x="395280" y="928800"/>
            <a:ext cx="4176720" cy="4357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2885040" y="42876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прекрасен это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Taisiya\Рабочий стол\МОИ ПРЕЗЕНТАЦИИ\DSCN2341.jpg"/>
          <p:cNvPicPr/>
          <p:nvPr/>
        </p:nvPicPr>
        <p:blipFill>
          <a:blip r:embed="rId2"/>
          <a:stretch/>
        </p:blipFill>
        <p:spPr>
          <a:xfrm>
            <a:off x="4788000" y="928800"/>
            <a:ext cx="4000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Taisiya\Рабочий стол\МОИ ПРЕЗЕНТАЦИИ\DSCN2349.jpg"/>
          <p:cNvPicPr/>
          <p:nvPr/>
        </p:nvPicPr>
        <p:blipFill>
          <a:blip r:embed="rId1"/>
          <a:stretch/>
        </p:blipFill>
        <p:spPr>
          <a:xfrm>
            <a:off x="468360" y="1214280"/>
            <a:ext cx="374328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Taisiya\Рабочий стол\МОИ ПРЕЗЕНТАЦИИ\DSCN2355.jpg"/>
          <p:cNvPicPr/>
          <p:nvPr/>
        </p:nvPicPr>
        <p:blipFill>
          <a:blip r:embed="rId2"/>
          <a:stretch/>
        </p:blipFill>
        <p:spPr>
          <a:xfrm>
            <a:off x="4857840" y="1214280"/>
            <a:ext cx="37148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3099600" y="357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прекрасен это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336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операционные карты </a:t>
            </a:r>
            <a:r>
              <a:rPr b="0" lang="ru-RU" sz="1600" spc="-1" strike="noStrike">
                <a:solidFill>
                  <a:srgbClr val="002448"/>
                </a:solidFill>
                <a:latin typeface="Arial Black"/>
              </a:rPr>
              <a:t>последовательности изготовления </a:t>
            </a:r>
            <a:br>
              <a:rPr sz="1600"/>
            </a:br>
            <a:r>
              <a:rPr b="0" lang="ru-RU" sz="1600" spc="-1" strike="noStrike">
                <a:solidFill>
                  <a:srgbClr val="002448"/>
                </a:solidFill>
                <a:latin typeface="Arial Black"/>
              </a:rPr>
              <a:t>фигурок ориг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C:\Documents and Settings\Taisiya\Рабочий стол\МОИ ПРЕЗЕНТАЦИИ\DSCN2397.jpg"/>
          <p:cNvPicPr/>
          <p:nvPr/>
        </p:nvPicPr>
        <p:blipFill>
          <a:blip r:embed="rId1"/>
          <a:stretch/>
        </p:blipFill>
        <p:spPr>
          <a:xfrm>
            <a:off x="2556000" y="803160"/>
            <a:ext cx="3786120" cy="271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Taisiya\Рабочий стол\МОИ ПРЕЗЕНТАЦИИ\DSCN2399.jpg"/>
          <p:cNvPicPr/>
          <p:nvPr/>
        </p:nvPicPr>
        <p:blipFill>
          <a:blip r:embed="rId2"/>
          <a:stretch/>
        </p:blipFill>
        <p:spPr>
          <a:xfrm>
            <a:off x="5364000" y="3697200"/>
            <a:ext cx="2713320" cy="304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Taisiya\Рабочий стол\МОИ ПРЕЗЕНТАЦИИ\DSCN2406.jpg"/>
          <p:cNvPicPr/>
          <p:nvPr/>
        </p:nvPicPr>
        <p:blipFill>
          <a:blip r:embed="rId3"/>
          <a:stretch/>
        </p:blipFill>
        <p:spPr>
          <a:xfrm>
            <a:off x="826920" y="3697200"/>
            <a:ext cx="29638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C:\Documents and Settings\Taisiya\Рабочий стол\МОИ ПРЕЗЕНТАЦИИ\DSCN2409.jpg"/>
          <p:cNvPicPr/>
          <p:nvPr/>
        </p:nvPicPr>
        <p:blipFill>
          <a:blip r:embed="rId1"/>
          <a:stretch/>
        </p:blipFill>
        <p:spPr>
          <a:xfrm>
            <a:off x="142920" y="404640"/>
            <a:ext cx="271476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Taisiya\Рабочий стол\МОИ ПРЕЗЕНТАЦИИ\DSCN2401.jpg"/>
          <p:cNvPicPr/>
          <p:nvPr/>
        </p:nvPicPr>
        <p:blipFill>
          <a:blip r:embed="rId2"/>
          <a:stretch/>
        </p:blipFill>
        <p:spPr>
          <a:xfrm>
            <a:off x="3089160" y="148428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Taisiya\Рабочий стол\МОИ ПРЕЗЕНТАЦИИ\DSCN2407.jpg"/>
          <p:cNvPicPr/>
          <p:nvPr/>
        </p:nvPicPr>
        <p:blipFill>
          <a:blip r:embed="rId3"/>
          <a:stretch/>
        </p:blipFill>
        <p:spPr>
          <a:xfrm>
            <a:off x="6107040" y="2637000"/>
            <a:ext cx="28576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хемы последовательности изготовления фигурок ори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&amp;pcy;&amp;rcy;&amp;ocy;&amp;scy;&amp;tcy;&amp;ocy;&amp;iecy; &amp;ocy;&amp;rcy;&amp;icy;&amp;gcy;&amp;acy;&amp;mcy;&amp;icy;"/>
          <p:cNvPicPr/>
          <p:nvPr/>
        </p:nvPicPr>
        <p:blipFill>
          <a:blip r:embed="rId1"/>
          <a:stretch/>
        </p:blipFill>
        <p:spPr>
          <a:xfrm>
            <a:off x="214200" y="1000080"/>
            <a:ext cx="2428920" cy="4500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Схема оригами дельфин"/>
          <p:cNvPicPr/>
          <p:nvPr/>
        </p:nvPicPr>
        <p:blipFill>
          <a:blip r:embed="rId2"/>
          <a:srcRect l="0" t="0" r="0" b="3125"/>
          <a:stretch/>
        </p:blipFill>
        <p:spPr>
          <a:xfrm>
            <a:off x="2786040" y="981000"/>
            <a:ext cx="2571840" cy="450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5643720" y="1000080"/>
            <a:ext cx="2500200" cy="45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Оригами машина"/>
          <p:cNvPicPr/>
          <p:nvPr/>
        </p:nvPicPr>
        <p:blipFill>
          <a:blip r:embed="rId3"/>
          <a:stretch/>
        </p:blipFill>
        <p:spPr>
          <a:xfrm>
            <a:off x="6215040" y="1000080"/>
            <a:ext cx="121464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Оригами машина"/>
          <p:cNvPicPr/>
          <p:nvPr/>
        </p:nvPicPr>
        <p:blipFill>
          <a:blip r:embed="rId4"/>
          <a:stretch/>
        </p:blipFill>
        <p:spPr>
          <a:xfrm>
            <a:off x="5929200" y="1785960"/>
            <a:ext cx="857520" cy="785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Оригами машина"/>
          <p:cNvPicPr/>
          <p:nvPr/>
        </p:nvPicPr>
        <p:blipFill>
          <a:blip r:embed="rId5"/>
          <a:stretch/>
        </p:blipFill>
        <p:spPr>
          <a:xfrm>
            <a:off x="7072200" y="1785960"/>
            <a:ext cx="85752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0" descr="Оригами машина"/>
          <p:cNvPicPr/>
          <p:nvPr/>
        </p:nvPicPr>
        <p:blipFill>
          <a:blip r:embed="rId6"/>
          <a:stretch/>
        </p:blipFill>
        <p:spPr>
          <a:xfrm>
            <a:off x="5715000" y="26431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Оригами машина"/>
          <p:cNvPicPr/>
          <p:nvPr/>
        </p:nvPicPr>
        <p:blipFill>
          <a:blip r:embed="rId7"/>
          <a:stretch/>
        </p:blipFill>
        <p:spPr>
          <a:xfrm>
            <a:off x="6786720" y="27147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2" descr="Оригами машина"/>
          <p:cNvPicPr/>
          <p:nvPr/>
        </p:nvPicPr>
        <p:blipFill>
          <a:blip r:embed="rId8"/>
          <a:stretch/>
        </p:blipFill>
        <p:spPr>
          <a:xfrm>
            <a:off x="5715000" y="357192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3" descr="Оригами машина"/>
          <p:cNvPicPr/>
          <p:nvPr/>
        </p:nvPicPr>
        <p:blipFill>
          <a:blip r:embed="rId9"/>
          <a:stretch/>
        </p:blipFill>
        <p:spPr>
          <a:xfrm>
            <a:off x="6786720" y="3571920"/>
            <a:ext cx="1214280" cy="1076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4" descr="Оригами машина"/>
          <p:cNvPicPr/>
          <p:nvPr/>
        </p:nvPicPr>
        <p:blipFill>
          <a:blip r:embed="rId10"/>
          <a:stretch/>
        </p:blipFill>
        <p:spPr>
          <a:xfrm>
            <a:off x="6072120" y="4572000"/>
            <a:ext cx="1285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ши дост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42800" y="999720"/>
            <a:ext cx="58006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результате обучения дети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учились  различным приемам работы с бумаг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знают  основные геометрические понятия и базовые формы ориг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умеют следовать устным инструкциям; создавать изделия ориг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У де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высилась способность работать руками, движения пальцев стали более точными, ловкими,  мелкая   моторика  рук более разви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асширился  игровой опыт,  знания об окружающем мире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что привело к  обогащению и активизации  словаря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ечь детей стала более связной, дети свободно вступают в диалоги со взрослыми и сверст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А также могут сосредоточено, кропотливо работать под контроле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E:\волш. квадрат.jpg"/>
          <p:cNvPicPr/>
          <p:nvPr/>
        </p:nvPicPr>
        <p:blipFill>
          <a:blip r:embed="rId1"/>
          <a:stretch/>
        </p:blipFill>
        <p:spPr>
          <a:xfrm>
            <a:off x="285840" y="1000080"/>
            <a:ext cx="2857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71600" y="1928880"/>
            <a:ext cx="45147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E:\волш. квадрат.jpg"/>
          <p:cNvPicPr/>
          <p:nvPr/>
        </p:nvPicPr>
        <p:blipFill>
          <a:blip r:embed="rId1"/>
          <a:stretch/>
        </p:blipFill>
        <p:spPr>
          <a:xfrm>
            <a:off x="428760" y="1857240"/>
            <a:ext cx="3143160" cy="3500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3786120" y="2857680"/>
            <a:ext cx="4857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642960" y="642960"/>
            <a:ext cx="78580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школьный возраст – яркая, неповторимая страница в жизни ребенка. Именно в этот период устанавливается связь ребёнка с миром людей, природы, предметным миром. Происходит приобщение к культуре, к общечеловеческим ценностям. Развивается любознательность, формируется интерес к творче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Японская пословица глас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Расскажи мне – я услышу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Покажи мне – я запомню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Дай мне сделать самому –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Я пой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начение оригами для развития ребенка-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357120" y="1353600"/>
            <a:ext cx="84297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чит детей различным приемам работы с бумагой, таким, как сгибание, многократное склад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у детей у детей способность работать руками, приучает к точным движениям пальцев, совершенствует  мелкую  моторику  ру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стимулирует развитие памяти, так как ребенок, чтобы сделать поделку, должен запомнить последовательность ее изготовления, приемы и способы склады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знакомит детей с основными геометрическими понятиями: круг, квадрат, треугольник, угол, сторона, верш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формирует предметные представления: при складывании фигурок животных или растений дети учатся находить характерные особенности и детали того или иного цветка, птицы, живот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глазомер, зрительно-моторную координ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восприятие цвета, формы, разм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 абстрактное и образное мышление, пространственное вообр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аналитико-конструктивное мыш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учит ориентироваться на плоскости листа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развивает художественный вкус и творческие способности детей, активизирует их воображение и фантаз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пособствует концентрации внимания и усидчивости, так как заставляет сосредоточиться на процессе изготовления, чтобы получить желаемый 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способствует созданию игровых ситуаций, расширяет коммуникативные способности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совершен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трудовые навыки, формирует культуру труда, учит аккура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 способствует формированию добрых чувств  к близким и дает возможность выразить эти чувства, ведь оригами позволяет сделать подарок сво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 влияет на формирование самостоятельности, уверенности в себе, самооце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 позволяет детям испытать свои возможности и проявить конструктивные, изобразительные, творческие, оформительские, театральные способ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Волшебный  Квадр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599840"/>
            <a:ext cx="42098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Главный герой, «хозяин» мастерской –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Волшебный  Квадратик,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оторый знакомит детей с геометрическими свойствами квадрата, объясняет процесс изготовления поделки из бумаги.    А еще   Квадратик  прежде чем приступить к изготовлению поделки любит рассказывать сказки, читать стихи. При проявлении усталости у детей сделает  пальчиковую гимнастику, сопровождая ее стих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E:\волш. квадрат.jpg"/>
          <p:cNvPicPr/>
          <p:nvPr/>
        </p:nvPicPr>
        <p:blipFill>
          <a:blip r:embed="rId1"/>
          <a:stretch/>
        </p:blipFill>
        <p:spPr>
          <a:xfrm>
            <a:off x="500040" y="1714680"/>
            <a:ext cx="35719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Этапы работы </a:t>
            </a:r>
            <a:br>
              <a:rPr sz="11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         1. Ознакомление со свойствами бумаг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вые занятия я посвятила свободным действиям с бумагой, чтобы дать детям возможность познакомиться с её свойствами. Дети рвали бумагу и в процессе этого занятия мы узнали, что бумага бывает разной плотности, может рваться легко или более трудно. Увидели, что разрыв может быть ровным или клоч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ле этого начали работать с бумажными квадратами. Дети узнали, что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ли бумажный квадрат согнуть и загладить сгиб, то след от этого сгиба при разглаживании не исчезает, потому что бумага легко сгибается и мнёт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А также познакомились с основным правилом изготовления поделок: необходимо тщательно проглаживать сгиб, тогда поделка будет выглядеть аккуратной 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Taisiya\Рабочий стол\МОИ ПРЕЗЕНТАЦИИ\DSCN5807.jpg"/>
          <p:cNvPicPr/>
          <p:nvPr/>
        </p:nvPicPr>
        <p:blipFill>
          <a:blip r:embed="rId1"/>
          <a:stretch/>
        </p:blipFill>
        <p:spPr>
          <a:xfrm>
            <a:off x="571680" y="2928960"/>
            <a:ext cx="4093920" cy="287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D:\Фотографии\моя группа\img015.jpg"/>
          <p:cNvPicPr/>
          <p:nvPr/>
        </p:nvPicPr>
        <p:blipFill>
          <a:blip r:embed="rId2"/>
          <a:stretch/>
        </p:blipFill>
        <p:spPr>
          <a:xfrm>
            <a:off x="5219640" y="2852640"/>
            <a:ext cx="34243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57120" y="428760"/>
            <a:ext cx="84297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2. Ориентировка в пространстве на квадратном листе бума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а этом этапе дети познакомились с понятием "базовая форма" и научились их складывать. Таким образом дети «превращали»   квадрат  в «лужу», «облако», «яблоко»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трабатывалась точность движений,  Занятия проходили живо и эмоционально, в игровой форме, многократно показывая  каждый приём в разных ситуациях, объясняя его сло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85840" y="271476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Taisiya\Рабочий стол\МОИ ПРЕЗЕНТАЦИИ\DSCN5833.jpg"/>
          <p:cNvPicPr/>
          <p:nvPr/>
        </p:nvPicPr>
        <p:blipFill>
          <a:blip r:embed="rId1"/>
          <a:stretch/>
        </p:blipFill>
        <p:spPr>
          <a:xfrm>
            <a:off x="449280" y="2060640"/>
            <a:ext cx="3762360" cy="314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Taisiya\Рабочий стол\МОИ ПРЕЗЕНТАЦИИ\DSCN9519.jpg"/>
          <p:cNvPicPr/>
          <p:nvPr/>
        </p:nvPicPr>
        <p:blipFill>
          <a:blip r:embed="rId2"/>
          <a:stretch/>
        </p:blipFill>
        <p:spPr>
          <a:xfrm>
            <a:off x="4786200" y="2786040"/>
            <a:ext cx="4143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42960" y="285840"/>
            <a:ext cx="785808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3. Изготовление простых подел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а этом этапе перешли к изготовлению простейших  поделок. Складыванию каждой фигурки посвящала отдельное занятие, начинали  которое с определения мотива и цели занятия в форме загадки, стихотворения,  вопроса, бесед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ятия по обучению складыванию начинала с рассматривания образца, дальнейшего показа приемов складывания по пунктам. Затем складывание выполняли поэтапно: показ одного приема – выполнение детьми, показ второго приема – выполнение детьми и т.д. Складывание  сопровождала  пояснениями, точно определяющими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Documents and Settings\Taisiya\Рабочий стол\МОИ ПРЕЗЕНТАЦИИ\DSCN9923.jpg"/>
          <p:cNvPicPr/>
          <p:nvPr/>
        </p:nvPicPr>
        <p:blipFill>
          <a:blip r:embed="rId1"/>
          <a:stretch/>
        </p:blipFill>
        <p:spPr>
          <a:xfrm>
            <a:off x="500040" y="2357280"/>
            <a:ext cx="3786120" cy="278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Taisiya\Рабочий стол\МОИ ПРЕЗЕНТАЦИИ\DSCN9525.jpg"/>
          <p:cNvPicPr/>
          <p:nvPr/>
        </p:nvPicPr>
        <p:blipFill>
          <a:blip r:embed="rId2"/>
          <a:stretch/>
        </p:blipFill>
        <p:spPr>
          <a:xfrm>
            <a:off x="4786200" y="2357280"/>
            <a:ext cx="378648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177920" y="218160"/>
            <a:ext cx="685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 Изготовление сложных подел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28760" y="765360"/>
            <a:ext cx="8358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данном этапе для изготовления фигур требуется не только умение выполнять поделку на основе чётких ориентировок на листе (угол, сторона), но и знание промежуточных понятий, достаточная развитость глазомера (умение определять середину стороны, делать сгиб, немного не доходя до угла, края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гда дети освоили  некоторые приемы и терминологию, учила детей складывать по поэтапному словесному указанию педагога. Для того чтобы процесс изготовления поделок в стиле оригами стал для детей более доступен, я познакомила детей с пооперационной картой, работать с ней проще и интереснее. Пооперационная карта показывает последовательность создания бумажной фигурки: какую геометрическую форму надо взять, с чего начать работу, что сделать потом и т.д. Испытывая трудности на каком-то этапе, дети разворачивали заготовку на пооперационной карте и по сгибам складывали её внов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Taisiya\Рабочий стол\МОИ ПРЕЗЕНТАЦИИ\DSCN6004.jpg"/>
          <p:cNvPicPr/>
          <p:nvPr/>
        </p:nvPicPr>
        <p:blipFill>
          <a:blip r:embed="rId1"/>
          <a:stretch/>
        </p:blipFill>
        <p:spPr>
          <a:xfrm>
            <a:off x="357120" y="3000240"/>
            <a:ext cx="4000680" cy="27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Taisiya\Рабочий стол\МОИ ПРЕЗЕНТАЦИИ\DSCN9260.jpg"/>
          <p:cNvPicPr/>
          <p:nvPr/>
        </p:nvPicPr>
        <p:blipFill>
          <a:blip r:embed="rId2"/>
          <a:stretch/>
        </p:blipFill>
        <p:spPr>
          <a:xfrm>
            <a:off x="4929120" y="300024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исия Александровна</cp:lastModifiedBy>
  <dcterms:modified xsi:type="dcterms:W3CDTF">2015-01-22T19:31:31Z</dcterms:modified>
  <cp:revision>20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3004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