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2F871-2D23-4E61-BD11-960F45E33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D906-6B6E-48D5-8C53-AE9C32B9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E0AC8-F837-4DCA-9251-B761B860B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1A340-801D-4557-8F17-70B4E9896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4CA93-597A-46C3-8394-DFE55FBD5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AA539-F5A7-4975-AFF9-EAE0BF606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3B2FB-35CA-4F27-86F8-E9CDA697F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F22FF-E007-45B4-AE56-AF28AD703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9E269-37A0-4234-8039-678DD673E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28755-328F-4274-A620-477206303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D1EC-BB43-49C4-AE6D-84D71E4CE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B7DA-6649-4A71-995A-44E6A0A8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7E62-A579-4F33-BC05-2FD727E56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DAEDB-12FA-4D84-BED3-7B6677F8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142AF-C71D-4DF3-B56F-3CE97BB2D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52B15-3EB3-4871-8F6C-226A97680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6AE08-02E8-48BD-B815-0397FA27B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8A3B-19AF-47FA-AA8C-F26FA071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4918-1D58-4BAF-969A-A808FD36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77E2-B4AC-4955-94DA-CEECD9D69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FFB66-7BD8-44F3-8447-1B208F67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DDBA-B90D-4EC4-A1A2-52B4FBBDF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4038A-B0AE-4A30-89FC-E423D8A0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4F6E-F2C2-41F2-9B6F-56BCD100A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B851-6FC3-4082-B265-5A23334074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F1DC-4759-4C1E-9BBB-8EFCFB67F1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147024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story of my village.</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187280" y="1484280"/>
            <a:ext cx="6624720" cy="496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86800" y="-4124160"/>
            <a:ext cx="277920" cy="886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0039"/>
              </a:solidFill>
              <a:latin typeface="Arial"/>
            </a:endParaRPr>
          </a:p>
        </p:txBody>
      </p:sp>
      <p:sp>
        <p:nvSpPr>
          <p:cNvPr id="9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ve in the village Zvonarёvka Russia.9 in July 1766 on the meadow side of the Volga (Wiesenseite) was created by the German colony "Stahl at Karaman." The first settlers were from southern Germany. Meadow with rich vegetation near the river settlers used for grazing. Later, settlers began to grow potatoes, sunflowers and even watermelons, getting high yields. Houses settlers were wooden.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686800" y="-2905560"/>
            <a:ext cx="457200" cy="643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0039"/>
              </a:solidFill>
              <a:latin typeface="Arial"/>
            </a:endParaRPr>
          </a:p>
        </p:txBody>
      </p:sp>
      <p:sp>
        <p:nvSpPr>
          <p:cNvPr id="92"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a Stahl officially belonged Krasnoyarsk circle Novouzensk County Samara province. February 26, 1768 a decree was issued are obliged to adopt all the German colonies of Russian names - so Stahl was officially named Zvonarev Kut. Initially colony Stahl was one church with a colony of Rosenheim, where they were Protestant and Lutheran churches, later appeared in the colony's own church.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86800" y="-4116960"/>
            <a:ext cx="277920" cy="886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0039"/>
              </a:solidFill>
              <a:latin typeface="Arial"/>
            </a:endParaRPr>
          </a:p>
        </p:txBody>
      </p:sp>
      <p:sp>
        <p:nvSpPr>
          <p:cNvPr id="94"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sts were a barn, stables, vegetable gardens, many of the colonists were also personal and gardens. In the colony had two schools - one public and one church. One of the teachers in the colony was Johann Georg Mehring, who lived in the colony from October 1775 to February 1781 and wrote his memoirs about immigration in Russia and the first years of his life on the Volga. It is also known that colonies was 8 windmills.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48360" y="-4050360"/>
            <a:ext cx="165240" cy="886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0039"/>
              </a:solidFill>
              <a:latin typeface="Arial"/>
            </a:endParaRPr>
          </a:p>
        </p:txBody>
      </p:sp>
      <p:sp>
        <p:nvSpPr>
          <p:cNvPr id="96"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98, the colony was a blacksmith, two shoemaker, weaver, hatter and two mason. With the creation of the Volga German Autonomous Soviet Socialist Republic and the Republic of division into cantons, the village returned to its old name back. Until 1941, the colony belonged to Krasnoyarsk Canton, and after removal of the Volga German ASSR, deportation and persecution of the German population - to Marksovsky District of Saratov reg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28600"/>
            <a:ext cx="8154720" cy="586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c0039"/>
                </a:solidFill>
                <a:latin typeface="Arial"/>
              </a:rPr>
              <a:t>Thank you for your attention.</a:t>
            </a:r>
            <a:endParaRPr b="0" lang="en-US" sz="8800" spc="-1" strike="noStrike">
              <a:solidFill>
                <a:srgbClr val="8c0039"/>
              </a:solidFill>
              <a:latin typeface="Arial"/>
            </a:endParaRPr>
          </a:p>
        </p:txBody>
      </p:sp>
      <p:sp>
        <p:nvSpPr>
          <p:cNvPr id="98" name="PlaceHolder 2"/>
          <p:cNvSpPr>
            <a:spLocks noGrp="1"/>
          </p:cNvSpPr>
          <p:nvPr>
            <p:ph/>
          </p:nvPr>
        </p:nvSpPr>
        <p:spPr>
          <a:xfrm>
            <a:off x="8748360" y="6021000"/>
            <a:ext cx="90360" cy="74520"/>
          </a:xfrm>
          <a:prstGeom prst="rect">
            <a:avLst/>
          </a:prstGeom>
          <a:noFill/>
          <a:ln w="0">
            <a:noFill/>
          </a:ln>
        </p:spPr>
        <p:txBody>
          <a:bodyPr lIns="90000" rIns="90000" tIns="27720" bIns="277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0T17:51:12Z</dcterms:created>
  <dc:creator>Я</dc:creator>
  <dc:description/>
  <dc:language>en-US</dc:language>
  <cp:lastModifiedBy>Я</cp:lastModifiedBy>
  <dcterms:modified xsi:type="dcterms:W3CDTF">2014-11-10T17:57:19Z</dcterms:modified>
  <cp:revision>2</cp:revision>
  <dc:subject/>
  <dc:title>The story of my village.</dc:title>
</cp:coreProperties>
</file>