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55CA-B914-4222-BCB5-15E89D6754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.Суриков. Взятие снежного горо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BFD-DE86-4939-AFF2-3C5A8251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AEF-A598-4FF6-B3B9-E2F46F2E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57F-6406-452A-891A-258B7A00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AC9-E72B-4FE3-AD5A-014AFF3D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84D85-BECF-47DF-BC87-FA5FA8AC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4FD5E-C6DC-4245-AFE1-DDC908CA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6D717-19FE-4FCD-859A-201E9EF3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7BB69-AEBC-4385-A2A2-0CE92C15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596A5-A2BC-4FAF-A823-B55F7199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4CC41-7E77-4602-AE54-3EF6EE9B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4AF98-DAE2-42C1-BC57-FF7FC017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1CF-F320-4493-959A-9D0A4BEA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CA238-56DF-423E-A730-E878D54C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E583D-79CC-4307-9F3A-70F1D444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13A76-CB59-46A4-B505-2A8F0494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4DD98-0BA2-4AE7-9CC6-757F23E4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7F176-9198-4866-84E5-C63A2D76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891F8-9EFA-459E-9783-23AB35F9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285D3-0F0F-41D7-95DA-14B1F143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16565-5F55-4FFB-8940-A1B56AE1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B4228-349B-4463-B502-A3E08DC3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1ED87-5B78-4D09-B81F-5F8E70B3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191-C46D-44B3-8E2B-26E43DF0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6343A-D70B-4F6D-8379-3B214C2B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19248-02FB-4AD2-934D-ADAA4491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DA3C4-9949-4750-A391-D9708D88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C5659-A237-486A-8D43-1957E62B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86F53-279E-4B77-A516-C74449E1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81FB1-5C24-4925-9C54-4ED804F1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34B47-E94C-4643-9668-2373B3D5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8D4-A092-4CEC-B792-472125A0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340-994C-4990-BDC3-00BE22CC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8091-F661-4CEB-B565-38AF90AA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FD6-092E-4BC7-9026-A13E0309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BF6-6EA4-47E2-AEEC-0C04D1A5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536-6BB9-4216-8DC0-AB369B52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56F0-8FE2-4816-810D-1BD858167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DEDE-47BA-4707-9710-E9A9E81A8E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8290-E28B-4004-AF21-BF4B2E41A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yclowiki.org/w/index.php?title=&#1055;&#1105;&#1090;&#1088;_&#1055;&#1077;&#1090;&#1088;&#1086;&#1074;&#1080;&#1095;_&#1050;&#1086;&#1085;&#1095;&#1072;&#1083;&#1086;&#1074;&#1089;&#1082;&#1080;&#1081;_(&#1086;&#1090;&#1077;&#1094;)&amp;action=edit&amp;redlink=1" TargetMode="External"/><Relationship Id="rId2" Type="http://schemas.openxmlformats.org/officeDocument/2006/relationships/hyperlink" Target="http://cyclowiki.org/w/index.php?title=&#1055;&#1105;&#1090;&#1088;_&#1055;&#1077;&#1090;&#1088;&#1086;&#1074;&#1080;&#1095;_&#1050;&#1086;&#1085;&#1095;&#1072;&#1083;&#1086;&#1074;&#1089;&#1082;&#1080;&#1081;_(&#1086;&#1090;&#1077;&#1094;)&amp;action=edit&amp;redlink=1" TargetMode="External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BDfont"/>
              </a:rPr>
              <a:t>Урок по развитию речи на тему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хаил Юрьевич Лермо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876400" y="1981080"/>
            <a:ext cx="3389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создания этой картины началась с того, что к 50-летию смерти М. Ю. Лермонтова (к 1891 г.) петербургским издателем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П. П. 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ончаловск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готовилось иллюстрированное собрание сочинений великого поэта. Для создания иллюстраций издатель пригласил художников: Врубеля, Серова, Васнецова, Поленова, Шишк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 И. Шишкин (1832—1898) оформлял два стихотворения — «На севере диком…» и «Родина». Эта работа настолько заинтересовала художника, настолько вошла в нутро —  особенно работа над стихотворением «На севере диком…», что он решил создать полотно, написанное маслом, где была бы изображена одинокая зимняя сос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кст-описание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ланы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Цве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Звуко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Зр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Эмоцион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Ваши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внимательно рассмотреть заполненную таблицу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сравнить со своими наблюдениями за природ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составить план опис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Написать сочинение использу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е, эмоционально окрашенные слова, олицетворение, звукопись, цветопись, однородные члены предложения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ую речь развив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годня вы были читателями, слушателями, авто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Какая роль вам больше понравила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помог вам увидеть красоту зимней прир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6" descr="чайковский.jpg"/>
          <p:cNvPicPr/>
          <p:nvPr/>
        </p:nvPicPr>
        <p:blipFill>
          <a:blip r:embed="rId1"/>
          <a:stretch/>
        </p:blipFill>
        <p:spPr>
          <a:xfrm>
            <a:off x="468360" y="620640"/>
            <a:ext cx="1492200" cy="1994040"/>
          </a:xfrm>
          <a:prstGeom prst="rect">
            <a:avLst/>
          </a:prstGeom>
          <a:ln w="0">
            <a:noFill/>
          </a:ln>
        </p:spPr>
      </p:pic>
      <p:sp>
        <p:nvSpPr>
          <p:cNvPr id="156" name="Заголовок 1"/>
          <p:cNvSpPr/>
          <p:nvPr/>
        </p:nvSpPr>
        <p:spPr>
          <a:xfrm>
            <a:off x="2050920" y="333360"/>
            <a:ext cx="68565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лодия компози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5"/>
          <p:cNvSpPr/>
          <p:nvPr/>
        </p:nvSpPr>
        <p:spPr>
          <a:xfrm>
            <a:off x="2627280" y="1557360"/>
            <a:ext cx="6994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етр Ильич Чайковский «Зи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723240" y="321480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ри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6105960" y="2500200"/>
            <a:ext cx="21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1"/>
          <p:cNvSpPr/>
          <p:nvPr/>
        </p:nvSpPr>
        <p:spPr>
          <a:xfrm>
            <a:off x="866880" y="4344840"/>
            <a:ext cx="21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дос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2"/>
          <p:cNvSpPr/>
          <p:nvPr/>
        </p:nvSpPr>
        <p:spPr>
          <a:xfrm>
            <a:off x="3363120" y="3000240"/>
            <a:ext cx="22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вож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6218280" y="471492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лшеб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6"/>
          <p:cNvSpPr/>
          <p:nvPr/>
        </p:nvSpPr>
        <p:spPr>
          <a:xfrm>
            <a:off x="5941440" y="3571920"/>
            <a:ext cx="213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кой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3630240" y="5643720"/>
            <a:ext cx="17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ра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5"/>
          <p:cNvSpPr/>
          <p:nvPr/>
        </p:nvSpPr>
        <p:spPr>
          <a:xfrm>
            <a:off x="1365120" y="548784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3863160" y="4500720"/>
            <a:ext cx="15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ж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8"/>
          <p:cNvSpPr/>
          <p:nvPr/>
        </p:nvSpPr>
        <p:spPr>
          <a:xfrm>
            <a:off x="6443640" y="6021360"/>
            <a:ext cx="18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с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онстантин Георгиевич  Паустовск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Я уверен, что для полного овладения русским языком необходимо общение с родными лесами, водами, старыми  ивами, пересвистом птиц и с каждым цветком, что кивает головкой из-под куста..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: «Зима в лес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ван Иванович Шишкин (1832-1898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3743280" cy="479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025800" cy="424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635280" y="2492280"/>
            <a:ext cx="2809800" cy="3600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. Шишкин. На Севере дико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0" y="6092640"/>
            <a:ext cx="9237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.Шишкин. И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588000" y="836640"/>
            <a:ext cx="2367000" cy="273672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3635280" y="2492280"/>
            <a:ext cx="280980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00200" y="1335240"/>
            <a:ext cx="66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7360" y="836640"/>
            <a:ext cx="857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йчас в этом бору тишина и спокойствие и только занесё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егом упавшие вершины напоминают о том, что была страш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ря, и сила ветра победила силу лесных велика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8569440" cy="49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Палитра худож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24000" y="1980720"/>
            <a:ext cx="476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то-белый, белый, мол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луб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зур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ёр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9280" y="2133720"/>
            <a:ext cx="64908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2852640"/>
            <a:ext cx="64908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59280" y="3716280"/>
            <a:ext cx="6490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4221000"/>
            <a:ext cx="649080" cy="360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32000" y="5013360"/>
            <a:ext cx="64944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095640" cy="35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345440" cy="62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6:29:42Z</dcterms:created>
  <dc:creator>Sergey</dc:creator>
  <dc:description/>
  <dc:language>en-US</dc:language>
  <cp:lastModifiedBy>Ольга</cp:lastModifiedBy>
  <dcterms:modified xsi:type="dcterms:W3CDTF">2014-12-18T17:36:39Z</dcterms:modified>
  <cp:revision>10</cp:revision>
  <dc:subject/>
  <dc:title>Слайд 1</dc:title>
</cp:coreProperties>
</file>