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2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3.wmf" ContentType="image/x-wmf"/>
  <Override PartName="/ppt/media/image25.gif" ContentType="image/gif"/>
  <Override PartName="/ppt/media/image5.gif" ContentType="image/gif"/>
  <Override PartName="/ppt/media/image12.wmf" ContentType="image/x-wmf"/>
  <Override PartName="/ppt/media/image24.gif" ContentType="image/gif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14.wmf" ContentType="image/x-wmf"/>
  <Override PartName="/ppt/media/image3.gif" ContentType="image/gif"/>
  <Override PartName="/ppt/media/image26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6C4-BDFF-439E-A7F3-26DC440A38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A5BB-A09E-4E77-92F4-1744A8BFB2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091-196A-4008-BEC0-A8E9F33D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9DE-7D39-48A2-A7DF-CD310921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49C-EA9C-4C38-BBA4-E9647DA9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401-023C-46C2-87A4-58C6DD10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640-FD8C-4BA6-995E-AAA9B3B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43E-0E58-457B-A8A1-34F14A8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ACF-F8EC-46F8-A029-CF111DD1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872-5240-43E8-8AB2-491F6D7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090-A97C-452A-8E42-26D7BC9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BF9-7E52-472C-894B-7C267A1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1DC-E60F-45A4-ADE4-6CCC74E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DF8-486C-4E6A-9D1D-DB52B206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14B6-4D0C-4CAD-8A85-F7CAA24F4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7" descr="презент2"/>
          <p:cNvPicPr/>
          <p:nvPr/>
        </p:nvPicPr>
        <p:blipFill>
          <a:blip r:embed="rId1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6"/>
          <p:cNvSpPr/>
          <p:nvPr/>
        </p:nvSpPr>
        <p:spPr>
          <a:xfrm>
            <a:off x="4584600" y="0"/>
            <a:ext cx="4572000" cy="2819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4572000" y="2819520"/>
            <a:ext cx="45720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2819520"/>
            <a:ext cx="4572000" cy="40384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762120" y="533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4" name="Line 2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2871720"/>
            <a:ext cx="53816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2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82" name="Rectangle 1027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Отбор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83" name="Rectangle 1029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84" name="Rectangle 1030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85" name="Text Box 1031"/>
          <p:cNvSpPr/>
          <p:nvPr/>
        </p:nvSpPr>
        <p:spPr>
          <a:xfrm>
            <a:off x="1219320" y="1447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ntique Olive"/>
              </a:rPr>
              <a:t>ПЕРВЫЙ ЭТАП ОТБОРА</a:t>
            </a:r>
            <a:endParaRPr b="1" lang="en-US" sz="3200" spc="-1" strike="noStrike">
              <a:solidFill>
                <a:srgbClr val="000000"/>
              </a:solidFill>
              <a:latin typeface="Antique Olive"/>
            </a:endParaRPr>
          </a:p>
        </p:txBody>
      </p:sp>
      <p:graphicFrame>
        <p:nvGraphicFramePr>
          <p:cNvPr id="186" name="Object 1032"/>
          <p:cNvGraphicFramePr/>
          <p:nvPr/>
        </p:nvGraphicFramePr>
        <p:xfrm>
          <a:off x="152280" y="228600"/>
          <a:ext cx="609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09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1037"/>
          <p:cNvSpPr/>
          <p:nvPr/>
        </p:nvSpPr>
        <p:spPr>
          <a:xfrm>
            <a:off x="1219320" y="2575080"/>
            <a:ext cx="6933960" cy="474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Резюме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89" name="Text Box 1038"/>
          <p:cNvSpPr/>
          <p:nvPr/>
        </p:nvSpPr>
        <p:spPr>
          <a:xfrm>
            <a:off x="1219320" y="3654360"/>
            <a:ext cx="7238880" cy="474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Анкета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90" name="Text Box 1039"/>
          <p:cNvSpPr/>
          <p:nvPr/>
        </p:nvSpPr>
        <p:spPr>
          <a:xfrm>
            <a:off x="1219320" y="4735440"/>
            <a:ext cx="7162560" cy="474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Телефонные звонки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191" name="Picture 1041" descr="J0076168"/>
          <p:cNvPicPr/>
          <p:nvPr/>
        </p:nvPicPr>
        <p:blipFill>
          <a:blip r:embed="rId3"/>
          <a:stretch/>
        </p:blipFill>
        <p:spPr>
          <a:xfrm>
            <a:off x="136440" y="2438280"/>
            <a:ext cx="1235160" cy="66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42" descr="AG00013_"/>
          <p:cNvPicPr/>
          <p:nvPr/>
        </p:nvPicPr>
        <p:blipFill>
          <a:blip r:embed="rId4"/>
          <a:stretch/>
        </p:blipFill>
        <p:spPr>
          <a:xfrm>
            <a:off x="152280" y="3554280"/>
            <a:ext cx="685800" cy="57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43" descr="AG00468_"/>
          <p:cNvPicPr/>
          <p:nvPr/>
        </p:nvPicPr>
        <p:blipFill>
          <a:blip r:embed="rId5"/>
          <a:stretch/>
        </p:blipFill>
        <p:spPr>
          <a:xfrm>
            <a:off x="76320" y="4583160"/>
            <a:ext cx="7617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Отбор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219320" y="1447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ntique Olive"/>
              </a:rPr>
              <a:t>ВТОРОЙ ЭТАП ОТБОРА</a:t>
            </a:r>
            <a:endParaRPr b="1" lang="en-US" sz="3200" spc="-1" strike="noStrike">
              <a:solidFill>
                <a:srgbClr val="000000"/>
              </a:solidFill>
              <a:latin typeface="Antique Olive"/>
            </a:endParaRPr>
          </a:p>
        </p:txBody>
      </p:sp>
      <p:graphicFrame>
        <p:nvGraphicFramePr>
          <p:cNvPr id="199" name="Object 8"/>
          <p:cNvGraphicFramePr/>
          <p:nvPr/>
        </p:nvGraphicFramePr>
        <p:xfrm>
          <a:off x="200160" y="281160"/>
          <a:ext cx="550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81160"/>
                    <a:ext cx="550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9"/>
          <p:cNvSpPr/>
          <p:nvPr/>
        </p:nvSpPr>
        <p:spPr>
          <a:xfrm>
            <a:off x="1371600" y="2575080"/>
            <a:ext cx="693432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Индивидуальное интервью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71600" y="4352760"/>
            <a:ext cx="693432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Тест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371600" y="3463920"/>
            <a:ext cx="693432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Групповое интервью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371600" y="5241960"/>
            <a:ext cx="693432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Практическое задание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205" name="Picture 13" descr="AG00039_"/>
          <p:cNvPicPr/>
          <p:nvPr/>
        </p:nvPicPr>
        <p:blipFill>
          <a:blip r:embed="rId3"/>
          <a:stretch/>
        </p:blipFill>
        <p:spPr>
          <a:xfrm>
            <a:off x="152280" y="2590920"/>
            <a:ext cx="681120" cy="382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AG00019_"/>
          <p:cNvPicPr/>
          <p:nvPr/>
        </p:nvPicPr>
        <p:blipFill>
          <a:blip r:embed="rId4"/>
          <a:stretch/>
        </p:blipFill>
        <p:spPr>
          <a:xfrm>
            <a:off x="152280" y="4154400"/>
            <a:ext cx="698760" cy="646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AG00023_"/>
          <p:cNvPicPr/>
          <p:nvPr/>
        </p:nvPicPr>
        <p:blipFill>
          <a:blip r:embed="rId5"/>
          <a:stretch/>
        </p:blipFill>
        <p:spPr>
          <a:xfrm>
            <a:off x="228600" y="4952880"/>
            <a:ext cx="541440" cy="83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AG00436_"/>
          <p:cNvPicPr/>
          <p:nvPr/>
        </p:nvPicPr>
        <p:blipFill>
          <a:blip r:embed="rId6"/>
          <a:stretch/>
        </p:blipFill>
        <p:spPr>
          <a:xfrm>
            <a:off x="76320" y="3276720"/>
            <a:ext cx="838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Отбор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219320" y="1447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ntique Olive"/>
              </a:rPr>
              <a:t>ТРЕТИЙ ЭТАП ОТБОРА</a:t>
            </a:r>
            <a:endParaRPr b="1" lang="en-US" sz="3200" spc="-1" strike="noStrike">
              <a:solidFill>
                <a:srgbClr val="000000"/>
              </a:solidFill>
              <a:latin typeface="Antique Olive"/>
            </a:endParaRPr>
          </a:p>
        </p:txBody>
      </p:sp>
      <p:graphicFrame>
        <p:nvGraphicFramePr>
          <p:cNvPr id="214" name="Object 8"/>
          <p:cNvGraphicFramePr/>
          <p:nvPr/>
        </p:nvGraphicFramePr>
        <p:xfrm>
          <a:off x="184320" y="214200"/>
          <a:ext cx="5666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214200"/>
                    <a:ext cx="566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9"/>
          <p:cNvSpPr/>
          <p:nvPr/>
        </p:nvSpPr>
        <p:spPr>
          <a:xfrm>
            <a:off x="1295280" y="2575080"/>
            <a:ext cx="693432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Углубленное интервью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295280" y="3494160"/>
            <a:ext cx="762012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Собеседование с вышестоящим руководителем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295280" y="4413240"/>
            <a:ext cx="693432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Индивидуальное практическое задание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219" name="Picture 17" descr="AG00188_"/>
          <p:cNvPicPr/>
          <p:nvPr/>
        </p:nvPicPr>
        <p:blipFill>
          <a:blip r:embed="rId3"/>
          <a:stretch/>
        </p:blipFill>
        <p:spPr>
          <a:xfrm>
            <a:off x="0" y="4032360"/>
            <a:ext cx="1143000" cy="1073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AG00334_"/>
          <p:cNvPicPr/>
          <p:nvPr/>
        </p:nvPicPr>
        <p:blipFill>
          <a:blip r:embed="rId4"/>
          <a:stretch/>
        </p:blipFill>
        <p:spPr>
          <a:xfrm>
            <a:off x="152280" y="2514600"/>
            <a:ext cx="627120" cy="571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AG00419_"/>
          <p:cNvPicPr/>
          <p:nvPr/>
        </p:nvPicPr>
        <p:blipFill>
          <a:blip r:embed="rId5"/>
          <a:stretch/>
        </p:blipFill>
        <p:spPr>
          <a:xfrm>
            <a:off x="152280" y="3276720"/>
            <a:ext cx="981360" cy="73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2"/>
          <p:cNvSpPr/>
          <p:nvPr/>
        </p:nvSpPr>
        <p:spPr>
          <a:xfrm>
            <a:off x="1295280" y="5334120"/>
            <a:ext cx="693432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Деловая игра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223" name="Picture 23" descr="AG00583_"/>
          <p:cNvPicPr/>
          <p:nvPr/>
        </p:nvPicPr>
        <p:blipFill>
          <a:blip r:embed="rId6"/>
          <a:stretch/>
        </p:blipFill>
        <p:spPr>
          <a:xfrm>
            <a:off x="76320" y="5322960"/>
            <a:ext cx="761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52480" y="1447920"/>
            <a:ext cx="2514600" cy="855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ВВЕДЕНИЕ В ДОЛЖНОСТЬ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486400" y="1447920"/>
            <a:ext cx="2971800" cy="855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ОЦЕНКА СООТВЕТСТВ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157560" y="3878280"/>
            <a:ext cx="387036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Курс ориентации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3157560" y="4597560"/>
            <a:ext cx="3849840" cy="85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Программа испытательного срока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2438280" y="4656240"/>
            <a:ext cx="457200" cy="830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33" name="Group 27"/>
          <p:cNvGrpSpPr/>
          <p:nvPr/>
        </p:nvGrpSpPr>
        <p:grpSpPr>
          <a:xfrm>
            <a:off x="1828800" y="3902040"/>
            <a:ext cx="1066320" cy="457200"/>
            <a:chOff x="1828800" y="3902040"/>
            <a:chExt cx="1066320" cy="457200"/>
          </a:xfrm>
        </p:grpSpPr>
        <p:sp>
          <p:nvSpPr>
            <p:cNvPr id="234" name="Rectangle 16"/>
            <p:cNvSpPr/>
            <p:nvPr/>
          </p:nvSpPr>
          <p:spPr>
            <a:xfrm>
              <a:off x="2438280" y="3902040"/>
              <a:ext cx="45684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1828800" y="3902040"/>
              <a:ext cx="45684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grpSp>
        <p:nvGrpSpPr>
          <p:cNvPr id="236" name="Group 28"/>
          <p:cNvGrpSpPr/>
          <p:nvPr/>
        </p:nvGrpSpPr>
        <p:grpSpPr>
          <a:xfrm>
            <a:off x="7315200" y="3902040"/>
            <a:ext cx="1143000" cy="457200"/>
            <a:chOff x="7315200" y="3902040"/>
            <a:chExt cx="1143000" cy="457200"/>
          </a:xfrm>
        </p:grpSpPr>
        <p:sp>
          <p:nvSpPr>
            <p:cNvPr id="237" name="Rectangle 19"/>
            <p:cNvSpPr/>
            <p:nvPr/>
          </p:nvSpPr>
          <p:spPr>
            <a:xfrm>
              <a:off x="8001000" y="3902040"/>
              <a:ext cx="4572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38" name="Rectangle 20"/>
            <p:cNvSpPr/>
            <p:nvPr/>
          </p:nvSpPr>
          <p:spPr>
            <a:xfrm>
              <a:off x="7315200" y="3902040"/>
              <a:ext cx="4572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239" name="Rectangle 21"/>
          <p:cNvSpPr/>
          <p:nvPr/>
        </p:nvSpPr>
        <p:spPr>
          <a:xfrm>
            <a:off x="7315200" y="4648320"/>
            <a:ext cx="457200" cy="830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657600" y="2498760"/>
            <a:ext cx="2738520" cy="855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ПРИОБЩЕНИЕ К КУЛЬТУРЕ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41" name="Group 36"/>
          <p:cNvGrpSpPr/>
          <p:nvPr/>
        </p:nvGrpSpPr>
        <p:grpSpPr>
          <a:xfrm>
            <a:off x="1739880" y="2301840"/>
            <a:ext cx="6718320" cy="1584360"/>
            <a:chOff x="1739880" y="2301840"/>
            <a:chExt cx="6718320" cy="1584360"/>
          </a:xfrm>
        </p:grpSpPr>
        <p:cxnSp>
          <p:nvCxnSpPr>
            <p:cNvPr id="242" name="AutoShape 10"/>
            <p:cNvCxnSpPr/>
            <p:nvPr/>
          </p:nvCxnSpPr>
          <p:spPr>
            <a:xfrm rot="5400000">
              <a:off x="6981840" y="2383560"/>
              <a:ext cx="1535760" cy="141660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43" name="Line 22"/>
            <p:cNvSpPr/>
            <p:nvPr/>
          </p:nvSpPr>
          <p:spPr>
            <a:xfrm>
              <a:off x="3159000" y="3876480"/>
              <a:ext cx="385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cxnSp>
          <p:nvCxnSpPr>
            <p:cNvPr id="244" name="AutoShape 9"/>
            <p:cNvCxnSpPr/>
            <p:nvPr/>
          </p:nvCxnSpPr>
          <p:spPr>
            <a:xfrm flipH="1" rot="16200000">
              <a:off x="1676160" y="2380680"/>
              <a:ext cx="1562760" cy="141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45" name="Line 23"/>
            <p:cNvSpPr/>
            <p:nvPr/>
          </p:nvSpPr>
          <p:spPr>
            <a:xfrm>
              <a:off x="1739880" y="23018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5486400" y="2303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502920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48" name="Line 35"/>
            <p:cNvSpPr/>
            <p:nvPr/>
          </p:nvSpPr>
          <p:spPr>
            <a:xfrm>
              <a:off x="3657600" y="3352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249" name="Text Box 37"/>
          <p:cNvSpPr/>
          <p:nvPr/>
        </p:nvSpPr>
        <p:spPr>
          <a:xfrm>
            <a:off x="3157560" y="5699160"/>
            <a:ext cx="3849840" cy="474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Оценка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52480" y="1523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КУРС ОРИЕНТАЦИИ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380880" y="2209680"/>
            <a:ext cx="1067040" cy="457200"/>
            <a:chOff x="380880" y="2209680"/>
            <a:chExt cx="1067040" cy="457200"/>
          </a:xfrm>
        </p:grpSpPr>
        <p:sp>
          <p:nvSpPr>
            <p:cNvPr id="256" name="Rectangle 9"/>
            <p:cNvSpPr/>
            <p:nvPr/>
          </p:nvSpPr>
          <p:spPr>
            <a:xfrm>
              <a:off x="990720" y="2209680"/>
              <a:ext cx="4572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380880" y="2209680"/>
              <a:ext cx="4572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258" name="Text Box 11"/>
          <p:cNvSpPr/>
          <p:nvPr/>
        </p:nvSpPr>
        <p:spPr>
          <a:xfrm>
            <a:off x="1752480" y="2209680"/>
            <a:ext cx="7086600" cy="474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Информация</a:t>
            </a:r>
            <a:r>
              <a:rPr b="0" i="1" lang="en-US" sz="2500" spc="-1" strike="noStrike">
                <a:solidFill>
                  <a:srgbClr val="000000"/>
                </a:solidFill>
                <a:latin typeface="Antique Olive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подразделен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752480" y="4114800"/>
            <a:ext cx="7086600" cy="474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Знакомство с подразделением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60" name="Group 13"/>
          <p:cNvGrpSpPr/>
          <p:nvPr/>
        </p:nvGrpSpPr>
        <p:grpSpPr>
          <a:xfrm>
            <a:off x="380880" y="4114800"/>
            <a:ext cx="1067040" cy="457200"/>
            <a:chOff x="380880" y="4114800"/>
            <a:chExt cx="1067040" cy="457200"/>
          </a:xfrm>
        </p:grpSpPr>
        <p:sp>
          <p:nvSpPr>
            <p:cNvPr id="261" name="Rectangle 14"/>
            <p:cNvSpPr/>
            <p:nvPr/>
          </p:nvSpPr>
          <p:spPr>
            <a:xfrm>
              <a:off x="990720" y="4114800"/>
              <a:ext cx="4572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380880" y="4114800"/>
              <a:ext cx="4572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263" name="Text Box 17"/>
          <p:cNvSpPr/>
          <p:nvPr/>
        </p:nvSpPr>
        <p:spPr>
          <a:xfrm>
            <a:off x="1752480" y="2819520"/>
            <a:ext cx="6477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миссия, ценности, цели, основные направления развития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продукты и услуги компании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история развития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752480" y="4800600"/>
            <a:ext cx="70866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рабочее место, коллеги, наставник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цели и задачи подразделения в рамках общей стратегии организации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должностные обязанности, материальное поощрение, перспективы должности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график работы, дисциплинарные рамки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требования к охране труда и технике безопасности на рабочем месте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380880" y="2590920"/>
            <a:ext cx="1067040" cy="457200"/>
            <a:chOff x="380880" y="2590920"/>
            <a:chExt cx="1067040" cy="457200"/>
          </a:xfrm>
        </p:grpSpPr>
        <p:sp>
          <p:nvSpPr>
            <p:cNvPr id="270" name="Rectangle 9"/>
            <p:cNvSpPr/>
            <p:nvPr/>
          </p:nvSpPr>
          <p:spPr>
            <a:xfrm>
              <a:off x="990720" y="259092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380880" y="259092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272" name="Text Box 12"/>
          <p:cNvSpPr/>
          <p:nvPr/>
        </p:nvSpPr>
        <p:spPr>
          <a:xfrm>
            <a:off x="1752480" y="2590920"/>
            <a:ext cx="701064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Что сотрудник должен знать (уметь)?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1752480" y="16606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ПРОГРАММА ИСПЫТАТЕЛЬНОГО СРОКА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1752480" y="3376440"/>
            <a:ext cx="701064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Как он сможет это узнать (научиться)?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1752480" y="4164120"/>
            <a:ext cx="701064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К какому сроку должен узнать (научиться?)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1752480" y="4951440"/>
            <a:ext cx="701064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Кто будет оценивать?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77" name="Group 19"/>
          <p:cNvGrpSpPr/>
          <p:nvPr/>
        </p:nvGrpSpPr>
        <p:grpSpPr>
          <a:xfrm>
            <a:off x="380880" y="3352680"/>
            <a:ext cx="1067040" cy="457200"/>
            <a:chOff x="380880" y="3352680"/>
            <a:chExt cx="1067040" cy="457200"/>
          </a:xfrm>
        </p:grpSpPr>
        <p:sp>
          <p:nvSpPr>
            <p:cNvPr id="278" name="Rectangle 20"/>
            <p:cNvSpPr/>
            <p:nvPr/>
          </p:nvSpPr>
          <p:spPr>
            <a:xfrm>
              <a:off x="990720" y="335268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79" name="Rectangle 21"/>
            <p:cNvSpPr/>
            <p:nvPr/>
          </p:nvSpPr>
          <p:spPr>
            <a:xfrm>
              <a:off x="380880" y="335268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grpSp>
        <p:nvGrpSpPr>
          <p:cNvPr id="280" name="Group 22"/>
          <p:cNvGrpSpPr/>
          <p:nvPr/>
        </p:nvGrpSpPr>
        <p:grpSpPr>
          <a:xfrm>
            <a:off x="380880" y="4191120"/>
            <a:ext cx="1067040" cy="457200"/>
            <a:chOff x="380880" y="4191120"/>
            <a:chExt cx="1067040" cy="457200"/>
          </a:xfrm>
        </p:grpSpPr>
        <p:sp>
          <p:nvSpPr>
            <p:cNvPr id="281" name="Rectangle 23"/>
            <p:cNvSpPr/>
            <p:nvPr/>
          </p:nvSpPr>
          <p:spPr>
            <a:xfrm>
              <a:off x="990720" y="419112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82" name="Rectangle 24"/>
            <p:cNvSpPr/>
            <p:nvPr/>
          </p:nvSpPr>
          <p:spPr>
            <a:xfrm>
              <a:off x="380880" y="419112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grpSp>
        <p:nvGrpSpPr>
          <p:cNvPr id="283" name="Group 25"/>
          <p:cNvGrpSpPr/>
          <p:nvPr/>
        </p:nvGrpSpPr>
        <p:grpSpPr>
          <a:xfrm>
            <a:off x="380880" y="4952880"/>
            <a:ext cx="1067040" cy="457200"/>
            <a:chOff x="380880" y="4952880"/>
            <a:chExt cx="1067040" cy="457200"/>
          </a:xfrm>
        </p:grpSpPr>
        <p:sp>
          <p:nvSpPr>
            <p:cNvPr id="284" name="Rectangle 26"/>
            <p:cNvSpPr/>
            <p:nvPr/>
          </p:nvSpPr>
          <p:spPr>
            <a:xfrm>
              <a:off x="990720" y="495288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85" name="Rectangle 27"/>
            <p:cNvSpPr/>
            <p:nvPr/>
          </p:nvSpPr>
          <p:spPr>
            <a:xfrm>
              <a:off x="380880" y="4952880"/>
              <a:ext cx="45720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380880" y="2514600"/>
            <a:ext cx="1067040" cy="457200"/>
            <a:chOff x="380880" y="2514600"/>
            <a:chExt cx="1067040" cy="457200"/>
          </a:xfrm>
        </p:grpSpPr>
        <p:sp>
          <p:nvSpPr>
            <p:cNvPr id="291" name="Rectangle 9"/>
            <p:cNvSpPr/>
            <p:nvPr/>
          </p:nvSpPr>
          <p:spPr>
            <a:xfrm>
              <a:off x="990720" y="2514600"/>
              <a:ext cx="45720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380880" y="2514600"/>
              <a:ext cx="45720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293" name="Text Box 12"/>
          <p:cNvSpPr/>
          <p:nvPr/>
        </p:nvSpPr>
        <p:spPr>
          <a:xfrm>
            <a:off x="1752480" y="16606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ОЦЕНКА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76520" y="2514600"/>
            <a:ext cx="723888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Подведение итогов Программы адаптации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676520" y="4495680"/>
            <a:ext cx="716256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Решение оценочной комиссии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676520" y="3276720"/>
            <a:ext cx="6781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профессиональное соответствие должности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информированность о компании, принятие её ценностей и целей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заинтересованность в работе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380880" y="4495680"/>
            <a:ext cx="1067040" cy="457200"/>
            <a:chOff x="380880" y="4495680"/>
            <a:chExt cx="1067040" cy="457200"/>
          </a:xfrm>
        </p:grpSpPr>
        <p:sp>
          <p:nvSpPr>
            <p:cNvPr id="298" name="Rectangle 18"/>
            <p:cNvSpPr/>
            <p:nvPr/>
          </p:nvSpPr>
          <p:spPr>
            <a:xfrm>
              <a:off x="990720" y="4495680"/>
              <a:ext cx="45720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299" name="Rectangle 19"/>
            <p:cNvSpPr/>
            <p:nvPr/>
          </p:nvSpPr>
          <p:spPr>
            <a:xfrm>
              <a:off x="380880" y="4495680"/>
              <a:ext cx="45720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sp>
        <p:nvSpPr>
          <p:cNvPr id="300" name="Text Box 20"/>
          <p:cNvSpPr/>
          <p:nvPr/>
        </p:nvSpPr>
        <p:spPr>
          <a:xfrm>
            <a:off x="1752480" y="5257800"/>
            <a:ext cx="6782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испытательный срок пройден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испытательный срок пройден с замечаниями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ntique Olive"/>
              </a:rPr>
              <a:t>испытательный срок не пройден</a:t>
            </a:r>
            <a:endParaRPr b="1" lang="en-US" sz="14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 Отбор 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 Отбор 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495680" y="40384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8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514600" y="4152960"/>
            <a:ext cx="4800600" cy="1191240"/>
          </a:xfrm>
          <a:prstGeom prst="rect">
            <a:avLst/>
          </a:prstGeom>
          <a:solidFill>
            <a:srgbClr val="ffffd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тные сотрудники, адаптированные к культуре и требованиям организации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1143000" y="2362320"/>
            <a:ext cx="19051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5715000" y="2368440"/>
            <a:ext cx="3200400" cy="6426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ДАПТАЦИЯ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429000" y="2368440"/>
            <a:ext cx="1905120" cy="642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БОР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334120" y="247644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+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048120" y="246060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+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4495680" y="3314880"/>
            <a:ext cx="762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=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 Отбор Адаптац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60" name="Picture 17" descr="AG00595_"/>
          <p:cNvPicPr/>
          <p:nvPr/>
        </p:nvPicPr>
        <p:blipFill>
          <a:blip r:embed="rId1"/>
          <a:stretch/>
        </p:blipFill>
        <p:spPr>
          <a:xfrm>
            <a:off x="228600" y="3448080"/>
            <a:ext cx="58572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AG00010_"/>
          <p:cNvPicPr/>
          <p:nvPr/>
        </p:nvPicPr>
        <p:blipFill>
          <a:blip r:embed="rId2"/>
          <a:stretch/>
        </p:blipFill>
        <p:spPr>
          <a:xfrm>
            <a:off x="76320" y="1523880"/>
            <a:ext cx="75060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AG00402_"/>
          <p:cNvPicPr/>
          <p:nvPr/>
        </p:nvPicPr>
        <p:blipFill>
          <a:blip r:embed="rId3"/>
          <a:stretch/>
        </p:blipFill>
        <p:spPr>
          <a:xfrm>
            <a:off x="304920" y="5048280"/>
            <a:ext cx="47916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1447920" y="1847880"/>
            <a:ext cx="205740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1447920" y="3562200"/>
            <a:ext cx="2286000" cy="642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БОР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447920" y="5276880"/>
            <a:ext cx="3276360" cy="6426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ДАПТАЦИЯ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66" name="Group 29"/>
          <p:cNvGrpSpPr/>
          <p:nvPr/>
        </p:nvGrpSpPr>
        <p:grpSpPr>
          <a:xfrm>
            <a:off x="4724280" y="2286000"/>
            <a:ext cx="3962520" cy="2895480"/>
            <a:chOff x="4724280" y="2286000"/>
            <a:chExt cx="3962520" cy="2895480"/>
          </a:xfrm>
        </p:grpSpPr>
        <p:sp>
          <p:nvSpPr>
            <p:cNvPr id="67" name="Text Box 24"/>
            <p:cNvSpPr/>
            <p:nvPr/>
          </p:nvSpPr>
          <p:spPr>
            <a:xfrm>
              <a:off x="5257800" y="3886200"/>
              <a:ext cx="3429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цель  -  максимальное совпадение ожиданий кандидата и организации</a:t>
              </a:r>
              <a:endParaRPr b="1" lang="en-US" sz="20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68" name="AutoShape 25"/>
            <p:cNvSpPr/>
            <p:nvPr/>
          </p:nvSpPr>
          <p:spPr>
            <a:xfrm>
              <a:off x="4724280" y="2286000"/>
              <a:ext cx="304920" cy="28954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69" name="Text Box 27"/>
            <p:cNvSpPr/>
            <p:nvPr/>
          </p:nvSpPr>
          <p:spPr>
            <a:xfrm>
              <a:off x="5257800" y="28954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1" lang="en-US" sz="40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 Отбор 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74" name="Picture 9" descr="AG00010_"/>
          <p:cNvPicPr/>
          <p:nvPr/>
        </p:nvPicPr>
        <p:blipFill>
          <a:blip r:embed="rId1"/>
          <a:stretch/>
        </p:blipFill>
        <p:spPr>
          <a:xfrm>
            <a:off x="76320" y="22860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228600" y="1828800"/>
            <a:ext cx="609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1676520" y="2514600"/>
            <a:ext cx="6933960" cy="1922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влечь как можно больше потенциальных кандидатов</a:t>
            </a:r>
            <a:endParaRPr b="1" lang="en-US" sz="4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676520" y="1736640"/>
            <a:ext cx="129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ЦЕЛЬ: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 Отбор 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82" name="Picture 7" descr="AG00595_"/>
          <p:cNvPicPr/>
          <p:nvPr/>
        </p:nvPicPr>
        <p:blipFill>
          <a:blip r:embed="rId1"/>
          <a:stretch/>
        </p:blipFill>
        <p:spPr>
          <a:xfrm>
            <a:off x="152280" y="228600"/>
            <a:ext cx="586080" cy="609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228600" y="1778040"/>
            <a:ext cx="609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6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676520" y="2514600"/>
            <a:ext cx="6933960" cy="3141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ыбрать кандидата, максимально соответствующего требованиям должности и корпоративной культуры</a:t>
            </a:r>
            <a:endParaRPr b="1" lang="en-US" sz="4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676520" y="1736640"/>
            <a:ext cx="129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ЦЕЛЬ: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 Отбор Адаптация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90" name="Picture 9" descr="AG00402_"/>
          <p:cNvPicPr/>
          <p:nvPr/>
        </p:nvPicPr>
        <p:blipFill>
          <a:blip r:embed="rId1"/>
          <a:stretch/>
        </p:blipFill>
        <p:spPr>
          <a:xfrm>
            <a:off x="228600" y="228600"/>
            <a:ext cx="47952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04920" y="1447920"/>
            <a:ext cx="457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1" lang="en-US" sz="24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600200" y="4937040"/>
            <a:ext cx="7162920" cy="13129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ценить соответствие требованиям</a:t>
            </a:r>
            <a:endParaRPr b="1" lang="en-US" sz="4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600200" y="1736640"/>
            <a:ext cx="129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ntique Olive"/>
              </a:rPr>
              <a:t>ЦЕЛЬ: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600200" y="2438280"/>
            <a:ext cx="7086600" cy="703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вести в должность</a:t>
            </a:r>
            <a:endParaRPr b="1" lang="en-US" sz="4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600200" y="3382920"/>
            <a:ext cx="7162920" cy="13129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общить к культуре организации</a:t>
            </a:r>
            <a:endParaRPr b="1" lang="en-US" sz="40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219320" y="1447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ntique Olive"/>
              </a:rPr>
              <a:t>ФОРМУЛИРОВКА ТРЕБОВАНИЙ</a:t>
            </a:r>
            <a:endParaRPr b="1" lang="en-US" sz="32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101" name="Group 29"/>
          <p:cNvGrpSpPr/>
          <p:nvPr/>
        </p:nvGrpSpPr>
        <p:grpSpPr>
          <a:xfrm>
            <a:off x="322200" y="2362320"/>
            <a:ext cx="6764400" cy="627120"/>
            <a:chOff x="322200" y="2362320"/>
            <a:chExt cx="6764400" cy="627120"/>
          </a:xfrm>
        </p:grpSpPr>
        <p:pic>
          <p:nvPicPr>
            <p:cNvPr id="102" name="Picture 15" descr="J0076219"/>
            <p:cNvPicPr/>
            <p:nvPr/>
          </p:nvPicPr>
          <p:blipFill>
            <a:blip r:embed="rId1"/>
            <a:stretch/>
          </p:blipFill>
          <p:spPr>
            <a:xfrm>
              <a:off x="322200" y="236232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28"/>
            <p:cNvGrpSpPr/>
            <p:nvPr/>
          </p:nvGrpSpPr>
          <p:grpSpPr>
            <a:xfrm>
              <a:off x="1211400" y="2438280"/>
              <a:ext cx="5875200" cy="551160"/>
              <a:chOff x="1211400" y="2438280"/>
              <a:chExt cx="5875200" cy="551160"/>
            </a:xfrm>
          </p:grpSpPr>
          <p:sp>
            <p:nvSpPr>
              <p:cNvPr id="104" name="Rectangle 24"/>
              <p:cNvSpPr/>
              <p:nvPr/>
            </p:nvSpPr>
            <p:spPr>
              <a:xfrm>
                <a:off x="1211400" y="2438280"/>
                <a:ext cx="5875200" cy="5382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000000"/>
                  </a:solidFill>
                  <a:latin typeface="Antique Olive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1219320" y="2514600"/>
                <a:ext cx="57909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500" spc="-1" strike="noStrike">
                    <a:solidFill>
                      <a:srgbClr val="000000"/>
                    </a:solidFill>
                    <a:latin typeface="Antique Olive"/>
                  </a:rPr>
                  <a:t>Кадровые данные кандидата</a:t>
                </a:r>
                <a:endParaRPr b="1" lang="en-US" sz="2500" spc="-1" strike="noStrike">
                  <a:solidFill>
                    <a:srgbClr val="000000"/>
                  </a:solidFill>
                  <a:latin typeface="Antique Olive"/>
                </a:endParaRPr>
              </a:p>
            </p:txBody>
          </p:sp>
        </p:grpSp>
      </p:grpSp>
      <p:grpSp>
        <p:nvGrpSpPr>
          <p:cNvPr id="106" name="Group 30"/>
          <p:cNvGrpSpPr/>
          <p:nvPr/>
        </p:nvGrpSpPr>
        <p:grpSpPr>
          <a:xfrm>
            <a:off x="293760" y="3124080"/>
            <a:ext cx="6800760" cy="690840"/>
            <a:chOff x="293760" y="3124080"/>
            <a:chExt cx="6800760" cy="690840"/>
          </a:xfrm>
        </p:grpSpPr>
        <p:sp>
          <p:nvSpPr>
            <p:cNvPr id="107" name="Rectangle 25"/>
            <p:cNvSpPr/>
            <p:nvPr/>
          </p:nvSpPr>
          <p:spPr>
            <a:xfrm>
              <a:off x="1219320" y="3276720"/>
              <a:ext cx="5875200" cy="538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pic>
          <p:nvPicPr>
            <p:cNvPr id="108" name="Picture 16" descr="J0095756"/>
            <p:cNvPicPr/>
            <p:nvPr/>
          </p:nvPicPr>
          <p:blipFill>
            <a:blip r:embed="rId2"/>
            <a:stretch/>
          </p:blipFill>
          <p:spPr>
            <a:xfrm>
              <a:off x="293760" y="3124080"/>
              <a:ext cx="46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0"/>
            <p:cNvSpPr/>
            <p:nvPr/>
          </p:nvSpPr>
          <p:spPr>
            <a:xfrm>
              <a:off x="1219320" y="3327480"/>
              <a:ext cx="579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Antique Olive"/>
                </a:rPr>
                <a:t>Уровень квалификации и опыт</a:t>
              </a: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grpSp>
        <p:nvGrpSpPr>
          <p:cNvPr id="110" name="Group 31"/>
          <p:cNvGrpSpPr/>
          <p:nvPr/>
        </p:nvGrpSpPr>
        <p:grpSpPr>
          <a:xfrm>
            <a:off x="293760" y="3962520"/>
            <a:ext cx="8621640" cy="690480"/>
            <a:chOff x="293760" y="3962520"/>
            <a:chExt cx="8621640" cy="690480"/>
          </a:xfrm>
        </p:grpSpPr>
        <p:sp>
          <p:nvSpPr>
            <p:cNvPr id="111" name="Rectangle 26"/>
            <p:cNvSpPr/>
            <p:nvPr/>
          </p:nvSpPr>
          <p:spPr>
            <a:xfrm>
              <a:off x="1219320" y="4114800"/>
              <a:ext cx="5875200" cy="538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pic>
          <p:nvPicPr>
            <p:cNvPr id="112" name="Picture 17" descr="J0095757"/>
            <p:cNvPicPr/>
            <p:nvPr/>
          </p:nvPicPr>
          <p:blipFill>
            <a:blip r:embed="rId3"/>
            <a:stretch/>
          </p:blipFill>
          <p:spPr>
            <a:xfrm>
              <a:off x="293760" y="3962520"/>
              <a:ext cx="463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21"/>
            <p:cNvSpPr/>
            <p:nvPr/>
          </p:nvSpPr>
          <p:spPr>
            <a:xfrm>
              <a:off x="1219320" y="4140360"/>
              <a:ext cx="7696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Antique Olive"/>
                </a:rPr>
                <a:t>Профессиональные знания, умения, навыки</a:t>
              </a: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grpSp>
        <p:nvGrpSpPr>
          <p:cNvPr id="114" name="Group 32"/>
          <p:cNvGrpSpPr/>
          <p:nvPr/>
        </p:nvGrpSpPr>
        <p:grpSpPr>
          <a:xfrm>
            <a:off x="293760" y="4800600"/>
            <a:ext cx="6800760" cy="627120"/>
            <a:chOff x="293760" y="4800600"/>
            <a:chExt cx="6800760" cy="627120"/>
          </a:xfrm>
        </p:grpSpPr>
        <p:sp>
          <p:nvSpPr>
            <p:cNvPr id="115" name="Rectangle 27"/>
            <p:cNvSpPr/>
            <p:nvPr/>
          </p:nvSpPr>
          <p:spPr>
            <a:xfrm>
              <a:off x="1219320" y="4876920"/>
              <a:ext cx="5875200" cy="5382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pic>
          <p:nvPicPr>
            <p:cNvPr id="116" name="Picture 18" descr="J0095758"/>
            <p:cNvPicPr/>
            <p:nvPr/>
          </p:nvPicPr>
          <p:blipFill>
            <a:blip r:embed="rId4"/>
            <a:stretch/>
          </p:blipFill>
          <p:spPr>
            <a:xfrm>
              <a:off x="293760" y="4800600"/>
              <a:ext cx="463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/>
            <p:cNvSpPr/>
            <p:nvPr/>
          </p:nvSpPr>
          <p:spPr>
            <a:xfrm>
              <a:off x="1219320" y="4952880"/>
              <a:ext cx="579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Antique Olive"/>
                </a:rPr>
                <a:t>Личностные качества</a:t>
              </a: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  <p:graphicFrame>
        <p:nvGraphicFramePr>
          <p:cNvPr id="118" name="Object 33"/>
          <p:cNvGraphicFramePr/>
          <p:nvPr/>
        </p:nvGraphicFramePr>
        <p:xfrm>
          <a:off x="152280" y="152280"/>
          <a:ext cx="6289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28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219320" y="1447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ntique Olive"/>
              </a:rPr>
              <a:t>ВЫБОР СПОСОБА ПОИСКА</a:t>
            </a:r>
            <a:endParaRPr b="1" lang="en-US" sz="32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219320" y="2422440"/>
            <a:ext cx="5905440" cy="3988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объявления в СМИ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219320" y="2868480"/>
            <a:ext cx="594360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биржи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219320" y="3760920"/>
            <a:ext cx="5905440" cy="3988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сеть  Интернет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219320" y="4206960"/>
            <a:ext cx="5905440" cy="3988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взаимодействие с учебными заведениями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19320" y="4653000"/>
            <a:ext cx="590544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внутренние ресурсы организации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219320" y="5099040"/>
            <a:ext cx="5905440" cy="398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база потенциальных кандидатов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219320" y="5546880"/>
            <a:ext cx="5905440" cy="398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tique Olive"/>
              </a:rPr>
              <a:t>headhunting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219320" y="3314880"/>
            <a:ext cx="5905440" cy="3988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ntique Olive"/>
              </a:rPr>
              <a:t>рекрутинговые агентства </a:t>
            </a:r>
            <a:endParaRPr b="1" lang="en-US" sz="2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838080" y="2438280"/>
            <a:ext cx="277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457200" y="4267080"/>
            <a:ext cx="8001000" cy="2354400"/>
            <a:chOff x="457200" y="4267080"/>
            <a:chExt cx="8001000" cy="2354400"/>
          </a:xfrm>
        </p:grpSpPr>
        <p:pic>
          <p:nvPicPr>
            <p:cNvPr id="135" name="Picture 19" descr="AG00041_"/>
            <p:cNvPicPr/>
            <p:nvPr/>
          </p:nvPicPr>
          <p:blipFill>
            <a:blip r:embed="rId1"/>
            <a:stretch/>
          </p:blipFill>
          <p:spPr>
            <a:xfrm>
              <a:off x="457200" y="5638680"/>
              <a:ext cx="30492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6172200" y="6146640"/>
              <a:ext cx="228600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3300"/>
                  </a:solidFill>
                  <a:latin typeface="Antique Olive"/>
                </a:rPr>
                <a:t>АКТИВНЫЕ</a:t>
              </a: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pic>
          <p:nvPicPr>
            <p:cNvPr id="137" name="Picture 21" descr="AG00041_"/>
            <p:cNvPicPr/>
            <p:nvPr/>
          </p:nvPicPr>
          <p:blipFill>
            <a:blip r:embed="rId2"/>
            <a:stretch/>
          </p:blipFill>
          <p:spPr>
            <a:xfrm>
              <a:off x="457200" y="5181480"/>
              <a:ext cx="30492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3" descr="AG00041_"/>
            <p:cNvPicPr/>
            <p:nvPr/>
          </p:nvPicPr>
          <p:blipFill>
            <a:blip r:embed="rId3"/>
            <a:stretch/>
          </p:blipFill>
          <p:spPr>
            <a:xfrm>
              <a:off x="457200" y="4267080"/>
              <a:ext cx="30492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4" descr="AG00041_"/>
            <p:cNvPicPr/>
            <p:nvPr/>
          </p:nvPicPr>
          <p:blipFill>
            <a:blip r:embed="rId4"/>
            <a:stretch/>
          </p:blipFill>
          <p:spPr>
            <a:xfrm>
              <a:off x="457200" y="4724280"/>
              <a:ext cx="304920" cy="2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35"/>
          <p:cNvGrpSpPr/>
          <p:nvPr/>
        </p:nvGrpSpPr>
        <p:grpSpPr>
          <a:xfrm>
            <a:off x="152280" y="2514600"/>
            <a:ext cx="3657600" cy="4132440"/>
            <a:chOff x="152280" y="2514600"/>
            <a:chExt cx="3657600" cy="4132440"/>
          </a:xfrm>
        </p:grpSpPr>
        <p:sp>
          <p:nvSpPr>
            <p:cNvPr id="141" name="AutoShape 27"/>
            <p:cNvSpPr/>
            <p:nvPr/>
          </p:nvSpPr>
          <p:spPr>
            <a:xfrm>
              <a:off x="457200" y="2514600"/>
              <a:ext cx="271440" cy="272880"/>
            </a:xfrm>
            <a:prstGeom prst="rightArrow">
              <a:avLst>
                <a:gd name="adj1" fmla="val 75389"/>
                <a:gd name="adj2" fmla="val 54384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>
              <a:off x="457200" y="2946240"/>
              <a:ext cx="271440" cy="273240"/>
            </a:xfrm>
            <a:prstGeom prst="rightArrow">
              <a:avLst>
                <a:gd name="adj1" fmla="val 75389"/>
                <a:gd name="adj2" fmla="val 54384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143" name="AutoShape 29"/>
            <p:cNvSpPr/>
            <p:nvPr/>
          </p:nvSpPr>
          <p:spPr>
            <a:xfrm>
              <a:off x="457200" y="3378240"/>
              <a:ext cx="271440" cy="272880"/>
            </a:xfrm>
            <a:prstGeom prst="rightArrow">
              <a:avLst>
                <a:gd name="adj1" fmla="val 75389"/>
                <a:gd name="adj2" fmla="val 54384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144" name="AutoShape 30"/>
            <p:cNvSpPr/>
            <p:nvPr/>
          </p:nvSpPr>
          <p:spPr>
            <a:xfrm>
              <a:off x="457200" y="3809880"/>
              <a:ext cx="271440" cy="273240"/>
            </a:xfrm>
            <a:prstGeom prst="rightArrow">
              <a:avLst>
                <a:gd name="adj1" fmla="val 75389"/>
                <a:gd name="adj2" fmla="val 54384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145" name="Text Box 33"/>
            <p:cNvSpPr/>
            <p:nvPr/>
          </p:nvSpPr>
          <p:spPr>
            <a:xfrm>
              <a:off x="1219320" y="6172200"/>
              <a:ext cx="259056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99ff"/>
                  </a:solidFill>
                  <a:latin typeface="Antique Olive"/>
                </a:rPr>
                <a:t>ПАССИВНЫЕ</a:t>
              </a: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  <p:sp>
          <p:nvSpPr>
            <p:cNvPr id="146" name="AutoShape 34"/>
            <p:cNvSpPr/>
            <p:nvPr/>
          </p:nvSpPr>
          <p:spPr>
            <a:xfrm>
              <a:off x="152280" y="4724280"/>
              <a:ext cx="271440" cy="273240"/>
            </a:xfrm>
            <a:prstGeom prst="rightArrow">
              <a:avLst>
                <a:gd name="adj1" fmla="val 75389"/>
                <a:gd name="adj2" fmla="val 54384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ntique Oliv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Поиск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143000" y="13716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ntique Olive"/>
              </a:rPr>
              <a:t>ФОРМУЛИРОВКА ТРЕБОВАНИЙ</a:t>
            </a:r>
            <a:endParaRPr b="1" lang="en-US" sz="3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295280" y="1981080"/>
            <a:ext cx="579132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кадровые данные кандидата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295280" y="2438280"/>
            <a:ext cx="579132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уровень квалификации и опыт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295280" y="2895480"/>
            <a:ext cx="6019920" cy="368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профессиональные знания, умения, навыки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1295280" y="3352680"/>
            <a:ext cx="57913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личностные качества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143000" y="38862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ntique Olive"/>
              </a:rPr>
              <a:t>ВЫБОР СПОСОБА ПОИСКА</a:t>
            </a:r>
            <a:endParaRPr b="1" lang="en-US" sz="30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1295280" y="4495680"/>
            <a:ext cx="590580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объявления в СМИ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295280" y="4937040"/>
            <a:ext cx="594360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биржи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295280" y="5378400"/>
            <a:ext cx="590580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сеть  Интернет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1295280" y="5819760"/>
            <a:ext cx="5905800" cy="368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взаимодействие с учебными заведениями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1295280" y="6262560"/>
            <a:ext cx="5905800" cy="368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ntique Olive"/>
              </a:rPr>
              <a:t>база потенциальных кандидатов</a:t>
            </a:r>
            <a:endParaRPr b="1" lang="en-US" sz="18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295280" y="380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ntique Olive"/>
              </a:rPr>
              <a:t>Отбор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066680"/>
            <a:ext cx="914400" cy="5791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graphicFrame>
        <p:nvGraphicFramePr>
          <p:cNvPr id="166" name="Object 8"/>
          <p:cNvGraphicFramePr/>
          <p:nvPr/>
        </p:nvGraphicFramePr>
        <p:xfrm>
          <a:off x="1066680" y="1143000"/>
          <a:ext cx="119376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11937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1"/>
          <p:cNvGraphicFramePr/>
          <p:nvPr/>
        </p:nvGraphicFramePr>
        <p:xfrm>
          <a:off x="5410080" y="3657600"/>
          <a:ext cx="208296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657600"/>
                    <a:ext cx="208296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2"/>
          <p:cNvGraphicFramePr/>
          <p:nvPr/>
        </p:nvGraphicFramePr>
        <p:xfrm>
          <a:off x="3733920" y="2743200"/>
          <a:ext cx="1749240" cy="19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743200"/>
                    <a:ext cx="174924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3"/>
          <p:cNvGraphicFramePr/>
          <p:nvPr/>
        </p:nvGraphicFramePr>
        <p:xfrm>
          <a:off x="2286000" y="1828800"/>
          <a:ext cx="1490760" cy="18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1828800"/>
                    <a:ext cx="1490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15"/>
          <p:cNvSpPr/>
          <p:nvPr/>
        </p:nvSpPr>
        <p:spPr>
          <a:xfrm flipH="1" flipV="1">
            <a:off x="6552720" y="495252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pic>
        <p:nvPicPr>
          <p:cNvPr id="175" name="Picture 16" descr="J0076217"/>
          <p:cNvPicPr/>
          <p:nvPr/>
        </p:nvPicPr>
        <p:blipFill>
          <a:blip r:embed="rId9"/>
          <a:stretch/>
        </p:blipFill>
        <p:spPr>
          <a:xfrm>
            <a:off x="7924680" y="51055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8"/>
          <p:cNvSpPr/>
          <p:nvPr/>
        </p:nvSpPr>
        <p:spPr>
          <a:xfrm>
            <a:off x="6858000" y="2971800"/>
            <a:ext cx="1752480" cy="474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1-й этап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581280" y="1447920"/>
            <a:ext cx="1524240" cy="474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3-й этап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5334120" y="2133720"/>
            <a:ext cx="1600200" cy="474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2-й этап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79" name="Line 24"/>
          <p:cNvSpPr/>
          <p:nvPr/>
        </p:nvSpPr>
        <p:spPr>
          <a:xfrm flipV="1">
            <a:off x="1523880" y="28195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762120" y="464832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ntique Olive"/>
              </a:rPr>
              <a:t>ЭТАЛОН</a:t>
            </a:r>
            <a:endParaRPr b="1" lang="en-US" sz="2500" spc="-1" strike="noStrike">
              <a:solidFill>
                <a:srgbClr val="000000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04:27:27Z</dcterms:created>
  <dc:creator>Служба персонала</dc:creator>
  <dc:description/>
  <dc:language>en-US</dc:language>
  <cp:lastModifiedBy>Сокол</cp:lastModifiedBy>
  <dcterms:modified xsi:type="dcterms:W3CDTF">2015-01-22T15:58:11Z</dcterms:modified>
  <cp:revision>35</cp:revision>
  <dc:subject/>
  <dc:title>Презентация PowerPoint</dc:title>
</cp:coreProperties>
</file>