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gif" ContentType="image/gif"/>
  <Override PartName="/ppt/media/image28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12.wmf" ContentType="image/x-wmf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ELPHRG01.wav" ContentType="audio/x-wav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35.png" ContentType="image/png"/>
  <Override PartName="/ppt/media/image36.jpeg" ContentType="image/jpeg"/>
  <Override PartName="/ppt/media/image9.png" ContentType="image/png"/>
  <Override PartName="/ppt/media/image5.gif" ContentType="image/gif"/>
  <Override PartName="/ppt/media/image8.gif" ContentType="image/gif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F90-3632-4DEB-9201-8E8ACE8C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C59-27B5-4ADB-BDC0-D2E51D65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D727F-3AB1-4624-8393-F5B534B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66C99-CFA8-46F6-B960-CA3EC7A3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6B23A-5930-4136-B728-76B7A558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2D8BB-5BD4-4F70-BDB7-47971EEF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5D0C-69E6-416F-8703-A3983FA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74BFD-C188-44D1-8B68-E0389F9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38879-4070-4AA0-8A41-DAFE9A07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25BF0-DC98-4D88-91AD-63D2141C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8E9E-D40B-44D0-A7B2-58F80583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5B4-31E4-4B73-93F4-85A867ED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1CF-7E0D-4F9E-AE70-E3BB4FF4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BB9B-188A-4DBD-B618-38FC40B2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0BBE-D5B1-4A42-94CC-7329046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89C4-88A2-4979-BED4-3BED00A0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27FE-3619-40A7-BA60-7982AB3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E47-AE0E-4E54-AFCF-45EF7FC6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8406-9659-4CF4-9190-A810734C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204-577F-44AA-B92B-ED79C7E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44F-8317-42C1-806B-489374A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5BF-0C59-4A17-AFC9-F746884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BAA7-C3F3-480D-837F-C02E1A1F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C394-E5BE-41B7-AD8D-E3F24EA9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6209-8017-429C-BDFC-9FD32EDD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712-9947-4AD0-9360-38DDAA0D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1516-35BB-4296-9024-67594B50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39BA-11BB-4700-B7EB-3E610E6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0B8D-3309-4E54-9F09-E6D3F53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7BD9-D4C0-466C-9BC2-7EDA7DBE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D454-0265-439B-B03D-DF895D1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DF8-0D1F-445C-8BFC-5AB0878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3D88-557C-47F6-8004-F641C3F6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5E8B-AFAB-40B3-BF43-86F0ECE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3299-FB71-42FA-BB2A-A62726C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8C6B-A573-46EB-B86C-672A8A0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0D24-B732-410C-ACC2-9EF60621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97AD-190C-40F2-B0EC-2CDF6B40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F0D0-5920-4A28-97F1-7775A32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035A-72CF-4BBC-BCF0-87D90FE6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D8B6-7C5B-47DB-A64B-32EFF7C7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331C-2B52-4A01-9376-6EB7D69C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D42-C9E9-4AD2-9336-B0766EF9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D432-BD8F-4CBE-B371-E7313688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B8E7-0B45-4D80-AE22-429838C3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EEFA-1E45-4909-A753-17F43B48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E25F-4848-4E50-966D-3313BA6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7FF2-7AE5-468A-916D-4ECA7D4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7A3B-8D0D-4A00-98E2-3221F6B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1CF8-7AF9-46C0-B11C-93791EF3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72BF-AE74-4BC7-B33E-D29ED4E0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A5D5-8466-42E7-AB64-E59D3DFF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D12B-4986-414A-99BB-5CCA178A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72C-A706-4CA4-81A6-757DDDF3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C988F-79AD-4254-98CA-61DDD68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8F85-E0AC-4C95-99CC-E38DAB91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F6A5-A64A-4D8C-8ED4-C1B6DD89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4387C-65B4-408F-AA00-6A594CB1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EB2E-A380-493B-BBB2-B8D2D000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F24ED-B7AC-4107-BC4C-A0E8680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EC5C-AD90-46C3-8DED-DFF461C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723A-702F-4503-AF43-C67FD54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03C1-B94D-4362-ADE2-D9723096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31E4-FB1C-4757-9748-96073A0D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39E-2CA1-4697-9694-3C5DF34C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3A62-01FB-4E31-A779-11A62AA0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B1FE-7CFC-4E21-8A57-194D045A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04752-A8E9-4EE8-9783-BD79BA0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769AE-501C-4B38-8102-1219EF54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E8F9D-DAD3-4462-92BC-89DDB549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BA35-2808-440E-857B-A585E29A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3E10E-377F-4424-B605-BC55F11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8095-D7DC-4EB1-8439-5676392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CF94-3198-4093-BDC0-F1C3B35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2817-641A-4D25-A300-21949D6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5D3-6FF3-46A7-AF61-913CBD2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A4F00-6320-42D8-985F-825C37F3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8086-D826-41DB-A8EB-87A2059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031C-8FE1-40F3-B898-FEC50DF3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8B64-E383-4385-BAF3-8973941C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B424-D27A-47AB-B0D9-37CC310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79167-2E42-47B6-8CA8-297B281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2FAC-2DCA-401C-B685-9BA1523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88D5-50EC-4D80-8C62-0CB72B2F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4956-2A1D-4C83-93E1-4EDE400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C7EDD-1D4E-4E71-BA84-0C50C51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EC5-7B5D-42FE-A0FC-E0C474E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8BBF5-7397-4CC4-B5CD-B0CBEA6E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3D901-CE58-44FE-B588-D4010E5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A3A9-43C9-423D-8D8C-9D4BFD68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212EB-5300-4922-9D45-588B3D71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F1CF4-EDCC-40D9-A544-EBDB9398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65E00-4E3F-4065-B001-B4A14D1E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6CA44-1E1D-4B9C-8D63-47BF342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DA439-6A2E-4258-843C-D2471801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5156B-750A-46B2-8677-EB3F938B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7BC3-7FD3-474F-A763-E1D1107C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901-5C04-494C-A752-DF41A11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110C-71C3-48A6-BC79-1B750AB8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5123-3298-48A9-A7B9-9678E8E1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F74C2-C017-4DA8-ABA7-7BA902D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ECE60-D201-4F6C-A737-E543141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9871C-A3D7-4772-AFB6-06DA13D8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05EA8-F600-480A-94D8-66A07F0F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B3DAE-8700-4075-AD7A-5873807F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81C69-5B9C-47A8-BE72-47F02FE1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6212B-050B-4498-B6A6-E7706232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4DB6-DEE6-41CB-B0A6-525A2891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1698-7C69-4416-8228-04B00F5C83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C5F4-BAF0-494D-80D9-ABC386A0EA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BDA8-9A55-4B3F-BD3B-FB66D93ECD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13B-461D-43FC-9BBD-AB9D1F160D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3DB-C35C-48F9-8A57-CAE9C38EF6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E1D3-69F8-4681-913A-9094659E97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A705-8E93-415E-BE48-D5C035B1A8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630F-B96D-4754-AF0A-242DEB4414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005C-91B6-4092-8715-7F1093AAFC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shoper2.ucoz.ru/photo/12-0-757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photoshoper2.ucoz.ru/photo/12-0-749" TargetMode="External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otoshoper2.ucoz.ru/photo/12-0-757" TargetMode="External"/><Relationship Id="rId2" Type="http://schemas.openxmlformats.org/officeDocument/2006/relationships/image" Target="../media/image5.gif"/><Relationship Id="rId3" Type="http://schemas.openxmlformats.org/officeDocument/2006/relationships/hyperlink" Target="http://www.photoshoper2.ucoz.ru/photo/12-0-757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www.photoshoper2.ucoz.ru/photo/12-0-749" TargetMode="External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otoshoper2.ucoz.ru/photo/12-0-757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photoshoper2.ucoz.ru/photo/12-0-749" TargetMode="Externa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otoshoper2.ucoz.ru/photo/12-0-757" TargetMode="External"/><Relationship Id="rId2" Type="http://schemas.openxmlformats.org/officeDocument/2006/relationships/image" Target="../media/image5.gif"/><Relationship Id="rId3" Type="http://schemas.openxmlformats.org/officeDocument/2006/relationships/hyperlink" Target="http://www.photoshoper2.ucoz.ru/photo/12-0-757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audio" Target="../media/ELPHRG01.wav"/><Relationship Id="rId6" Type="http://schemas.openxmlformats.org/officeDocument/2006/relationships/audio" Target="../media/ELPHRG01.wav"/><Relationship Id="rId7" Type="http://schemas.openxmlformats.org/officeDocument/2006/relationships/audio" Target="../media/ELPHRG01.wav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3006344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85080" y="0"/>
            <a:ext cx="1082880" cy="200988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10"/>
          <p:cNvGrpSpPr/>
          <p:nvPr/>
        </p:nvGrpSpPr>
        <p:grpSpPr>
          <a:xfrm>
            <a:off x="395280" y="2924280"/>
            <a:ext cx="2376000" cy="3798360"/>
            <a:chOff x="395280" y="2924280"/>
            <a:chExt cx="2376000" cy="3798360"/>
          </a:xfrm>
        </p:grpSpPr>
        <p:grpSp>
          <p:nvGrpSpPr>
            <p:cNvPr id="401" name="Group 11"/>
            <p:cNvGrpSpPr/>
            <p:nvPr/>
          </p:nvGrpSpPr>
          <p:grpSpPr>
            <a:xfrm>
              <a:off x="395280" y="2924280"/>
              <a:ext cx="2263320" cy="2647440"/>
              <a:chOff x="395280" y="2924280"/>
              <a:chExt cx="2263320" cy="2647440"/>
            </a:xfrm>
          </p:grpSpPr>
          <p:pic>
            <p:nvPicPr>
              <p:cNvPr id="402" name="Picture 12" descr="bo10"/>
              <p:cNvPicPr/>
              <p:nvPr/>
            </p:nvPicPr>
            <p:blipFill>
              <a:blip r:embed="rId3"/>
              <a:stretch/>
            </p:blipFill>
            <p:spPr>
              <a:xfrm>
                <a:off x="395280" y="2924280"/>
                <a:ext cx="1810440" cy="12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13" descr="bo20"/>
              <p:cNvPicPr/>
              <p:nvPr/>
            </p:nvPicPr>
            <p:blipFill>
              <a:blip r:embed="rId4"/>
              <a:stretch/>
            </p:blipFill>
            <p:spPr>
              <a:xfrm>
                <a:off x="395280" y="4169880"/>
                <a:ext cx="2263320" cy="14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4" name="Picture 14" descr="755075996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95280" y="4867200"/>
              <a:ext cx="2376000" cy="185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Прямоугольник 8" descr=""/>
          <p:cNvPicPr/>
          <p:nvPr/>
        </p:nvPicPr>
        <p:blipFill>
          <a:blip r:embed="rId7"/>
          <a:stretch/>
        </p:blipFill>
        <p:spPr>
          <a:xfrm>
            <a:off x="-341280" y="353880"/>
            <a:ext cx="9217080" cy="33102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9"/>
          <p:cNvSpPr/>
          <p:nvPr/>
        </p:nvSpPr>
        <p:spPr>
          <a:xfrm>
            <a:off x="2071800" y="4071960"/>
            <a:ext cx="68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1d18"/>
                </a:solidFill>
                <a:latin typeface="Arial"/>
              </a:rPr>
              <a:t>Учитель Кирилина М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5214960" y="2714760"/>
            <a:ext cx="3687840" cy="2947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2865600" cy="2286000"/>
          </a:xfrm>
          <a:prstGeom prst="rect">
            <a:avLst/>
          </a:prstGeom>
          <a:ln w="0">
            <a:noFill/>
          </a:ln>
        </p:spPr>
      </p:pic>
      <p:pic>
        <p:nvPicPr>
          <p:cNvPr id="461" name="Схема 3" descr=""/>
          <p:cNvPicPr/>
          <p:nvPr/>
        </p:nvPicPr>
        <p:blipFill>
          <a:blip r:embed="rId3"/>
          <a:stretch/>
        </p:blipFill>
        <p:spPr>
          <a:xfrm>
            <a:off x="268200" y="-30240"/>
            <a:ext cx="8815320" cy="3370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"/>
          <p:cNvPicPr/>
          <p:nvPr/>
        </p:nvPicPr>
        <p:blipFill>
          <a:blip r:embed="rId4"/>
          <a:stretch/>
        </p:blipFill>
        <p:spPr>
          <a:xfrm>
            <a:off x="2928960" y="4071960"/>
            <a:ext cx="3213000" cy="2571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300634416"/>
          <p:cNvPicPr/>
          <p:nvPr/>
        </p:nvPicPr>
        <p:blipFill>
          <a:blip r:embed="rId5"/>
          <a:stretch/>
        </p:blipFill>
        <p:spPr>
          <a:xfrm>
            <a:off x="250920" y="84240"/>
            <a:ext cx="584280" cy="1082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5357880" y="37148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2"/>
          <a:stretch/>
        </p:blipFill>
        <p:spPr>
          <a:xfrm>
            <a:off x="214200" y="3714840"/>
            <a:ext cx="3571920" cy="2857320"/>
          </a:xfrm>
          <a:prstGeom prst="rect">
            <a:avLst/>
          </a:prstGeom>
          <a:ln w="0">
            <a:noFill/>
          </a:ln>
        </p:spPr>
      </p:pic>
      <p:pic>
        <p:nvPicPr>
          <p:cNvPr id="466" name="Схема 3" descr=""/>
          <p:cNvPicPr/>
          <p:nvPr/>
        </p:nvPicPr>
        <p:blipFill>
          <a:blip r:embed="rId3"/>
          <a:stretch/>
        </p:blipFill>
        <p:spPr>
          <a:xfrm>
            <a:off x="212760" y="-30240"/>
            <a:ext cx="8639280" cy="30844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4"/>
          <a:stretch/>
        </p:blipFill>
        <p:spPr>
          <a:xfrm>
            <a:off x="2714760" y="2357280"/>
            <a:ext cx="3259080" cy="2606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300634416"/>
          <p:cNvPicPr/>
          <p:nvPr/>
        </p:nvPicPr>
        <p:blipFill>
          <a:blip r:embed="rId5"/>
          <a:stretch/>
        </p:blipFill>
        <p:spPr>
          <a:xfrm>
            <a:off x="209520" y="-31680"/>
            <a:ext cx="584280" cy="1082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6021360" y="4000680"/>
            <a:ext cx="3122640" cy="2500200"/>
          </a:xfrm>
          <a:prstGeom prst="rect">
            <a:avLst/>
          </a:prstGeom>
          <a:ln w="0">
            <a:noFill/>
          </a:ln>
        </p:spPr>
      </p:pic>
      <p:pic>
        <p:nvPicPr>
          <p:cNvPr id="470" name="Схема 3" descr=""/>
          <p:cNvPicPr/>
          <p:nvPr/>
        </p:nvPicPr>
        <p:blipFill>
          <a:blip r:embed="rId2"/>
          <a:stretch/>
        </p:blipFill>
        <p:spPr>
          <a:xfrm>
            <a:off x="0" y="-30240"/>
            <a:ext cx="8991720" cy="33703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3143160" y="2643120"/>
            <a:ext cx="3165480" cy="253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4"/>
          <a:stretch/>
        </p:blipFill>
        <p:spPr>
          <a:xfrm>
            <a:off x="285840" y="2571840"/>
            <a:ext cx="2427120" cy="1957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5"/>
          <a:stretch/>
        </p:blipFill>
        <p:spPr>
          <a:xfrm>
            <a:off x="1143000" y="4665600"/>
            <a:ext cx="2552760" cy="2049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300634416"/>
          <p:cNvPicPr/>
          <p:nvPr/>
        </p:nvPicPr>
        <p:blipFill>
          <a:blip r:embed="rId6"/>
          <a:stretch/>
        </p:blipFill>
        <p:spPr>
          <a:xfrm>
            <a:off x="279360" y="189000"/>
            <a:ext cx="584280" cy="1082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214200" y="4000680"/>
            <a:ext cx="3076560" cy="2457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3137040" cy="2486160"/>
          </a:xfrm>
          <a:prstGeom prst="rect">
            <a:avLst/>
          </a:prstGeom>
          <a:ln w="0">
            <a:noFill/>
          </a:ln>
        </p:spPr>
      </p:pic>
      <p:pic>
        <p:nvPicPr>
          <p:cNvPr id="477" name="Схема 3" descr=""/>
          <p:cNvPicPr/>
          <p:nvPr/>
        </p:nvPicPr>
        <p:blipFill>
          <a:blip r:embed="rId3"/>
          <a:stretch/>
        </p:blipFill>
        <p:spPr>
          <a:xfrm>
            <a:off x="0" y="-30240"/>
            <a:ext cx="9144000" cy="3370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3311640" cy="2641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300634416"/>
          <p:cNvPicPr/>
          <p:nvPr/>
        </p:nvPicPr>
        <p:blipFill>
          <a:blip r:embed="rId5"/>
          <a:stretch/>
        </p:blipFill>
        <p:spPr>
          <a:xfrm>
            <a:off x="214200" y="182520"/>
            <a:ext cx="584280" cy="1082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9" descr="3006344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0120" y="3579840"/>
            <a:ext cx="128268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3006344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440" y="189000"/>
            <a:ext cx="584280" cy="108252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оугольник 6" descr=""/>
          <p:cNvPicPr/>
          <p:nvPr/>
        </p:nvPicPr>
        <p:blipFill>
          <a:blip r:embed="rId5"/>
          <a:stretch/>
        </p:blipFill>
        <p:spPr>
          <a:xfrm>
            <a:off x="371520" y="712800"/>
            <a:ext cx="8486640" cy="250668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10"/>
          <p:cNvGrpSpPr/>
          <p:nvPr/>
        </p:nvGrpSpPr>
        <p:grpSpPr>
          <a:xfrm>
            <a:off x="2992320" y="2781360"/>
            <a:ext cx="3310920" cy="3698280"/>
            <a:chOff x="2992320" y="2781360"/>
            <a:chExt cx="3310920" cy="3698280"/>
          </a:xfrm>
        </p:grpSpPr>
        <p:grpSp>
          <p:nvGrpSpPr>
            <p:cNvPr id="411" name="Group 11"/>
            <p:cNvGrpSpPr/>
            <p:nvPr/>
          </p:nvGrpSpPr>
          <p:grpSpPr>
            <a:xfrm>
              <a:off x="2992320" y="2781360"/>
              <a:ext cx="3154320" cy="2578320"/>
              <a:chOff x="2992320" y="2781360"/>
              <a:chExt cx="3154320" cy="2578320"/>
            </a:xfrm>
          </p:grpSpPr>
          <p:pic>
            <p:nvPicPr>
              <p:cNvPr id="412" name="Picture 12" descr="bo10"/>
              <p:cNvPicPr/>
              <p:nvPr/>
            </p:nvPicPr>
            <p:blipFill>
              <a:blip r:embed="rId6"/>
              <a:stretch/>
            </p:blipFill>
            <p:spPr>
              <a:xfrm>
                <a:off x="2992320" y="2781360"/>
                <a:ext cx="2523240" cy="124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13" descr="bo20"/>
              <p:cNvPicPr/>
              <p:nvPr/>
            </p:nvPicPr>
            <p:blipFill>
              <a:blip r:embed="rId7"/>
              <a:stretch/>
            </p:blipFill>
            <p:spPr>
              <a:xfrm>
                <a:off x="2992320" y="3994560"/>
                <a:ext cx="315432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4" name="Picture 14" descr="755075996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2992320" y="4673160"/>
              <a:ext cx="331092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322200" y="189000"/>
            <a:ext cx="1081080" cy="6480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>
            <a:off x="179280" y="404640"/>
            <a:ext cx="58676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2987640" y="6524640"/>
            <a:ext cx="59770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179280" y="549360"/>
            <a:ext cx="586764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2987640" y="6381720"/>
            <a:ext cx="59770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"/>
          <p:cNvSpPr/>
          <p:nvPr/>
        </p:nvSpPr>
        <p:spPr>
          <a:xfrm>
            <a:off x="8748720" y="3429000"/>
            <a:ext cx="0" cy="32400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8604360" y="3429000"/>
            <a:ext cx="1440" cy="324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3006344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8360" y="189000"/>
            <a:ext cx="584280" cy="108252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10"/>
          <p:cNvGrpSpPr/>
          <p:nvPr/>
        </p:nvGrpSpPr>
        <p:grpSpPr>
          <a:xfrm>
            <a:off x="179280" y="3573360"/>
            <a:ext cx="1513080" cy="3097440"/>
            <a:chOff x="179280" y="3573360"/>
            <a:chExt cx="1513080" cy="3097440"/>
          </a:xfrm>
        </p:grpSpPr>
        <p:grpSp>
          <p:nvGrpSpPr>
            <p:cNvPr id="424" name="Group 11"/>
            <p:cNvGrpSpPr/>
            <p:nvPr/>
          </p:nvGrpSpPr>
          <p:grpSpPr>
            <a:xfrm>
              <a:off x="179280" y="3573360"/>
              <a:ext cx="1441440" cy="2158920"/>
              <a:chOff x="179280" y="3573360"/>
              <a:chExt cx="1441440" cy="2158920"/>
            </a:xfrm>
          </p:grpSpPr>
          <p:pic>
            <p:nvPicPr>
              <p:cNvPr id="425" name="Picture 12" descr="bo10"/>
              <p:cNvPicPr/>
              <p:nvPr/>
            </p:nvPicPr>
            <p:blipFill>
              <a:blip r:embed="rId3"/>
              <a:stretch/>
            </p:blipFill>
            <p:spPr>
              <a:xfrm>
                <a:off x="179280" y="3573360"/>
                <a:ext cx="1153080" cy="103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Picture 13" descr="bo20"/>
              <p:cNvPicPr/>
              <p:nvPr/>
            </p:nvPicPr>
            <p:blipFill>
              <a:blip r:embed="rId4"/>
              <a:stretch/>
            </p:blipFill>
            <p:spPr>
              <a:xfrm>
                <a:off x="179280" y="4589280"/>
                <a:ext cx="144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Picture 14" descr="755075996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79280" y="5157720"/>
              <a:ext cx="1513080" cy="151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45840" y="69192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СОБЕРИ ПОСЛОВИЦУ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3780000" y="5083920"/>
            <a:ext cx="40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гонь- хороший слуга,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5447520" y="285192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о плохой хозяин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9"/>
          <p:cNvSpPr/>
          <p:nvPr/>
        </p:nvSpPr>
        <p:spPr>
          <a:xfrm>
            <a:off x="1550160" y="1772640"/>
            <a:ext cx="37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Спички - не игрушка,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5221440" y="40046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огонь- не забава.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1477800" y="400464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Искра мала,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552680" y="328392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а великое пламя рож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93 -0.05874 L -0.00712 -0.32099 E">
                                      <p:cBhvr>
                                        <p:cTn id="14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11656E-006 L -0.24757 -0.32077 E">
                                      <p:cBhvr>
                                        <p:cTn id="18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75763E-007 L 0.2243 0.105 E">
                                      <p:cBhvr>
                                        <p:cTn id="2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3" descr="{301B2F0E-B15E-40CF-AD98-D0E983F88C78}"/>
          <p:cNvPicPr/>
          <p:nvPr/>
        </p:nvPicPr>
        <p:blipFill>
          <a:blip r:embed="rId1"/>
          <a:stretch/>
        </p:blipFill>
        <p:spPr>
          <a:xfrm>
            <a:off x="-12600" y="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" descr=""/>
          <p:cNvPicPr/>
          <p:nvPr/>
        </p:nvPicPr>
        <p:blipFill>
          <a:blip r:embed="rId2"/>
          <a:stretch/>
        </p:blipFill>
        <p:spPr>
          <a:xfrm>
            <a:off x="66600" y="36360"/>
            <a:ext cx="4870440" cy="190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169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4e3b30"/>
                </a:solidFill>
                <a:latin typeface="Franklin Gothic Book"/>
              </a:rPr>
              <a:t>Неправильное обращение с электробытовыми приборами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4e3b30"/>
                </a:solidFill>
                <a:latin typeface="Franklin Gothic Book"/>
              </a:rPr>
              <a:t>Неисправная электропроводка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4e3b30"/>
                </a:solidFill>
                <a:latin typeface="Franklin Gothic Book"/>
              </a:rPr>
              <a:t>Возгорание телевизора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4e3b30"/>
                </a:solidFill>
                <a:latin typeface="Franklin Gothic Book"/>
              </a:rPr>
              <a:t>Утечка газа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4e3b30"/>
                </a:solidFill>
                <a:latin typeface="Franklin Gothic Book"/>
              </a:rPr>
              <a:t>Детские шалости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590400" y="312840"/>
            <a:ext cx="77774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 причин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а  в  доме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3" name="Picture 9" descr="3006344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5040" y="93600"/>
            <a:ext cx="584280" cy="1082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3006344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95400"/>
            <a:ext cx="584280" cy="108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300634416"/>
          <p:cNvPicPr/>
          <p:nvPr/>
        </p:nvPicPr>
        <p:blipFill>
          <a:blip r:embed="rId5"/>
          <a:stretch/>
        </p:blipFill>
        <p:spPr>
          <a:xfrm>
            <a:off x="298440" y="5516640"/>
            <a:ext cx="584280" cy="1082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" descr="300634416"/>
          <p:cNvPicPr/>
          <p:nvPr/>
        </p:nvPicPr>
        <p:blipFill>
          <a:blip r:embed="rId6"/>
          <a:stretch/>
        </p:blipFill>
        <p:spPr>
          <a:xfrm>
            <a:off x="8261280" y="5516640"/>
            <a:ext cx="584280" cy="108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285840" y="2781360"/>
            <a:ext cx="3784680" cy="314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4487760" y="3284640"/>
            <a:ext cx="4230720" cy="337500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3"/>
          <a:stretch/>
        </p:blipFill>
        <p:spPr>
          <a:xfrm>
            <a:off x="96840" y="55440"/>
            <a:ext cx="8474040" cy="962280"/>
          </a:xfrm>
          <a:prstGeom prst="rect">
            <a:avLst/>
          </a:prstGeom>
          <a:ln w="0">
            <a:noFill/>
          </a:ln>
        </p:spPr>
      </p:pic>
      <p:pic>
        <p:nvPicPr>
          <p:cNvPr id="450" name="Схема 7" descr=""/>
          <p:cNvPicPr/>
          <p:nvPr/>
        </p:nvPicPr>
        <p:blipFill>
          <a:blip r:embed="rId4"/>
          <a:stretch/>
        </p:blipFill>
        <p:spPr>
          <a:xfrm>
            <a:off x="231840" y="115920"/>
            <a:ext cx="8637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63720" y="-36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Medium"/>
              </a:rPr>
              <a:t>ВЫЗОВИ ПОЖАРНУЮ ОХРАНУ ПО ТЕЛЕФОНУ 01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28240" y="2565360"/>
            <a:ext cx="8939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назови точный адрес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фамилию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объясни, как лучше проехать к дом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4000" spc="-1" strike="noStrike">
                <a:solidFill>
                  <a:srgbClr val="0000cc"/>
                </a:solidFill>
                <a:latin typeface="Franklin Gothic Book"/>
              </a:rPr>
              <a:t>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4" descr="image901"/>
          <p:cNvPicPr/>
          <p:nvPr/>
        </p:nvPicPr>
        <p:blipFill>
          <a:blip r:embed="rId1"/>
          <a:stretch/>
        </p:blipFill>
        <p:spPr>
          <a:xfrm>
            <a:off x="6156360" y="1628640"/>
            <a:ext cx="2519280" cy="280836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0"/>
          <p:cNvGrpSpPr/>
          <p:nvPr/>
        </p:nvGrpSpPr>
        <p:grpSpPr>
          <a:xfrm>
            <a:off x="243000" y="549360"/>
            <a:ext cx="1512720" cy="2592000"/>
            <a:chOff x="243000" y="549360"/>
            <a:chExt cx="1512720" cy="2592000"/>
          </a:xfrm>
        </p:grpSpPr>
        <p:grpSp>
          <p:nvGrpSpPr>
            <p:cNvPr id="455" name="Group 11"/>
            <p:cNvGrpSpPr/>
            <p:nvPr/>
          </p:nvGrpSpPr>
          <p:grpSpPr>
            <a:xfrm>
              <a:off x="243000" y="549360"/>
              <a:ext cx="1441080" cy="1807200"/>
              <a:chOff x="243000" y="549360"/>
              <a:chExt cx="1441080" cy="1807200"/>
            </a:xfrm>
          </p:grpSpPr>
          <p:pic>
            <p:nvPicPr>
              <p:cNvPr id="456" name="Picture 12" descr="bo10"/>
              <p:cNvPicPr/>
              <p:nvPr/>
            </p:nvPicPr>
            <p:blipFill>
              <a:blip r:embed="rId2"/>
              <a:stretch/>
            </p:blipFill>
            <p:spPr>
              <a:xfrm>
                <a:off x="243000" y="549360"/>
                <a:ext cx="1152720" cy="86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13" descr="bo20"/>
              <p:cNvPicPr/>
              <p:nvPr/>
            </p:nvPicPr>
            <p:blipFill>
              <a:blip r:embed="rId3"/>
              <a:stretch/>
            </p:blipFill>
            <p:spPr>
              <a:xfrm>
                <a:off x="243000" y="1399680"/>
                <a:ext cx="1441080" cy="956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Picture 14" descr="755075996"/>
            <p:cNvPicPr/>
            <p:nvPr/>
          </p:nvPicPr>
          <p:blipFill>
            <a:blip r:embed="rId4"/>
            <a:stretch/>
          </p:blipFill>
          <p:spPr>
            <a:xfrm>
              <a:off x="243000" y="1875240"/>
              <a:ext cx="1512720" cy="126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ема</cp:lastModifiedBy>
  <dcterms:modified xsi:type="dcterms:W3CDTF">2015-01-22T09:29:52Z</dcterms:modified>
  <cp:revision>54</cp:revision>
  <dc:subject/>
  <dc:title>PowerPoint Presentation</dc:title>
</cp:coreProperties>
</file>