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%D0%A3%D1%81%D0%B0%D1%82.wav" ContentType="audio/x-wav"/>
  <Override PartName="/ppt/media/image4.png" ContentType="image/png"/>
  <Override PartName="/ppt/media/%D0%A3%D1%81%20%D0%BD%D1%8F%D0%BD%D1%8C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A56-B504-4A54-B7DF-AFE157475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5E5C-648D-4997-BA83-668B0EEF1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1C5-2621-4F3E-952B-32CFEF7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142-D1D7-48B0-A2FF-8251888C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DAF-9C16-490F-B772-0836EEE0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30C-62E9-48EC-B75F-176DF7C9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C33-3C3F-4018-8146-41777DE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F1-C104-49DC-84B2-E848BA55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9A7-0D89-433D-80E5-43223286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2EB-03A6-4DC5-8F23-D8881E58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DF8-8E53-40F8-B109-0B71C3E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D73-CCB9-4AE0-A1DA-2041912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2C0-377A-48AC-ADFF-77A58DC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A64-6A34-4DD3-BACE-B4A2B9B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175-CCB3-4A8C-AC43-32A213F19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%20&#1085;&#1103;&#1085;&#110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%20&#1085;&#1103;&#1085;&#110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897200" y="163440"/>
            <a:ext cx="534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ача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63800" y="161604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9e"/>
                </a:solidFill>
                <a:latin typeface="Comic Sans MS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474840" y="2368440"/>
            <a:ext cx="8194320" cy="26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 из "Словари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сстоя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йч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…кол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…ф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тр…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р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ш…н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2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3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4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5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6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7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8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9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0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1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2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3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4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5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6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35"/>
          <p:cNvGrpSpPr/>
          <p:nvPr/>
        </p:nvGrpSpPr>
        <p:grpSpPr>
          <a:xfrm>
            <a:off x="933480" y="1262160"/>
            <a:ext cx="461880" cy="474480"/>
            <a:chOff x="933480" y="1262160"/>
            <a:chExt cx="461880" cy="474480"/>
          </a:xfrm>
        </p:grpSpPr>
        <p:pic>
          <p:nvPicPr>
            <p:cNvPr id="47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126216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Овал 35"/>
          <p:cNvGrpSpPr/>
          <p:nvPr/>
        </p:nvGrpSpPr>
        <p:grpSpPr>
          <a:xfrm>
            <a:off x="927000" y="3614760"/>
            <a:ext cx="463680" cy="480960"/>
            <a:chOff x="927000" y="3614760"/>
            <a:chExt cx="463680" cy="480960"/>
          </a:xfrm>
        </p:grpSpPr>
        <p:pic>
          <p:nvPicPr>
            <p:cNvPr id="48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361476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Овал 35"/>
          <p:cNvGrpSpPr/>
          <p:nvPr/>
        </p:nvGrpSpPr>
        <p:grpSpPr>
          <a:xfrm>
            <a:off x="933480" y="5900760"/>
            <a:ext cx="461880" cy="480960"/>
            <a:chOff x="933480" y="5900760"/>
            <a:chExt cx="461880" cy="480960"/>
          </a:xfrm>
        </p:grpSpPr>
        <p:pic>
          <p:nvPicPr>
            <p:cNvPr id="485" name="Овал 35" descr=""/>
            <p:cNvPicPr/>
            <p:nvPr/>
          </p:nvPicPr>
          <p:blipFill>
            <a:blip r:embed="rId4"/>
            <a:stretch/>
          </p:blipFill>
          <p:spPr>
            <a:xfrm>
              <a:off x="933480" y="59007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488" name="Овал 35" descr=""/>
            <p:cNvPicPr/>
            <p:nvPr/>
          </p:nvPicPr>
          <p:blipFill>
            <a:blip r:embed="rId5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49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Овал 35"/>
          <p:cNvGrpSpPr/>
          <p:nvPr/>
        </p:nvGrpSpPr>
        <p:grpSpPr>
          <a:xfrm>
            <a:off x="927000" y="2846520"/>
            <a:ext cx="463680" cy="476280"/>
            <a:chOff x="927000" y="2846520"/>
            <a:chExt cx="463680" cy="476280"/>
          </a:xfrm>
        </p:grpSpPr>
        <p:pic>
          <p:nvPicPr>
            <p:cNvPr id="49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28465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4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Овал 35"/>
          <p:cNvGrpSpPr/>
          <p:nvPr/>
        </p:nvGrpSpPr>
        <p:grpSpPr>
          <a:xfrm>
            <a:off x="933480" y="5132520"/>
            <a:ext cx="461880" cy="482400"/>
            <a:chOff x="933480" y="5132520"/>
            <a:chExt cx="461880" cy="482400"/>
          </a:xfrm>
        </p:grpSpPr>
        <p:pic>
          <p:nvPicPr>
            <p:cNvPr id="50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13252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0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71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2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882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30625 2.07216E-006 E">
                                      <p:cBhvr>
                                        <p:cTn id="1885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890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7512E-006 L -0.2625 4.87512E-006 E">
                                      <p:cBhvr>
                                        <p:cTn id="1893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898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1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02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3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91489E-006 L -0.32413 -1.91489E-006 E">
                                      <p:cBhvr>
                                        <p:cTn id="191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1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0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921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5.18039E-007 L 0.1993 -5.18039E-007 E">
                                      <p:cBhvr>
                                        <p:cTn id="1924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4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0993 3.79278E-006 E">
                                      <p:cBhvr>
                                        <p:cTn id="1962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967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5.3654E-007 L 0.17483 5.3654E-007 E">
                                      <p:cBhvr>
                                        <p:cTn id="197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975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7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990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94" dur="1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95" dur="1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19334E-006 L -0.17604 -1.19334E-006 E">
                                      <p:cBhvr>
                                        <p:cTn id="2008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3368 3.55227E-006 E">
                                      <p:cBhvr>
                                        <p:cTn id="2016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2021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4" dur="1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25" dur="1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26" dur="1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5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2036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9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1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2051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5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2057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2063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2069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2075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2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6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2087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2093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…рк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т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ту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…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…лов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…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л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л…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2" descr="krista08"/>
          <p:cNvPicPr/>
          <p:nvPr/>
        </p:nvPicPr>
        <p:blipFill>
          <a:blip r:embed="rId1"/>
          <a:stretch/>
        </p:blipFill>
        <p:spPr>
          <a:xfrm>
            <a:off x="6978600" y="2846520"/>
            <a:ext cx="2225880" cy="2365200"/>
          </a:xfrm>
          <a:prstGeom prst="rect">
            <a:avLst/>
          </a:prstGeom>
          <a:ln w="0">
            <a:noFill/>
          </a:ln>
        </p:spPr>
      </p:pic>
      <p:sp>
        <p:nvSpPr>
          <p:cNvPr id="512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3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5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6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7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8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9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0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1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2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3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4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5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6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7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28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52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53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Овал 35"/>
          <p:cNvGrpSpPr/>
          <p:nvPr/>
        </p:nvGrpSpPr>
        <p:grpSpPr>
          <a:xfrm>
            <a:off x="927000" y="2809800"/>
            <a:ext cx="463680" cy="476280"/>
            <a:chOff x="927000" y="2809800"/>
            <a:chExt cx="463680" cy="476280"/>
          </a:xfrm>
        </p:grpSpPr>
        <p:pic>
          <p:nvPicPr>
            <p:cNvPr id="53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280980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Овал 35"/>
          <p:cNvGrpSpPr/>
          <p:nvPr/>
        </p:nvGrpSpPr>
        <p:grpSpPr>
          <a:xfrm>
            <a:off x="933480" y="4400640"/>
            <a:ext cx="461880" cy="482400"/>
            <a:chOff x="933480" y="4400640"/>
            <a:chExt cx="461880" cy="482400"/>
          </a:xfrm>
        </p:grpSpPr>
        <p:pic>
          <p:nvPicPr>
            <p:cNvPr id="538" name="Овал 35" descr=""/>
            <p:cNvPicPr/>
            <p:nvPr/>
          </p:nvPicPr>
          <p:blipFill>
            <a:blip r:embed="rId5"/>
            <a:stretch/>
          </p:blipFill>
          <p:spPr>
            <a:xfrm>
              <a:off x="933480" y="440064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025640" y="449748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Овал 35"/>
          <p:cNvGrpSpPr/>
          <p:nvPr/>
        </p:nvGrpSpPr>
        <p:grpSpPr>
          <a:xfrm>
            <a:off x="927000" y="5211720"/>
            <a:ext cx="463680" cy="476280"/>
            <a:chOff x="927000" y="5211720"/>
            <a:chExt cx="463680" cy="476280"/>
          </a:xfrm>
        </p:grpSpPr>
        <p:pic>
          <p:nvPicPr>
            <p:cNvPr id="54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52117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01772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Овал 35"/>
          <p:cNvGrpSpPr/>
          <p:nvPr/>
        </p:nvGrpSpPr>
        <p:grpSpPr>
          <a:xfrm>
            <a:off x="933480" y="1262160"/>
            <a:ext cx="461880" cy="474480"/>
            <a:chOff x="933480" y="1262160"/>
            <a:chExt cx="461880" cy="474480"/>
          </a:xfrm>
        </p:grpSpPr>
        <p:pic>
          <p:nvPicPr>
            <p:cNvPr id="544" name="Овал 35" descr=""/>
            <p:cNvPicPr/>
            <p:nvPr/>
          </p:nvPicPr>
          <p:blipFill>
            <a:blip r:embed="rId7"/>
            <a:stretch/>
          </p:blipFill>
          <p:spPr>
            <a:xfrm>
              <a:off x="933480" y="126216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Овал 35"/>
          <p:cNvGrpSpPr/>
          <p:nvPr/>
        </p:nvGrpSpPr>
        <p:grpSpPr>
          <a:xfrm>
            <a:off x="933480" y="3591000"/>
            <a:ext cx="461880" cy="480960"/>
            <a:chOff x="933480" y="3591000"/>
            <a:chExt cx="461880" cy="480960"/>
          </a:xfrm>
        </p:grpSpPr>
        <p:pic>
          <p:nvPicPr>
            <p:cNvPr id="54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359100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Овал 35"/>
          <p:cNvGrpSpPr/>
          <p:nvPr/>
        </p:nvGrpSpPr>
        <p:grpSpPr>
          <a:xfrm>
            <a:off x="927000" y="5931000"/>
            <a:ext cx="463680" cy="476280"/>
            <a:chOff x="927000" y="5931000"/>
            <a:chExt cx="463680" cy="476280"/>
          </a:xfrm>
        </p:grpSpPr>
        <p:pic>
          <p:nvPicPr>
            <p:cNvPr id="550" name="Овал 35" descr=""/>
            <p:cNvPicPr/>
            <p:nvPr/>
          </p:nvPicPr>
          <p:blipFill>
            <a:blip r:embed="rId9"/>
            <a:stretch/>
          </p:blipFill>
          <p:spPr>
            <a:xfrm>
              <a:off x="927000" y="593100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101772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98" dur="indefinite" restart="never" nodeType="tmRoot">
          <p:childTnLst>
            <p:seq>
              <p:cTn id="2099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100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7204 3.79278E-006 E">
                                      <p:cBhvr>
                                        <p:cTn id="2103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108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1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2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3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123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8455 5.3654E-007 E">
                                      <p:cBhvr>
                                        <p:cTn id="2126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131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4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35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6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146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49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50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1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161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15277 -1.19334E-006 E">
                                      <p:cBhvr>
                                        <p:cTn id="2164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16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19948 3.55227E-006 E">
                                      <p:cBhvr>
                                        <p:cTn id="217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7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192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95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96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7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6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207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10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11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2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1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2222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222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9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2230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2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23247 4.87512E-006 E">
                                      <p:cBhvr>
                                        <p:cTn id="2233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238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2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43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2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2253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2625 -1.91489E-006 E">
                                      <p:cBhvr>
                                        <p:cTn id="2256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28976 -5.18039E-007 E">
                                      <p:cBhvr>
                                        <p:cTn id="2264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26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72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73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4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2284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2290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2302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0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230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2314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2320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29">
            <a:hlinkClick r:id="" action="ppaction://hlinkshowjump?jump=endshow"/>
          </p:cNvPr>
          <p:cNvSpPr/>
          <p:nvPr/>
        </p:nvSpPr>
        <p:spPr>
          <a:xfrm>
            <a:off x="7866000" y="5896080"/>
            <a:ext cx="990720" cy="555480"/>
          </a:xfrm>
          <a:custGeom>
            <a:avLst/>
            <a:gdLst>
              <a:gd name="textAreaLeft" fmla="*/ 36000 w 990720"/>
              <a:gd name="textAreaRight" fmla="*/ 954720 w 990720"/>
              <a:gd name="textAreaTop" fmla="*/ 36000 h 555480"/>
              <a:gd name="textAreaBottom" fmla="*/ 519480 h 555480"/>
            </a:gdLst>
            <a:ahLst/>
            <a:rect l="textAreaLeft" t="textAreaTop" r="textAreaRight" b="textAreaBottom"/>
            <a:pathLst>
              <a:path w="38513" h="21600">
                <a:moveTo>
                  <a:pt x="0" y="0"/>
                </a:moveTo>
                <a:lnTo>
                  <a:pt x="38513" y="0"/>
                </a:lnTo>
                <a:lnTo>
                  <a:pt x="38513" y="21600"/>
                </a:lnTo>
                <a:lnTo>
                  <a:pt x="0" y="21600"/>
                </a:lnTo>
                <a:close/>
              </a:path>
              <a:path fill="lightenLess" w="38513" h="21600">
                <a:moveTo>
                  <a:pt x="0" y="0"/>
                </a:moveTo>
                <a:lnTo>
                  <a:pt x="38513" y="0"/>
                </a:lnTo>
                <a:lnTo>
                  <a:pt x="37113" y="1400"/>
                </a:lnTo>
                <a:lnTo>
                  <a:pt x="1400" y="1400"/>
                </a:lnTo>
                <a:close/>
              </a:path>
              <a:path fill="darken" w="38513" h="21600">
                <a:moveTo>
                  <a:pt x="38513" y="0"/>
                </a:moveTo>
                <a:lnTo>
                  <a:pt x="38513" y="21600"/>
                </a:lnTo>
                <a:lnTo>
                  <a:pt x="37113" y="20200"/>
                </a:lnTo>
                <a:lnTo>
                  <a:pt x="37113" y="1400"/>
                </a:lnTo>
                <a:close/>
              </a:path>
              <a:path fill="darkenLess" w="38513" h="21600">
                <a:moveTo>
                  <a:pt x="38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13" y="20200"/>
                </a:lnTo>
                <a:close/>
              </a:path>
              <a:path fill="lighten" w="38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13" h="21600">
                <a:moveTo>
                  <a:pt x="22756" y="10800"/>
                </a:moveTo>
                <a:lnTo>
                  <a:pt x="12250" y="17806"/>
                </a:lnTo>
                <a:lnTo>
                  <a:pt x="12250" y="3794"/>
                </a:lnTo>
                <a:close/>
              </a:path>
              <a:path fill="darken" w="38513" h="21600">
                <a:moveTo>
                  <a:pt x="24601" y="3794"/>
                </a:moveTo>
                <a:lnTo>
                  <a:pt x="24601" y="17806"/>
                </a:lnTo>
                <a:lnTo>
                  <a:pt x="26263" y="17806"/>
                </a:lnTo>
                <a:lnTo>
                  <a:pt x="26263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кр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р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…н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г…р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аг…з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рг…н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мид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ок…л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2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3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4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5" name="WordArt 17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6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7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8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9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0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1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2" name="WordArt 24"/>
          <p:cNvSpPr txBox="1"/>
          <p:nvPr/>
        </p:nvSpPr>
        <p:spPr>
          <a:xfrm>
            <a:off x="6548400" y="292104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3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4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5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6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578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57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58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Овал 35"/>
          <p:cNvGrpSpPr/>
          <p:nvPr/>
        </p:nvGrpSpPr>
        <p:grpSpPr>
          <a:xfrm>
            <a:off x="927000" y="2786040"/>
            <a:ext cx="463680" cy="474840"/>
            <a:chOff x="927000" y="2786040"/>
            <a:chExt cx="463680" cy="474840"/>
          </a:xfrm>
        </p:grpSpPr>
        <p:pic>
          <p:nvPicPr>
            <p:cNvPr id="58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2786040"/>
              <a:ext cx="4636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1017720" y="28796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Овал 35"/>
          <p:cNvGrpSpPr/>
          <p:nvPr/>
        </p:nvGrpSpPr>
        <p:grpSpPr>
          <a:xfrm>
            <a:off x="927000" y="4340160"/>
            <a:ext cx="463680" cy="480960"/>
            <a:chOff x="927000" y="4340160"/>
            <a:chExt cx="463680" cy="480960"/>
          </a:xfrm>
        </p:grpSpPr>
        <p:pic>
          <p:nvPicPr>
            <p:cNvPr id="588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434016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1017720" y="44370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Овал 35"/>
          <p:cNvGrpSpPr/>
          <p:nvPr/>
        </p:nvGrpSpPr>
        <p:grpSpPr>
          <a:xfrm>
            <a:off x="933480" y="5224320"/>
            <a:ext cx="461880" cy="481320"/>
            <a:chOff x="933480" y="5224320"/>
            <a:chExt cx="461880" cy="481320"/>
          </a:xfrm>
        </p:grpSpPr>
        <p:pic>
          <p:nvPicPr>
            <p:cNvPr id="591" name="Овал 35" descr=""/>
            <p:cNvPicPr/>
            <p:nvPr/>
          </p:nvPicPr>
          <p:blipFill>
            <a:blip r:embed="rId6"/>
            <a:stretch/>
          </p:blipFill>
          <p:spPr>
            <a:xfrm>
              <a:off x="933480" y="5224320"/>
              <a:ext cx="46188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025640" y="53197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Овал 35"/>
          <p:cNvGrpSpPr/>
          <p:nvPr/>
        </p:nvGrpSpPr>
        <p:grpSpPr>
          <a:xfrm>
            <a:off x="933480" y="1262160"/>
            <a:ext cx="461880" cy="480960"/>
            <a:chOff x="933480" y="1262160"/>
            <a:chExt cx="461880" cy="480960"/>
          </a:xfrm>
        </p:grpSpPr>
        <p:pic>
          <p:nvPicPr>
            <p:cNvPr id="594" name="Овал 35" descr=""/>
            <p:cNvPicPr/>
            <p:nvPr/>
          </p:nvPicPr>
          <p:blipFill>
            <a:blip r:embed="rId7"/>
            <a:stretch/>
          </p:blipFill>
          <p:spPr>
            <a:xfrm>
              <a:off x="933480" y="12621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Овал 35"/>
          <p:cNvGrpSpPr/>
          <p:nvPr/>
        </p:nvGrpSpPr>
        <p:grpSpPr>
          <a:xfrm>
            <a:off x="933480" y="3591000"/>
            <a:ext cx="461880" cy="480960"/>
            <a:chOff x="933480" y="3591000"/>
            <a:chExt cx="461880" cy="480960"/>
          </a:xfrm>
        </p:grpSpPr>
        <p:pic>
          <p:nvPicPr>
            <p:cNvPr id="5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359100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Овал 35"/>
          <p:cNvGrpSpPr/>
          <p:nvPr/>
        </p:nvGrpSpPr>
        <p:grpSpPr>
          <a:xfrm>
            <a:off x="927000" y="5967360"/>
            <a:ext cx="463680" cy="482760"/>
            <a:chOff x="927000" y="5967360"/>
            <a:chExt cx="463680" cy="482760"/>
          </a:xfrm>
        </p:grpSpPr>
        <p:pic>
          <p:nvPicPr>
            <p:cNvPr id="600" name="Овал 35" descr=""/>
            <p:cNvPicPr/>
            <p:nvPr/>
          </p:nvPicPr>
          <p:blipFill>
            <a:blip r:embed="rId9"/>
            <a:stretch/>
          </p:blipFill>
          <p:spPr>
            <a:xfrm>
              <a:off x="927000" y="5967360"/>
              <a:ext cx="4636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01772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31" dur="indefinite" restart="never" nodeType="tmRoot">
          <p:childTnLst>
            <p:seq>
              <p:cTn id="233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3628 3.79278E-006 E">
                                      <p:cBhvr>
                                        <p:cTn id="2336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44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45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6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15416 5.3654E-007 E">
                                      <p:cBhvr>
                                        <p:cTn id="2359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364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7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8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9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2379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2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2" dur="1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83" dur="1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4" dur="1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39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3368 -1.19334E-006 E">
                                      <p:cBhvr>
                                        <p:cTn id="2397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1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402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2812 3.55227E-006 E">
                                      <p:cBhvr>
                                        <p:cTn id="2405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2410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3" dur="1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14" dur="1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5" dur="1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242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2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8" dur="1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29" dur="1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0" dur="1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440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43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44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45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2458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463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61795E-006 L -0.27482 2.61795E-006 E">
                                      <p:cBhvr>
                                        <p:cTn id="2466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0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471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4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75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76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486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204 -1.91489E-006 E">
                                      <p:cBhvr>
                                        <p:cTn id="2489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3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2494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2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30208 -5.18039E-007 E">
                                      <p:cBhvr>
                                        <p:cTn id="249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1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502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0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0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517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8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529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535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0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541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4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547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2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2553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2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2559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6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т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г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л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т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г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кру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ст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нт…р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18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19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9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33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3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1" name="WordArt 3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" name="WordArt 3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4" name="WordArt 38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5" name="WordArt 39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6" name="WordArt 43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78" name="Овал 35"/>
          <p:cNvGrpSpPr/>
          <p:nvPr/>
        </p:nvGrpSpPr>
        <p:grpSpPr>
          <a:xfrm>
            <a:off x="927000" y="579600"/>
            <a:ext cx="463680" cy="474480"/>
            <a:chOff x="927000" y="579600"/>
            <a:chExt cx="463680" cy="474480"/>
          </a:xfrm>
        </p:grpSpPr>
        <p:pic>
          <p:nvPicPr>
            <p:cNvPr id="79" name="Овал 35" descr=""/>
            <p:cNvPicPr/>
            <p:nvPr/>
          </p:nvPicPr>
          <p:blipFill>
            <a:blip r:embed="rId2"/>
            <a:stretch/>
          </p:blipFill>
          <p:spPr>
            <a:xfrm>
              <a:off x="927000" y="57960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Овал 35"/>
          <p:cNvGrpSpPr/>
          <p:nvPr/>
        </p:nvGrpSpPr>
        <p:grpSpPr>
          <a:xfrm>
            <a:off x="927000" y="1328760"/>
            <a:ext cx="463680" cy="476280"/>
            <a:chOff x="927000" y="1328760"/>
            <a:chExt cx="463680" cy="476280"/>
          </a:xfrm>
        </p:grpSpPr>
        <p:pic>
          <p:nvPicPr>
            <p:cNvPr id="8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132876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017720" y="14209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Овал 35"/>
          <p:cNvGrpSpPr/>
          <p:nvPr/>
        </p:nvGrpSpPr>
        <p:grpSpPr>
          <a:xfrm>
            <a:off x="927000" y="2103480"/>
            <a:ext cx="463680" cy="474480"/>
            <a:chOff x="927000" y="2103480"/>
            <a:chExt cx="463680" cy="474480"/>
          </a:xfrm>
        </p:grpSpPr>
        <p:pic>
          <p:nvPicPr>
            <p:cNvPr id="8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21034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Овал 35"/>
          <p:cNvGrpSpPr/>
          <p:nvPr/>
        </p:nvGrpSpPr>
        <p:grpSpPr>
          <a:xfrm>
            <a:off x="927000" y="2809800"/>
            <a:ext cx="463680" cy="476280"/>
            <a:chOff x="927000" y="2809800"/>
            <a:chExt cx="463680" cy="476280"/>
          </a:xfrm>
        </p:grpSpPr>
        <p:pic>
          <p:nvPicPr>
            <p:cNvPr id="88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280980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Овал 35"/>
          <p:cNvGrpSpPr/>
          <p:nvPr/>
        </p:nvGrpSpPr>
        <p:grpSpPr>
          <a:xfrm>
            <a:off x="927000" y="3591000"/>
            <a:ext cx="463680" cy="480960"/>
            <a:chOff x="927000" y="3591000"/>
            <a:chExt cx="463680" cy="480960"/>
          </a:xfrm>
        </p:grpSpPr>
        <p:pic>
          <p:nvPicPr>
            <p:cNvPr id="9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359100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Овал 35"/>
          <p:cNvGrpSpPr/>
          <p:nvPr/>
        </p:nvGrpSpPr>
        <p:grpSpPr>
          <a:xfrm>
            <a:off x="933480" y="5900760"/>
            <a:ext cx="461880" cy="480960"/>
            <a:chOff x="933480" y="5900760"/>
            <a:chExt cx="461880" cy="480960"/>
          </a:xfrm>
        </p:grpSpPr>
        <p:pic>
          <p:nvPicPr>
            <p:cNvPr id="94" name="Овал 35" descr=""/>
            <p:cNvPicPr/>
            <p:nvPr/>
          </p:nvPicPr>
          <p:blipFill>
            <a:blip r:embed="rId7"/>
            <a:stretch/>
          </p:blipFill>
          <p:spPr>
            <a:xfrm>
              <a:off x="933480" y="59007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Овал 35"/>
          <p:cNvGrpSpPr/>
          <p:nvPr/>
        </p:nvGrpSpPr>
        <p:grpSpPr>
          <a:xfrm>
            <a:off x="933480" y="5132520"/>
            <a:ext cx="461880" cy="482400"/>
            <a:chOff x="933480" y="5132520"/>
            <a:chExt cx="461880" cy="482400"/>
          </a:xfrm>
        </p:grpSpPr>
        <p:pic>
          <p:nvPicPr>
            <p:cNvPr id="10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13252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4184 -0.00185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2.5E-006 5.3654E-007 L 0.1724 5.3654E-007 E">
                                      <p:cBhvr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28976 2.07216E-006 E">
                                      <p:cBhvr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7512E-006 L -0.28958 4.87512E-006 E">
                                      <p:cBhvr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1.34135E-006 L 0.17204 1.34135E-006 E">
                                      <p:cBhvr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1.66667E-006 2.30342E-006 L -0.28143 2.30342E-006 E">
                                      <p:cBhvr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63645E-006 L -0.28455 -2.63645E-006 E">
                                      <p:cBhvr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69103E-006 L 0.17204 3.69103E-006 E">
                                      <p:cBhvr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с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блиот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л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зд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з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лер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г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р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krista08"/>
          <p:cNvPicPr/>
          <p:nvPr/>
        </p:nvPicPr>
        <p:blipFill>
          <a:blip r:embed="rId1"/>
          <a:stretch/>
        </p:blipFill>
        <p:spPr>
          <a:xfrm>
            <a:off x="6978600" y="2846520"/>
            <a:ext cx="2225880" cy="23652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2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3" name="WordArt 2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4" name="WordArt 2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5" name="WordArt 2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6" name="WordArt 2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7" name="WordArt 2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8" name="WordArt 2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WordArt 3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0" name="WordArt 3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1" name="WordArt 3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2" name="WordArt 3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3" name="WordArt 3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4" name="WordArt 3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5" name="WordArt 3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6" name="WordArt 3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7" name="WordArt 3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28" name="Овал 35"/>
          <p:cNvGrpSpPr/>
          <p:nvPr/>
        </p:nvGrpSpPr>
        <p:grpSpPr>
          <a:xfrm>
            <a:off x="927000" y="579600"/>
            <a:ext cx="463680" cy="474480"/>
            <a:chOff x="927000" y="579600"/>
            <a:chExt cx="463680" cy="474480"/>
          </a:xfrm>
        </p:grpSpPr>
        <p:pic>
          <p:nvPicPr>
            <p:cNvPr id="129" name="Овал 35" descr=""/>
            <p:cNvPicPr/>
            <p:nvPr/>
          </p:nvPicPr>
          <p:blipFill>
            <a:blip r:embed="rId2"/>
            <a:stretch/>
          </p:blipFill>
          <p:spPr>
            <a:xfrm>
              <a:off x="927000" y="57960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13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Овал 35"/>
          <p:cNvGrpSpPr/>
          <p:nvPr/>
        </p:nvGrpSpPr>
        <p:grpSpPr>
          <a:xfrm>
            <a:off x="933480" y="2809800"/>
            <a:ext cx="461880" cy="476280"/>
            <a:chOff x="933480" y="2809800"/>
            <a:chExt cx="461880" cy="476280"/>
          </a:xfrm>
        </p:grpSpPr>
        <p:pic>
          <p:nvPicPr>
            <p:cNvPr id="135" name="Овал 35" descr=""/>
            <p:cNvPicPr/>
            <p:nvPr/>
          </p:nvPicPr>
          <p:blipFill>
            <a:blip r:embed="rId4"/>
            <a:stretch/>
          </p:blipFill>
          <p:spPr>
            <a:xfrm>
              <a:off x="933480" y="280980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Овал 35"/>
          <p:cNvGrpSpPr/>
          <p:nvPr/>
        </p:nvGrpSpPr>
        <p:grpSpPr>
          <a:xfrm>
            <a:off x="927000" y="4413240"/>
            <a:ext cx="463680" cy="476280"/>
            <a:chOff x="927000" y="4413240"/>
            <a:chExt cx="463680" cy="476280"/>
          </a:xfrm>
        </p:grpSpPr>
        <p:pic>
          <p:nvPicPr>
            <p:cNvPr id="138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441324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17720" y="45054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Овал 35"/>
          <p:cNvGrpSpPr/>
          <p:nvPr/>
        </p:nvGrpSpPr>
        <p:grpSpPr>
          <a:xfrm>
            <a:off x="933480" y="5211720"/>
            <a:ext cx="461880" cy="476280"/>
            <a:chOff x="933480" y="5211720"/>
            <a:chExt cx="461880" cy="476280"/>
          </a:xfrm>
        </p:grpSpPr>
        <p:pic>
          <p:nvPicPr>
            <p:cNvPr id="141" name="Овал 35" descr=""/>
            <p:cNvPicPr/>
            <p:nvPr/>
          </p:nvPicPr>
          <p:blipFill>
            <a:blip r:embed="rId6"/>
            <a:stretch/>
          </p:blipFill>
          <p:spPr>
            <a:xfrm>
              <a:off x="933480" y="521172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2564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35"/>
          <p:cNvGrpSpPr/>
          <p:nvPr/>
        </p:nvGrpSpPr>
        <p:grpSpPr>
          <a:xfrm>
            <a:off x="933480" y="5900760"/>
            <a:ext cx="461880" cy="480960"/>
            <a:chOff x="933480" y="5900760"/>
            <a:chExt cx="461880" cy="480960"/>
          </a:xfrm>
        </p:grpSpPr>
        <p:pic>
          <p:nvPicPr>
            <p:cNvPr id="144" name="Овал 35" descr=""/>
            <p:cNvPicPr/>
            <p:nvPr/>
          </p:nvPicPr>
          <p:blipFill>
            <a:blip r:embed="rId7"/>
            <a:stretch/>
          </p:blipFill>
          <p:spPr>
            <a:xfrm>
              <a:off x="933480" y="59007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35"/>
          <p:cNvGrpSpPr/>
          <p:nvPr/>
        </p:nvGrpSpPr>
        <p:grpSpPr>
          <a:xfrm>
            <a:off x="927000" y="1262160"/>
            <a:ext cx="463680" cy="474480"/>
            <a:chOff x="927000" y="1262160"/>
            <a:chExt cx="463680" cy="474480"/>
          </a:xfrm>
        </p:grpSpPr>
        <p:pic>
          <p:nvPicPr>
            <p:cNvPr id="147" name="Овал 35" descr=""/>
            <p:cNvPicPr/>
            <p:nvPr/>
          </p:nvPicPr>
          <p:blipFill>
            <a:blip r:embed="rId8"/>
            <a:stretch/>
          </p:blipFill>
          <p:spPr>
            <a:xfrm>
              <a:off x="927000" y="126216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35"/>
          <p:cNvGrpSpPr/>
          <p:nvPr/>
        </p:nvGrpSpPr>
        <p:grpSpPr>
          <a:xfrm>
            <a:off x="927000" y="3591000"/>
            <a:ext cx="463680" cy="480960"/>
            <a:chOff x="927000" y="3591000"/>
            <a:chExt cx="463680" cy="480960"/>
          </a:xfrm>
        </p:grpSpPr>
        <p:pic>
          <p:nvPicPr>
            <p:cNvPr id="150" name="Овал 35" descr=""/>
            <p:cNvPicPr/>
            <p:nvPr/>
          </p:nvPicPr>
          <p:blipFill>
            <a:blip r:embed="rId9"/>
            <a:stretch/>
          </p:blipFill>
          <p:spPr>
            <a:xfrm>
              <a:off x="927000" y="359100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7725 -0.00185 E">
                                      <p:cBhvr>
                                        <p:cTn id="23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36371 5.3654E-007 E">
                                      <p:cBhvr>
                                        <p:cTn id="26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18038 -1.19334E-006 E">
                                      <p:cBhvr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30625 3.55227E-006 E">
                                      <p:cBhvr>
                                        <p:cTn id="30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28976 2.07216E-006 E">
                                      <p:cBhvr>
                                        <p:cTn id="3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18056 4.87512E-006 E">
                                      <p:cBhvr>
                                        <p:cTn id="36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15573 -1.91489E-006 E">
                                      <p:cBhvr>
                                        <p:cTn id="39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63645E-006 L -0.28455 -2.63645E-006 E">
                                      <p:cBhvr>
                                        <p:cTn id="40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8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…в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…б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…в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нж…н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лен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т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21"/>
          <p:cNvSpPr txBox="1"/>
          <p:nvPr/>
        </p:nvSpPr>
        <p:spPr>
          <a:xfrm>
            <a:off x="23256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23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2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2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26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7" name="WordArt 27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8" name="WordArt 28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9" name="WordArt 29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0" name="WordArt 30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1" name="WordArt 31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2" name="WordArt 32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3" name="WordArt 33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4" name="WordArt 34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5" name="WordArt 3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6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178" name="Овал 35"/>
          <p:cNvGrpSpPr/>
          <p:nvPr/>
        </p:nvGrpSpPr>
        <p:grpSpPr>
          <a:xfrm>
            <a:off x="933480" y="1262160"/>
            <a:ext cx="461880" cy="480960"/>
            <a:chOff x="933480" y="1262160"/>
            <a:chExt cx="461880" cy="480960"/>
          </a:xfrm>
        </p:grpSpPr>
        <p:pic>
          <p:nvPicPr>
            <p:cNvPr id="17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12621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Овал 35"/>
          <p:cNvGrpSpPr/>
          <p:nvPr/>
        </p:nvGrpSpPr>
        <p:grpSpPr>
          <a:xfrm>
            <a:off x="933480" y="3651120"/>
            <a:ext cx="461880" cy="482760"/>
            <a:chOff x="933480" y="3651120"/>
            <a:chExt cx="461880" cy="482760"/>
          </a:xfrm>
        </p:grpSpPr>
        <p:pic>
          <p:nvPicPr>
            <p:cNvPr id="182" name="Овал 35" descr=""/>
            <p:cNvPicPr/>
            <p:nvPr/>
          </p:nvPicPr>
          <p:blipFill>
            <a:blip r:embed="rId3"/>
            <a:stretch/>
          </p:blipFill>
          <p:spPr>
            <a:xfrm>
              <a:off x="933480" y="3651120"/>
              <a:ext cx="4618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025640" y="3747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Овал 35"/>
          <p:cNvGrpSpPr/>
          <p:nvPr/>
        </p:nvGrpSpPr>
        <p:grpSpPr>
          <a:xfrm>
            <a:off x="933480" y="5967360"/>
            <a:ext cx="461880" cy="482760"/>
            <a:chOff x="933480" y="5967360"/>
            <a:chExt cx="461880" cy="482760"/>
          </a:xfrm>
        </p:grpSpPr>
        <p:pic>
          <p:nvPicPr>
            <p:cNvPr id="185" name="Овал 35" descr=""/>
            <p:cNvPicPr/>
            <p:nvPr/>
          </p:nvPicPr>
          <p:blipFill>
            <a:blip r:embed="rId4"/>
            <a:stretch/>
          </p:blipFill>
          <p:spPr>
            <a:xfrm>
              <a:off x="933480" y="5967360"/>
              <a:ext cx="4618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02564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Овал 35"/>
          <p:cNvGrpSpPr/>
          <p:nvPr/>
        </p:nvGrpSpPr>
        <p:grpSpPr>
          <a:xfrm>
            <a:off x="927000" y="506520"/>
            <a:ext cx="463680" cy="474480"/>
            <a:chOff x="927000" y="506520"/>
            <a:chExt cx="463680" cy="474480"/>
          </a:xfrm>
        </p:grpSpPr>
        <p:pic>
          <p:nvPicPr>
            <p:cNvPr id="188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50652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Овал 35"/>
          <p:cNvGrpSpPr/>
          <p:nvPr/>
        </p:nvGrpSpPr>
        <p:grpSpPr>
          <a:xfrm>
            <a:off x="927000" y="2066760"/>
            <a:ext cx="463680" cy="481320"/>
            <a:chOff x="927000" y="2066760"/>
            <a:chExt cx="463680" cy="481320"/>
          </a:xfrm>
        </p:grpSpPr>
        <p:pic>
          <p:nvPicPr>
            <p:cNvPr id="19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2066760"/>
              <a:ext cx="46368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17720" y="2163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Овал 35"/>
          <p:cNvGrpSpPr/>
          <p:nvPr/>
        </p:nvGrpSpPr>
        <p:grpSpPr>
          <a:xfrm>
            <a:off x="933480" y="2944800"/>
            <a:ext cx="461880" cy="474840"/>
            <a:chOff x="933480" y="2944800"/>
            <a:chExt cx="461880" cy="474840"/>
          </a:xfrm>
        </p:grpSpPr>
        <p:pic>
          <p:nvPicPr>
            <p:cNvPr id="194" name="Овал 35" descr=""/>
            <p:cNvPicPr/>
            <p:nvPr/>
          </p:nvPicPr>
          <p:blipFill>
            <a:blip r:embed="rId7"/>
            <a:stretch/>
          </p:blipFill>
          <p:spPr>
            <a:xfrm>
              <a:off x="933480" y="2944800"/>
              <a:ext cx="4618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025640" y="30369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1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35"/>
          <p:cNvGrpSpPr/>
          <p:nvPr/>
        </p:nvGrpSpPr>
        <p:grpSpPr>
          <a:xfrm>
            <a:off x="933480" y="5132520"/>
            <a:ext cx="461880" cy="482400"/>
            <a:chOff x="933480" y="5132520"/>
            <a:chExt cx="461880" cy="482400"/>
          </a:xfrm>
        </p:grpSpPr>
        <p:pic>
          <p:nvPicPr>
            <p:cNvPr id="20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13252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2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3.88889E-006 2.07216E-006 L 0.17222 2.07216E-006 E">
                                      <p:cBhvr>
                                        <p:cTn id="48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92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18056 4.87512E-006 E">
                                      <p:cBhvr>
                                        <p:cTn id="4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91489E-006 L 0.23229 -1.91489E-006 E">
                                      <p:cBhvr>
                                        <p:cTn id="51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-2.5E-006 -5.18039E-007 L 0.10643 -5.18039E-007 E">
                                      <p:cBhvr>
                                        <p:cTn id="52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4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5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79278E-006 L -0.22951 -0.00185 E">
                                      <p:cBhvr>
                                        <p:cTn id="56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31996 5.3654E-007 E">
                                      <p:cBhvr>
                                        <p:cTn id="57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0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6232 -1.19334E-006 E">
                                      <p:cBhvr>
                                        <p:cTn id="61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55227E-006 L 0.10625 3.55227E-006 E">
                                      <p:cBhvr>
                                        <p:cTn id="61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стрю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н…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krista08"/>
          <p:cNvPicPr/>
          <p:nvPr/>
        </p:nvPicPr>
        <p:blipFill>
          <a:blip r:embed="rId1"/>
          <a:stretch/>
        </p:blipFill>
        <p:spPr>
          <a:xfrm>
            <a:off x="6978600" y="2846520"/>
            <a:ext cx="2225880" cy="23652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г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н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ст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стю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…м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21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3" name="WordArt 22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4" name="WordArt 23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5" name="WordArt 24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6" name="WordArt 2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7" name="WordArt 26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8" name="WordArt 2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28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0" name="WordArt 29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1" name="WordArt 30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2" name="WordArt 31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3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4" name="WordArt 33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5" name="WordArt 34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6" name="WordArt 3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7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28" name="Овал 35"/>
          <p:cNvGrpSpPr/>
          <p:nvPr/>
        </p:nvGrpSpPr>
        <p:grpSpPr>
          <a:xfrm>
            <a:off x="933480" y="1262160"/>
            <a:ext cx="461880" cy="474480"/>
            <a:chOff x="933480" y="1262160"/>
            <a:chExt cx="461880" cy="474480"/>
          </a:xfrm>
        </p:grpSpPr>
        <p:pic>
          <p:nvPicPr>
            <p:cNvPr id="22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126216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Овал 35"/>
          <p:cNvGrpSpPr/>
          <p:nvPr/>
        </p:nvGrpSpPr>
        <p:grpSpPr>
          <a:xfrm>
            <a:off x="927000" y="3614760"/>
            <a:ext cx="463680" cy="480960"/>
            <a:chOff x="927000" y="3614760"/>
            <a:chExt cx="463680" cy="480960"/>
          </a:xfrm>
        </p:grpSpPr>
        <p:pic>
          <p:nvPicPr>
            <p:cNvPr id="23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361476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Овал 35"/>
          <p:cNvGrpSpPr/>
          <p:nvPr/>
        </p:nvGrpSpPr>
        <p:grpSpPr>
          <a:xfrm>
            <a:off x="927000" y="5999040"/>
            <a:ext cx="463680" cy="474840"/>
            <a:chOff x="927000" y="5999040"/>
            <a:chExt cx="463680" cy="474840"/>
          </a:xfrm>
        </p:grpSpPr>
        <p:pic>
          <p:nvPicPr>
            <p:cNvPr id="23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5999040"/>
              <a:ext cx="4636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238" name="Овал 35" descr=""/>
            <p:cNvPicPr/>
            <p:nvPr/>
          </p:nvPicPr>
          <p:blipFill>
            <a:blip r:embed="rId5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24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Овал 35"/>
          <p:cNvGrpSpPr/>
          <p:nvPr/>
        </p:nvGrpSpPr>
        <p:grpSpPr>
          <a:xfrm>
            <a:off x="927000" y="2846520"/>
            <a:ext cx="463680" cy="476280"/>
            <a:chOff x="927000" y="2846520"/>
            <a:chExt cx="463680" cy="476280"/>
          </a:xfrm>
        </p:grpSpPr>
        <p:pic>
          <p:nvPicPr>
            <p:cNvPr id="24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28465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24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Овал 35"/>
          <p:cNvGrpSpPr/>
          <p:nvPr/>
        </p:nvGrpSpPr>
        <p:grpSpPr>
          <a:xfrm>
            <a:off x="933480" y="5132520"/>
            <a:ext cx="461880" cy="482400"/>
            <a:chOff x="933480" y="5132520"/>
            <a:chExt cx="461880" cy="482400"/>
          </a:xfrm>
        </p:grpSpPr>
        <p:pic>
          <p:nvPicPr>
            <p:cNvPr id="25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13252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2625 2.07216E-006 E">
                                      <p:cBhvr>
                                        <p:cTn id="72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7512E-006 L -0.30625 4.87512E-006 E">
                                      <p:cBhvr>
                                        <p:cTn id="72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37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8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91489E-006 L -0.30625 -1.91489E-006 E">
                                      <p:cBhvr>
                                        <p:cTn id="7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5.18039E-007 L 0.25139 -5.18039E-007 E">
                                      <p:cBhvr>
                                        <p:cTn id="75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64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7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6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4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2534 -0.00185 E">
                                      <p:cBhvr>
                                        <p:cTn id="79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5.3654E-007 L 0.27361 5.3654E-007 E">
                                      <p:cBhvr>
                                        <p:cTn id="80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3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14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5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25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8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29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0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40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19334E-006 L -0.28142 -1.19334E-006 E">
                                      <p:cBhvr>
                                        <p:cTn id="84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142 3.55227E-006 E">
                                      <p:cBhvr>
                                        <p:cTn id="85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56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9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75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6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92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газ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рк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л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л…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тр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…з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ё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2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3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4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5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6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7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8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9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0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1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2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3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4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5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6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278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27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28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Овал 35"/>
          <p:cNvGrpSpPr/>
          <p:nvPr/>
        </p:nvGrpSpPr>
        <p:grpSpPr>
          <a:xfrm>
            <a:off x="933480" y="2809800"/>
            <a:ext cx="461880" cy="476280"/>
            <a:chOff x="933480" y="2809800"/>
            <a:chExt cx="461880" cy="476280"/>
          </a:xfrm>
        </p:grpSpPr>
        <p:pic>
          <p:nvPicPr>
            <p:cNvPr id="285" name="Овал 35" descr=""/>
            <p:cNvPicPr/>
            <p:nvPr/>
          </p:nvPicPr>
          <p:blipFill>
            <a:blip r:embed="rId4"/>
            <a:stretch/>
          </p:blipFill>
          <p:spPr>
            <a:xfrm>
              <a:off x="933480" y="280980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288" name="Овал 35" descr=""/>
            <p:cNvPicPr/>
            <p:nvPr/>
          </p:nvPicPr>
          <p:blipFill>
            <a:blip r:embed="rId5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Овал 35"/>
          <p:cNvGrpSpPr/>
          <p:nvPr/>
        </p:nvGrpSpPr>
        <p:grpSpPr>
          <a:xfrm>
            <a:off x="933480" y="5132520"/>
            <a:ext cx="461880" cy="476280"/>
            <a:chOff x="933480" y="5132520"/>
            <a:chExt cx="461880" cy="476280"/>
          </a:xfrm>
        </p:grpSpPr>
        <p:pic>
          <p:nvPicPr>
            <p:cNvPr id="291" name="Овал 35" descr=""/>
            <p:cNvPicPr/>
            <p:nvPr/>
          </p:nvPicPr>
          <p:blipFill>
            <a:blip r:embed="rId6"/>
            <a:stretch/>
          </p:blipFill>
          <p:spPr>
            <a:xfrm>
              <a:off x="933480" y="513252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2564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Овал 35"/>
          <p:cNvGrpSpPr/>
          <p:nvPr/>
        </p:nvGrpSpPr>
        <p:grpSpPr>
          <a:xfrm>
            <a:off x="927000" y="1262160"/>
            <a:ext cx="463680" cy="474480"/>
            <a:chOff x="927000" y="1262160"/>
            <a:chExt cx="463680" cy="474480"/>
          </a:xfrm>
        </p:grpSpPr>
        <p:pic>
          <p:nvPicPr>
            <p:cNvPr id="29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126216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Овал 35"/>
          <p:cNvGrpSpPr/>
          <p:nvPr/>
        </p:nvGrpSpPr>
        <p:grpSpPr>
          <a:xfrm>
            <a:off x="933480" y="3591000"/>
            <a:ext cx="461880" cy="480960"/>
            <a:chOff x="933480" y="3591000"/>
            <a:chExt cx="461880" cy="480960"/>
          </a:xfrm>
        </p:grpSpPr>
        <p:pic>
          <p:nvPicPr>
            <p:cNvPr id="2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359100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Овал 35"/>
          <p:cNvGrpSpPr/>
          <p:nvPr/>
        </p:nvGrpSpPr>
        <p:grpSpPr>
          <a:xfrm>
            <a:off x="933480" y="5931000"/>
            <a:ext cx="461880" cy="476280"/>
            <a:chOff x="933480" y="5931000"/>
            <a:chExt cx="461880" cy="476280"/>
          </a:xfrm>
        </p:grpSpPr>
        <p:pic>
          <p:nvPicPr>
            <p:cNvPr id="30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93100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02564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7204 3.79278E-006 E">
                                      <p:cBhvr>
                                        <p:cTn id="93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6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4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8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8976 5.3654E-007 E">
                                      <p:cBhvr>
                                        <p:cTn id="96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9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70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4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5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6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0382 -1.19334E-006 E">
                                      <p:cBhvr>
                                        <p:cTn id="99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455 3.55227E-006 E">
                                      <p:cBhvr>
                                        <p:cTn id="100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5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16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7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27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0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31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2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42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57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17222 2.07216E-006 E">
                                      <p:cBhvr>
                                        <p:cTn id="106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26945 4.87512E-006 E">
                                      <p:cBhvr>
                                        <p:cTn id="106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204 -1.91489E-006 E">
                                      <p:cBhvr>
                                        <p:cTn id="109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36111 -5.18039E-007 E">
                                      <p:cBhvr>
                                        <p:cTn id="109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08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9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12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131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137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14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155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16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г…р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р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лю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к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в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ур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2" descr="krista08"/>
          <p:cNvPicPr/>
          <p:nvPr/>
        </p:nvPicPr>
        <p:blipFill>
          <a:blip r:embed="rId1"/>
          <a:stretch/>
        </p:blipFill>
        <p:spPr>
          <a:xfrm>
            <a:off x="6978600" y="2846520"/>
            <a:ext cx="2225880" cy="2365200"/>
          </a:xfrm>
          <a:prstGeom prst="rect">
            <a:avLst/>
          </a:prstGeom>
          <a:ln w="0">
            <a:noFill/>
          </a:ln>
        </p:spPr>
      </p:pic>
      <p:sp>
        <p:nvSpPr>
          <p:cNvPr id="312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3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4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5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6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7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8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9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0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1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3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4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5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6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7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28" name="Овал 35"/>
          <p:cNvGrpSpPr/>
          <p:nvPr/>
        </p:nvGrpSpPr>
        <p:grpSpPr>
          <a:xfrm>
            <a:off x="927000" y="506520"/>
            <a:ext cx="463680" cy="474480"/>
            <a:chOff x="927000" y="506520"/>
            <a:chExt cx="463680" cy="474480"/>
          </a:xfrm>
        </p:grpSpPr>
        <p:pic>
          <p:nvPicPr>
            <p:cNvPr id="329" name="Овал 35" descr=""/>
            <p:cNvPicPr/>
            <p:nvPr/>
          </p:nvPicPr>
          <p:blipFill>
            <a:blip r:embed="rId2"/>
            <a:stretch/>
          </p:blipFill>
          <p:spPr>
            <a:xfrm>
              <a:off x="927000" y="50652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Овал 35"/>
          <p:cNvGrpSpPr/>
          <p:nvPr/>
        </p:nvGrpSpPr>
        <p:grpSpPr>
          <a:xfrm>
            <a:off x="907920" y="2036880"/>
            <a:ext cx="463680" cy="474480"/>
            <a:chOff x="907920" y="2036880"/>
            <a:chExt cx="463680" cy="474480"/>
          </a:xfrm>
        </p:grpSpPr>
        <p:pic>
          <p:nvPicPr>
            <p:cNvPr id="332" name="Овал 35" descr=""/>
            <p:cNvPicPr/>
            <p:nvPr/>
          </p:nvPicPr>
          <p:blipFill>
            <a:blip r:embed="rId3"/>
            <a:stretch/>
          </p:blipFill>
          <p:spPr>
            <a:xfrm>
              <a:off x="90792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0033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Овал 35"/>
          <p:cNvGrpSpPr/>
          <p:nvPr/>
        </p:nvGrpSpPr>
        <p:grpSpPr>
          <a:xfrm>
            <a:off x="927000" y="2846520"/>
            <a:ext cx="463680" cy="476280"/>
            <a:chOff x="927000" y="2846520"/>
            <a:chExt cx="463680" cy="476280"/>
          </a:xfrm>
        </p:grpSpPr>
        <p:pic>
          <p:nvPicPr>
            <p:cNvPr id="33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28465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Овал 35"/>
          <p:cNvGrpSpPr/>
          <p:nvPr/>
        </p:nvGrpSpPr>
        <p:grpSpPr>
          <a:xfrm>
            <a:off x="907920" y="4346640"/>
            <a:ext cx="463680" cy="474480"/>
            <a:chOff x="907920" y="4346640"/>
            <a:chExt cx="463680" cy="474480"/>
          </a:xfrm>
        </p:grpSpPr>
        <p:pic>
          <p:nvPicPr>
            <p:cNvPr id="338" name="Овал 35" descr=""/>
            <p:cNvPicPr/>
            <p:nvPr/>
          </p:nvPicPr>
          <p:blipFill>
            <a:blip r:embed="rId5"/>
            <a:stretch/>
          </p:blipFill>
          <p:spPr>
            <a:xfrm>
              <a:off x="907920" y="434664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0033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Овал 35"/>
          <p:cNvGrpSpPr/>
          <p:nvPr/>
        </p:nvGrpSpPr>
        <p:grpSpPr>
          <a:xfrm>
            <a:off x="907920" y="5132520"/>
            <a:ext cx="463680" cy="476280"/>
            <a:chOff x="907920" y="5132520"/>
            <a:chExt cx="463680" cy="476280"/>
          </a:xfrm>
        </p:grpSpPr>
        <p:pic>
          <p:nvPicPr>
            <p:cNvPr id="341" name="Овал 35" descr=""/>
            <p:cNvPicPr/>
            <p:nvPr/>
          </p:nvPicPr>
          <p:blipFill>
            <a:blip r:embed="rId6"/>
            <a:stretch/>
          </p:blipFill>
          <p:spPr>
            <a:xfrm>
              <a:off x="907920" y="51325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00332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Овал 35"/>
          <p:cNvGrpSpPr/>
          <p:nvPr/>
        </p:nvGrpSpPr>
        <p:grpSpPr>
          <a:xfrm>
            <a:off x="927000" y="1262160"/>
            <a:ext cx="463680" cy="474480"/>
            <a:chOff x="927000" y="1262160"/>
            <a:chExt cx="463680" cy="474480"/>
          </a:xfrm>
        </p:grpSpPr>
        <p:pic>
          <p:nvPicPr>
            <p:cNvPr id="34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126216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Овал 35"/>
          <p:cNvGrpSpPr/>
          <p:nvPr/>
        </p:nvGrpSpPr>
        <p:grpSpPr>
          <a:xfrm>
            <a:off x="907920" y="3591000"/>
            <a:ext cx="463680" cy="480960"/>
            <a:chOff x="907920" y="3591000"/>
            <a:chExt cx="463680" cy="480960"/>
          </a:xfrm>
        </p:grpSpPr>
        <p:pic>
          <p:nvPicPr>
            <p:cNvPr id="347" name="Овал 35" descr=""/>
            <p:cNvPicPr/>
            <p:nvPr/>
          </p:nvPicPr>
          <p:blipFill>
            <a:blip r:embed="rId8"/>
            <a:stretch/>
          </p:blipFill>
          <p:spPr>
            <a:xfrm>
              <a:off x="907920" y="359100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0033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Овал 35"/>
          <p:cNvGrpSpPr/>
          <p:nvPr/>
        </p:nvGrpSpPr>
        <p:grpSpPr>
          <a:xfrm>
            <a:off x="907920" y="5900760"/>
            <a:ext cx="463680" cy="480960"/>
            <a:chOff x="907920" y="5900760"/>
            <a:chExt cx="463680" cy="480960"/>
          </a:xfrm>
        </p:grpSpPr>
        <p:pic>
          <p:nvPicPr>
            <p:cNvPr id="350" name="Овал 35" descr=""/>
            <p:cNvPicPr/>
            <p:nvPr/>
          </p:nvPicPr>
          <p:blipFill>
            <a:blip r:embed="rId9"/>
            <a:stretch/>
          </p:blipFill>
          <p:spPr>
            <a:xfrm>
              <a:off x="907920" y="590076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00332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6" dur="indefinite" restart="never" nodeType="tmRoot">
          <p:childTnLst>
            <p:seq>
              <p:cTn id="116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20625 -0.00185 E">
                                      <p:cBhvr>
                                        <p:cTn id="117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176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80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1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5555 5.3654E-007 E">
                                      <p:cBhvr>
                                        <p:cTn id="119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9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0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7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18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9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18038 -1.19334E-006 E">
                                      <p:cBhvr>
                                        <p:cTn id="1232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237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32413 3.55227E-006 E">
                                      <p:cBhvr>
                                        <p:cTn id="1240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24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8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49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0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260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3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5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290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3816 2.07216E-006 E">
                                      <p:cBhvr>
                                        <p:cTn id="1293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24202 4.87512E-006 E">
                                      <p:cBhvr>
                                        <p:cTn id="130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30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1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32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17743 -1.91489E-006 E">
                                      <p:cBhvr>
                                        <p:cTn id="132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32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23785 -5.18039E-007 E">
                                      <p:cBhvr>
                                        <p:cTn id="1332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33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358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364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370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37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8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88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р…мв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р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ф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ган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к…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2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4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5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6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7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8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9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0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1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2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3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4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5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6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77" name="Picture 44" descr="medved153"/>
          <p:cNvPicPr/>
          <p:nvPr/>
        </p:nvPicPr>
        <p:blipFill>
          <a:blip r:embed="rId1"/>
          <a:stretch/>
        </p:blipFill>
        <p:spPr>
          <a:xfrm>
            <a:off x="6966000" y="1162080"/>
            <a:ext cx="2238480" cy="201456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35"/>
          <p:cNvGrpSpPr/>
          <p:nvPr/>
        </p:nvGrpSpPr>
        <p:grpSpPr>
          <a:xfrm>
            <a:off x="933480" y="1262160"/>
            <a:ext cx="461880" cy="474480"/>
            <a:chOff x="933480" y="1262160"/>
            <a:chExt cx="461880" cy="474480"/>
          </a:xfrm>
        </p:grpSpPr>
        <p:pic>
          <p:nvPicPr>
            <p:cNvPr id="37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126216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Овал 35"/>
          <p:cNvGrpSpPr/>
          <p:nvPr/>
        </p:nvGrpSpPr>
        <p:grpSpPr>
          <a:xfrm>
            <a:off x="927000" y="3614760"/>
            <a:ext cx="463680" cy="480960"/>
            <a:chOff x="927000" y="3614760"/>
            <a:chExt cx="463680" cy="480960"/>
          </a:xfrm>
        </p:grpSpPr>
        <p:pic>
          <p:nvPicPr>
            <p:cNvPr id="38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361476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Овал 35"/>
          <p:cNvGrpSpPr/>
          <p:nvPr/>
        </p:nvGrpSpPr>
        <p:grpSpPr>
          <a:xfrm>
            <a:off x="927000" y="5999040"/>
            <a:ext cx="463680" cy="474840"/>
            <a:chOff x="927000" y="5999040"/>
            <a:chExt cx="463680" cy="474840"/>
          </a:xfrm>
        </p:grpSpPr>
        <p:pic>
          <p:nvPicPr>
            <p:cNvPr id="385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5999040"/>
              <a:ext cx="4636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388" name="Овал 35" descr=""/>
            <p:cNvPicPr/>
            <p:nvPr/>
          </p:nvPicPr>
          <p:blipFill>
            <a:blip r:embed="rId5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Овал 35"/>
          <p:cNvGrpSpPr/>
          <p:nvPr/>
        </p:nvGrpSpPr>
        <p:grpSpPr>
          <a:xfrm>
            <a:off x="927000" y="2036880"/>
            <a:ext cx="463680" cy="474480"/>
            <a:chOff x="927000" y="2036880"/>
            <a:chExt cx="463680" cy="474480"/>
          </a:xfrm>
        </p:grpSpPr>
        <p:pic>
          <p:nvPicPr>
            <p:cNvPr id="39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20368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Овал 35"/>
          <p:cNvGrpSpPr/>
          <p:nvPr/>
        </p:nvGrpSpPr>
        <p:grpSpPr>
          <a:xfrm>
            <a:off x="927000" y="2846520"/>
            <a:ext cx="463680" cy="476280"/>
            <a:chOff x="927000" y="2846520"/>
            <a:chExt cx="463680" cy="476280"/>
          </a:xfrm>
        </p:grpSpPr>
        <p:pic>
          <p:nvPicPr>
            <p:cNvPr id="39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2846520"/>
              <a:ext cx="463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Овал 35"/>
          <p:cNvGrpSpPr/>
          <p:nvPr/>
        </p:nvGrpSpPr>
        <p:grpSpPr>
          <a:xfrm>
            <a:off x="933480" y="4346640"/>
            <a:ext cx="461880" cy="474480"/>
            <a:chOff x="933480" y="4346640"/>
            <a:chExt cx="461880" cy="474480"/>
          </a:xfrm>
        </p:grpSpPr>
        <p:pic>
          <p:nvPicPr>
            <p:cNvPr id="397" name="Овал 35" descr=""/>
            <p:cNvPicPr/>
            <p:nvPr/>
          </p:nvPicPr>
          <p:blipFill>
            <a:blip r:embed="rId8"/>
            <a:stretch/>
          </p:blipFill>
          <p:spPr>
            <a:xfrm>
              <a:off x="933480" y="434664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Овал 35"/>
          <p:cNvGrpSpPr/>
          <p:nvPr/>
        </p:nvGrpSpPr>
        <p:grpSpPr>
          <a:xfrm>
            <a:off x="933480" y="5132520"/>
            <a:ext cx="461880" cy="482400"/>
            <a:chOff x="933480" y="5132520"/>
            <a:chExt cx="461880" cy="482400"/>
          </a:xfrm>
        </p:grpSpPr>
        <p:pic>
          <p:nvPicPr>
            <p:cNvPr id="40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132520"/>
              <a:ext cx="4618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9" dur="indefinite" restart="never" nodeType="tmRoot">
          <p:childTnLst>
            <p:seq>
              <p:cTn id="140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401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1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28142 2.07216E-006 E">
                                      <p:cBhvr>
                                        <p:cTn id="1419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7512E-006 L -0.30625 4.87512E-006 E">
                                      <p:cBhvr>
                                        <p:cTn id="142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5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7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91489E-006 L -0.3625 -1.91489E-006 E">
                                      <p:cBhvr>
                                        <p:cTn id="1450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55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5.18039E-007 L 0.22951 -5.18039E-007 E">
                                      <p:cBhvr>
                                        <p:cTn id="145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478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8038 -0.00185 E">
                                      <p:cBhvr>
                                        <p:cTn id="1496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501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5.3654E-007 L 0.15573 5.3654E-007 E">
                                      <p:cBhvr>
                                        <p:cTn id="1504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509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524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539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19334E-006 L -0.30625 -1.19334E-006 E">
                                      <p:cBhvr>
                                        <p:cTn id="1542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142 3.55227E-006 E">
                                      <p:cBhvr>
                                        <p:cTn id="155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5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570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3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74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5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585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591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59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60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615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621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пе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р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п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ррит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по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…м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г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б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krista08"/>
          <p:cNvPicPr/>
          <p:nvPr/>
        </p:nvPicPr>
        <p:blipFill>
          <a:blip r:embed="rId1"/>
          <a:stretch/>
        </p:blipFill>
        <p:spPr>
          <a:xfrm>
            <a:off x="6978600" y="2846520"/>
            <a:ext cx="2225880" cy="236520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4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5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6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7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8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0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1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2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3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4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5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6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7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428" name="Овал 35"/>
          <p:cNvGrpSpPr/>
          <p:nvPr/>
        </p:nvGrpSpPr>
        <p:grpSpPr>
          <a:xfrm>
            <a:off x="933480" y="506520"/>
            <a:ext cx="461880" cy="474480"/>
            <a:chOff x="933480" y="506520"/>
            <a:chExt cx="461880" cy="474480"/>
          </a:xfrm>
        </p:grpSpPr>
        <p:pic>
          <p:nvPicPr>
            <p:cNvPr id="429" name="Овал 35" descr=""/>
            <p:cNvPicPr/>
            <p:nvPr/>
          </p:nvPicPr>
          <p:blipFill>
            <a:blip r:embed="rId2"/>
            <a:stretch/>
          </p:blipFill>
          <p:spPr>
            <a:xfrm>
              <a:off x="933480" y="506520"/>
              <a:ext cx="4618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Овал 35"/>
          <p:cNvGrpSpPr/>
          <p:nvPr/>
        </p:nvGrpSpPr>
        <p:grpSpPr>
          <a:xfrm>
            <a:off x="927000" y="2103480"/>
            <a:ext cx="463680" cy="474480"/>
            <a:chOff x="927000" y="2103480"/>
            <a:chExt cx="463680" cy="474480"/>
          </a:xfrm>
        </p:grpSpPr>
        <p:pic>
          <p:nvPicPr>
            <p:cNvPr id="432" name="Овал 35" descr=""/>
            <p:cNvPicPr/>
            <p:nvPr/>
          </p:nvPicPr>
          <p:blipFill>
            <a:blip r:embed="rId3"/>
            <a:stretch/>
          </p:blipFill>
          <p:spPr>
            <a:xfrm>
              <a:off x="927000" y="210348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Овал 35"/>
          <p:cNvGrpSpPr/>
          <p:nvPr/>
        </p:nvGrpSpPr>
        <p:grpSpPr>
          <a:xfrm>
            <a:off x="933480" y="2809800"/>
            <a:ext cx="461880" cy="476280"/>
            <a:chOff x="933480" y="2809800"/>
            <a:chExt cx="461880" cy="476280"/>
          </a:xfrm>
        </p:grpSpPr>
        <p:pic>
          <p:nvPicPr>
            <p:cNvPr id="435" name="Овал 35" descr=""/>
            <p:cNvPicPr/>
            <p:nvPr/>
          </p:nvPicPr>
          <p:blipFill>
            <a:blip r:embed="rId4"/>
            <a:stretch/>
          </p:blipFill>
          <p:spPr>
            <a:xfrm>
              <a:off x="933480" y="2809800"/>
              <a:ext cx="461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Овал 35"/>
          <p:cNvGrpSpPr/>
          <p:nvPr/>
        </p:nvGrpSpPr>
        <p:grpSpPr>
          <a:xfrm>
            <a:off x="927000" y="4346640"/>
            <a:ext cx="463680" cy="474480"/>
            <a:chOff x="927000" y="4346640"/>
            <a:chExt cx="463680" cy="474480"/>
          </a:xfrm>
        </p:grpSpPr>
        <p:pic>
          <p:nvPicPr>
            <p:cNvPr id="438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434664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0177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Овал 35"/>
          <p:cNvGrpSpPr/>
          <p:nvPr/>
        </p:nvGrpSpPr>
        <p:grpSpPr>
          <a:xfrm>
            <a:off x="927000" y="5132520"/>
            <a:ext cx="463680" cy="482400"/>
            <a:chOff x="927000" y="5132520"/>
            <a:chExt cx="463680" cy="482400"/>
          </a:xfrm>
        </p:grpSpPr>
        <p:pic>
          <p:nvPicPr>
            <p:cNvPr id="441" name="Овал 35" descr=""/>
            <p:cNvPicPr/>
            <p:nvPr/>
          </p:nvPicPr>
          <p:blipFill>
            <a:blip r:embed="rId6"/>
            <a:stretch/>
          </p:blipFill>
          <p:spPr>
            <a:xfrm>
              <a:off x="927000" y="5132520"/>
              <a:ext cx="4636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1772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Овал 35"/>
          <p:cNvGrpSpPr/>
          <p:nvPr/>
        </p:nvGrpSpPr>
        <p:grpSpPr>
          <a:xfrm>
            <a:off x="927000" y="1262160"/>
            <a:ext cx="463680" cy="474480"/>
            <a:chOff x="927000" y="1262160"/>
            <a:chExt cx="463680" cy="474480"/>
          </a:xfrm>
        </p:grpSpPr>
        <p:pic>
          <p:nvPicPr>
            <p:cNvPr id="444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1262160"/>
              <a:ext cx="463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Овал 35"/>
          <p:cNvGrpSpPr/>
          <p:nvPr/>
        </p:nvGrpSpPr>
        <p:grpSpPr>
          <a:xfrm>
            <a:off x="927000" y="3591000"/>
            <a:ext cx="463680" cy="480960"/>
            <a:chOff x="927000" y="3591000"/>
            <a:chExt cx="463680" cy="480960"/>
          </a:xfrm>
        </p:grpSpPr>
        <p:pic>
          <p:nvPicPr>
            <p:cNvPr id="447" name="Овал 35" descr=""/>
            <p:cNvPicPr/>
            <p:nvPr/>
          </p:nvPicPr>
          <p:blipFill>
            <a:blip r:embed="rId8"/>
            <a:stretch/>
          </p:blipFill>
          <p:spPr>
            <a:xfrm>
              <a:off x="927000" y="3591000"/>
              <a:ext cx="463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Овал 35"/>
          <p:cNvGrpSpPr/>
          <p:nvPr/>
        </p:nvGrpSpPr>
        <p:grpSpPr>
          <a:xfrm>
            <a:off x="933480" y="5900760"/>
            <a:ext cx="461880" cy="480960"/>
            <a:chOff x="933480" y="5900760"/>
            <a:chExt cx="461880" cy="480960"/>
          </a:xfrm>
        </p:grpSpPr>
        <p:pic>
          <p:nvPicPr>
            <p:cNvPr id="450" name="Овал 35" descr=""/>
            <p:cNvPicPr/>
            <p:nvPr/>
          </p:nvPicPr>
          <p:blipFill>
            <a:blip r:embed="rId9"/>
            <a:stretch/>
          </p:blipFill>
          <p:spPr>
            <a:xfrm>
              <a:off x="933480" y="5900760"/>
              <a:ext cx="461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2" dur="indefinite" restart="never" nodeType="tmRoot">
          <p:childTnLst>
            <p:seq>
              <p:cTn id="1633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634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7725 -0.00185 E">
                                      <p:cBhvr>
                                        <p:cTn id="1637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5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46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7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625 5.3654E-007 E">
                                      <p:cBhvr>
                                        <p:cTn id="1660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66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680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3" dur="1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5" dur="1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17204 -1.19334E-006 E">
                                      <p:cBhvr>
                                        <p:cTn id="169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703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455 3.55227E-006 E">
                                      <p:cBhvr>
                                        <p:cTn id="1706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14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15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16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30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07216E-006 L -0.28976 2.07216E-006 E">
                                      <p:cBhvr>
                                        <p:cTn id="1759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64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09445 4.87512E-006 E">
                                      <p:cBhvr>
                                        <p:cTn id="176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72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5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76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7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787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15573 -1.91489E-006 E">
                                      <p:cBhvr>
                                        <p:cTn id="179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95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63645E-006 L -0.28455 -2.63645E-006 E">
                                      <p:cBhvr>
                                        <p:cTn id="179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82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830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836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842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854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60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2T15:43:14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