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chimes.wav" ContentType="audio/x-wav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CF8D-9CD2-490C-AB07-D7B6105E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51461-3D13-4601-96B9-1F77A388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3341-714A-4614-9EBE-BC275F17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1C2B-D6C8-4CD3-ABF6-77762856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5727-D9B5-4974-9386-E180E922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A0C3-07D2-40E0-BA80-75C1CFC8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F1D8-3B0D-400B-99A7-FF94091C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BB61-0C01-45AF-AB60-9A93DF49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C990-6C33-4D59-9986-9BDC73FF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DEA2-E8CA-4E1A-B20F-702B1CE5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1685-0BBA-4193-817D-119F964B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0B84-7D17-4A07-BA3D-FE1CEB1D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429C-614A-4E3C-B128-B7569D9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7F2F-700F-40FE-9E98-213C75C9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BBA9-A76F-4238-8240-29D60E0C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8106-8CE9-4DBE-B81F-2D5058D3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1D9F-EB4C-48CB-88CF-3115C677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0099-2A69-4ADF-88D9-19195EB8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738B-E5ED-471C-9726-0B29FFED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8F00-B39F-4BC1-8808-AE0300D9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8EC9-7233-405E-9987-BC565441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835F-F82E-4ECD-B274-D8C1F879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5DD5-FFAF-49CC-BA62-41D8D8E1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D586-3208-47E5-8E7C-DE269671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16AA-2369-4632-A9AD-A79FB044E0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484D-6A5D-4C85-BBEF-9DA3C9DE31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GCH_2A36_003Z.wav" TargetMode="External"/><Relationship Id="rId2" Type="http://schemas.microsoft.com/office/2007/relationships/media" Target="file:///tmp/home/.config/libreoffice/4/user/gallery/GCH_2A36_003Z.wav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Arial"/>
              </a:rPr>
              <a:t>«Спирты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700360" y="119700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O111"/>
          <p:cNvPicPr/>
          <p:nvPr/>
        </p:nvPicPr>
        <p:blipFill>
          <a:blip r:embed="rId1"/>
          <a:stretch/>
        </p:blipFill>
        <p:spPr>
          <a:xfrm>
            <a:off x="2050920" y="2565360"/>
            <a:ext cx="5761080" cy="3097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6600"/>
                </a:solidFill>
                <a:latin typeface="Arial"/>
              </a:rPr>
              <a:t>Метанол - яд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5041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довитое действие метанола основано на поражении нервной и сосудистой системы. Приём внутрь 5—10 мл метанола приводит к тяжёлому отравлению, а 30 мл и более — к смер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Плакат, 1946"/>
          <p:cNvPicPr/>
          <p:nvPr/>
        </p:nvPicPr>
        <p:blipFill>
          <a:blip r:embed="rId1"/>
          <a:srcRect l="919" t="707" r="1925" b="17581"/>
          <a:stretch/>
        </p:blipFill>
        <p:spPr>
          <a:xfrm>
            <a:off x="5364000" y="1484280"/>
            <a:ext cx="3502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7640" y="576360"/>
            <a:ext cx="66596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6600"/>
                </a:solidFill>
                <a:latin typeface="Arial"/>
              </a:rPr>
              <a:t>Одноатомный спирт - этанол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6" descr="Метанол"/>
          <p:cNvPicPr/>
          <p:nvPr/>
        </p:nvPicPr>
        <p:blipFill>
          <a:blip r:embed="rId1"/>
          <a:srcRect l="10888" t="36048" r="30975" b="33671"/>
          <a:stretch/>
        </p:blipFill>
        <p:spPr>
          <a:xfrm>
            <a:off x="3924360" y="2421000"/>
            <a:ext cx="5189400" cy="2160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82" name="Text Box 11"/>
          <p:cNvSpPr/>
          <p:nvPr/>
        </p:nvSpPr>
        <p:spPr>
          <a:xfrm>
            <a:off x="826920" y="1557360"/>
            <a:ext cx="74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50920" y="1557360"/>
            <a:ext cx="35352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Бесцветная жидкость с характерным запахом и жгучим вкусом, температурой кипения78С. Легче воды. Смешивается с ней в любых отношения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Легко воспламеняется, горит слабо светящимся голубоватым пламене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19280" y="476280"/>
            <a:ext cx="7067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Применение этанол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292720" y="2139840"/>
            <a:ext cx="3316320" cy="3422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86" name="Rectangle 6"/>
          <p:cNvSpPr/>
          <p:nvPr/>
        </p:nvSpPr>
        <p:spPr>
          <a:xfrm>
            <a:off x="468360" y="1628640"/>
            <a:ext cx="460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ловый спирт употребляется при приготовлении различных спиртных напи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медицине для приготовления экстрактов из лекарственных растений, а также для дезинфе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осметике и парфюмерии этанол — растворитель для духов и лосьо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6600"/>
                </a:solidFill>
                <a:latin typeface="Arial"/>
              </a:rPr>
              <a:t>Вредное воздействие этанол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начале опьянения страдают структуры коры больших полушарий; активность центров мозга, управляющих поведением, подавляется: утрачивается разумный контроль над поступками, снижается критическое отношение к себе. И. П. Павлов называл такое состояние «буйств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корк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чень большом содержании алкоголя в крови угнетается активность двигательных центров мозга, главным образом страдает функция мозжечка - человек полностью теряет ориент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6600"/>
                </a:solidFill>
                <a:latin typeface="Arial"/>
              </a:rPr>
              <a:t>Вредное воздействие этанол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менения структуры мозга, вызванные многолетней алкогольной интоксикацией, почти необратимы, и даже после длительного воздержания от употребления спиртных напитков они сохраняются. Если же человек не может остановиться, то органические и, следовательно, психические отклонения от нормы идут по нарастающ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6600"/>
                </a:solidFill>
                <a:latin typeface="Arial"/>
              </a:rPr>
              <a:t>Вредное воздействие этанол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400" y="1700280"/>
            <a:ext cx="822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коголь крайне неблагоприятно влияет на сосуды головного мозга. В начале опьянения они расширяются, кровоток в них замедляется, что приводит к застойным явлениям в головном мозге. Затем, когда в крови помимо алкоголя начинают накапливаться вредные продукты его неполного распада, наступает резкий спазм, сужение сосудов, развиваются такие опасные осложнения, как мозговые инсульты, приводящие к тяжелой инвалидности и даже смер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0920" y="476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6600"/>
                </a:solidFill>
                <a:latin typeface="Arial"/>
              </a:rPr>
              <a:t>Многоатомный спирт -этиленгликол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844640"/>
            <a:ext cx="5916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ленгликоль — представитель предельных двухатомных спиртов — глико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е гликоли получили вследствие сладкого вкуса многих представителей ряда (греч. «гликос» — сладкий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ленгликоль - сиропообразная жидкость сладкого вкуса, без запаха, ядовит. Хорошо смешивается с водой и спиртом, гигроскопич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g221_1"/>
          <p:cNvPicPr/>
          <p:nvPr/>
        </p:nvPicPr>
        <p:blipFill>
          <a:blip r:embed="rId1"/>
          <a:stretch/>
        </p:blipFill>
        <p:spPr>
          <a:xfrm>
            <a:off x="7026120" y="2319480"/>
            <a:ext cx="1648080" cy="3125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6983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6600"/>
                </a:solidFill>
                <a:latin typeface="Arial"/>
              </a:rPr>
              <a:t>Применение этиленгликол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40370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ажным свойством этиленгликоля является способность понижать температуру замерзания воды, от чего вещество нашло широкое применения как компонент автомобильных антифризов и незамерзающих жидкос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применяется для получения лавсана (ценного синтетического волокн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1"/>
          <p:cNvPicPr/>
          <p:nvPr/>
        </p:nvPicPr>
        <p:blipFill>
          <a:blip r:embed="rId1"/>
          <a:srcRect l="10545" t="43489" r="53494" b="10551"/>
          <a:stretch/>
        </p:blipFill>
        <p:spPr>
          <a:xfrm>
            <a:off x="4572000" y="1773360"/>
            <a:ext cx="3960720" cy="4321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778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Этиленгликоль - я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431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зы вызывающие смертельное отравление этиленгликолем варьируются в широких пределах - от 100 до 600 мл. По данным ряда авторов смертельной дозой для человека является 50-150 мл. Смертность при поражении этиленгликолем очень высока и составляет более 60% всех случаев от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ханизм токсического действия этиленгликоля до настоящего времени изучен недостаточно. Этиленгликоль быстро всасывается (в том числе через поры кожи) и в течение нескольких часов циркулирует в крови в неизмененном виде, достигая максимальной концентрации через 2-5 часов. Затем его содержание в крови постепенно снижается, и он фиксируется в ткан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17080" y="476280"/>
            <a:ext cx="502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5512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1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Многоатомный спирт - глицерин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519588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ицерин – трехатомный предельный спирт. Бесцветная, вязкая, гигроскопичная, сладкая на вкус жидкость. Смешивается с водой в любых отношениях , хороший растворитель. Реагирует с азотной кислотой с образованием нитроглицерина. С карбоновыми кислотами образует жиры и мас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Group 12"/>
          <p:cNvGrpSpPr/>
          <p:nvPr/>
        </p:nvGrpSpPr>
        <p:grpSpPr>
          <a:xfrm>
            <a:off x="6012000" y="2781360"/>
            <a:ext cx="2808000" cy="1386360"/>
            <a:chOff x="6012000" y="2781360"/>
            <a:chExt cx="2808000" cy="1386360"/>
          </a:xfrm>
        </p:grpSpPr>
        <p:sp>
          <p:nvSpPr>
            <p:cNvPr id="205" name="Text Box 8"/>
            <p:cNvSpPr/>
            <p:nvPr/>
          </p:nvSpPr>
          <p:spPr>
            <a:xfrm>
              <a:off x="6012000" y="2781360"/>
              <a:ext cx="2808000" cy="1386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H2 – CH – CH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OH       OH   O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7236000" y="3357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>
              <a:off x="6227640" y="3357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8028000" y="3357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предел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пирты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устаревшее алкого́ли) — органические соединения, содержащие одну или несколько гидроксильных групп (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идроксил, OH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,непосредственно связанных с атомом углерода в углеводородном радика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ая формула спирто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xHy(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O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)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Применение глицерин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356000" y="1267920"/>
            <a:ext cx="4330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няется в производстве  взрывчатых веществ нитроглицер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бработке кож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компонент некоторых клеё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производстве пластмасс глицерин используют в качестве пластифика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роизводстве кондитерских изделий и напитков (как пищевая добавкаE42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1"/>
          <p:cNvPicPr/>
          <p:nvPr/>
        </p:nvPicPr>
        <p:blipFill>
          <a:blip r:embed="rId1"/>
          <a:srcRect l="46529" t="46629" r="23246" b="10551"/>
          <a:stretch/>
        </p:blipFill>
        <p:spPr>
          <a:xfrm>
            <a:off x="250920" y="1989000"/>
            <a:ext cx="3744720" cy="4537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95640" y="404640"/>
            <a:ext cx="6718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Качественная реакция на многоатомные спирт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0" t="0" r="0" b="14008"/>
          <a:stretch/>
        </p:blipFill>
        <p:spPr>
          <a:xfrm>
            <a:off x="468360" y="1916280"/>
            <a:ext cx="7993080" cy="4249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14" name="GCH_2034.wav" descr=""/>
          <p:cNvPicPr/>
          <p:nvPr/>
        </p:nvPicPr>
        <p:blipFill>
          <a:blip r:embed="rId2"/>
          <a:stretch/>
        </p:blipFill>
        <p:spPr>
          <a:xfrm>
            <a:off x="810108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7826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Качественная реакция на многоатомные спирт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ей на многоатомные спирты является их взаимодействие   со   свежеполученным осадком гидроксида меди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, который растворяется с образованием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яркого сине-фиолетового раствор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934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Классификация спиртов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Organization Chart 7"/>
          <p:cNvGrpSpPr/>
          <p:nvPr/>
        </p:nvGrpSpPr>
        <p:grpSpPr>
          <a:xfrm>
            <a:off x="428760" y="1197000"/>
            <a:ext cx="8208720" cy="4895640"/>
            <a:chOff x="428760" y="1197000"/>
            <a:chExt cx="8208720" cy="4895640"/>
          </a:xfrm>
        </p:grpSpPr>
        <p:cxnSp>
          <p:nvCxnSpPr>
            <p:cNvPr id="122" name="_s1028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5480280" y="2207160"/>
              <a:ext cx="980280" cy="2874240"/>
            </a:xfrm>
            <a:prstGeom prst="bentConnector3">
              <a:avLst>
                <a:gd name="adj1" fmla="val 116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29"/>
            <p:cNvCxnSpPr>
              <a:stCxn id="126" idx="0"/>
              <a:endCxn id="124" idx="2"/>
            </p:cNvCxnSpPr>
            <p:nvPr/>
          </p:nvCxnSpPr>
          <p:spPr>
            <a:xfrm flipV="1">
              <a:off x="4533480" y="3154320"/>
              <a:ext cx="2520" cy="980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030"/>
            <p:cNvCxnSpPr>
              <a:stCxn id="128" idx="0"/>
              <a:endCxn id="124" idx="2"/>
            </p:cNvCxnSpPr>
            <p:nvPr/>
          </p:nvCxnSpPr>
          <p:spPr>
            <a:xfrm flipH="1" flipV="1" rot="5400000">
              <a:off x="2607120" y="2207520"/>
              <a:ext cx="980280" cy="2873880"/>
            </a:xfrm>
            <a:prstGeom prst="bentConnector3">
              <a:avLst>
                <a:gd name="adj1" fmla="val 116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4" name="_s1031"/>
            <p:cNvSpPr/>
            <p:nvPr/>
          </p:nvSpPr>
          <p:spPr>
            <a:xfrm>
              <a:off x="3301920" y="1197000"/>
              <a:ext cx="2462400" cy="1958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По числ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гидроксильны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групп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xHy(OH)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032"/>
            <p:cNvSpPr/>
            <p:nvPr/>
          </p:nvSpPr>
          <p:spPr>
            <a:xfrm>
              <a:off x="428760" y="4134600"/>
              <a:ext cx="2462040" cy="1958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99"/>
                  </a:solidFill>
                  <a:latin typeface="Tahoma"/>
                </a:rPr>
                <a:t>Одноатом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99"/>
                  </a:solidFill>
                  <a:latin typeface="Tahoma"/>
                </a:rPr>
                <a:t>алкогол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CH</a:t>
              </a:r>
              <a:r>
                <a:rPr b="1" lang="en-US" sz="21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- CH</a:t>
              </a:r>
              <a:r>
                <a:rPr b="1" lang="en-US" sz="21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- CH</a:t>
              </a:r>
              <a:r>
                <a:rPr b="1" lang="en-US" sz="21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                </a:t>
              </a: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033"/>
            <p:cNvSpPr/>
            <p:nvPr/>
          </p:nvSpPr>
          <p:spPr>
            <a:xfrm>
              <a:off x="3301920" y="4134600"/>
              <a:ext cx="2462400" cy="1958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Двухатом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гликол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CH</a:t>
              </a:r>
              <a:r>
                <a:rPr b="1" lang="en-US" sz="21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- CH - CH</a:t>
              </a:r>
              <a:r>
                <a:rPr b="1" lang="en-US" sz="21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       </a:t>
              </a: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OH   OH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034"/>
            <p:cNvSpPr/>
            <p:nvPr/>
          </p:nvSpPr>
          <p:spPr>
            <a:xfrm>
              <a:off x="6175440" y="4134600"/>
              <a:ext cx="2462040" cy="1958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99"/>
                  </a:solidFill>
                  <a:latin typeface="Tahoma"/>
                </a:rPr>
                <a:t>Трёхатом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99"/>
                  </a:solidFill>
                  <a:latin typeface="Tahoma"/>
                </a:rPr>
                <a:t>глицерины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CH</a:t>
              </a:r>
              <a:r>
                <a:rPr b="1" lang="en-US" sz="21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- CH - CH</a:t>
              </a:r>
              <a:r>
                <a:rPr b="1" lang="en-US" sz="21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OH    OH   OH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34"/>
            <p:cNvSpPr/>
            <p:nvPr/>
          </p:nvSpPr>
          <p:spPr>
            <a:xfrm flipH="1">
              <a:off x="2269800" y="5301720"/>
              <a:ext cx="32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36"/>
            <p:cNvSpPr/>
            <p:nvPr/>
          </p:nvSpPr>
          <p:spPr>
            <a:xfrm>
              <a:off x="4427640" y="5296680"/>
              <a:ext cx="1440" cy="22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5003640" y="5296680"/>
              <a:ext cx="1800" cy="22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Line 37"/>
          <p:cNvSpPr/>
          <p:nvPr/>
        </p:nvSpPr>
        <p:spPr>
          <a:xfrm>
            <a:off x="788508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730872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658800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Классификация спиртов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Organization Chart 3"/>
          <p:cNvGrpSpPr/>
          <p:nvPr/>
        </p:nvGrpSpPr>
        <p:grpSpPr>
          <a:xfrm>
            <a:off x="393840" y="1557360"/>
            <a:ext cx="8243640" cy="4476600"/>
            <a:chOff x="393840" y="1557360"/>
            <a:chExt cx="8243640" cy="4476600"/>
          </a:xfrm>
        </p:grpSpPr>
        <p:cxnSp>
          <p:nvCxnSpPr>
            <p:cNvPr id="137" name="_s2052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510520" y="2352600"/>
              <a:ext cx="896040" cy="2885040"/>
            </a:xfrm>
            <a:prstGeom prst="bentConnector3">
              <a:avLst>
                <a:gd name="adj1" fmla="val 127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2053"/>
            <p:cNvCxnSpPr>
              <a:stCxn id="141" idx="0"/>
              <a:endCxn id="139" idx="2"/>
            </p:cNvCxnSpPr>
            <p:nvPr/>
          </p:nvCxnSpPr>
          <p:spPr>
            <a:xfrm flipV="1">
              <a:off x="4516560" y="3347280"/>
              <a:ext cx="2160" cy="896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2054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2625480" y="2351880"/>
              <a:ext cx="896040" cy="2886840"/>
            </a:xfrm>
            <a:prstGeom prst="bentConnector3">
              <a:avLst>
                <a:gd name="adj1" fmla="val 127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9" name="_s2055"/>
            <p:cNvSpPr/>
            <p:nvPr/>
          </p:nvSpPr>
          <p:spPr>
            <a:xfrm>
              <a:off x="3279600" y="1557360"/>
              <a:ext cx="2471760" cy="1790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Arial"/>
                </a:rPr>
                <a:t>По характер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99"/>
                  </a:solidFill>
                  <a:latin typeface="Arial"/>
                </a:rPr>
                <a:t>углеводородног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Arial"/>
                </a:rPr>
                <a:t>радикал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xHy(OH)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2056"/>
            <p:cNvSpPr/>
            <p:nvPr/>
          </p:nvSpPr>
          <p:spPr>
            <a:xfrm>
              <a:off x="393840" y="4243320"/>
              <a:ext cx="2473200" cy="1790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99"/>
                  </a:solidFill>
                  <a:latin typeface="Tahoma"/>
                </a:rPr>
                <a:t>Предель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CH3 – CH2 – CH2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1" lang="en-US" sz="2100" spc="-1" strike="noStrike">
                  <a:solidFill>
                    <a:srgbClr val="000099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2057"/>
            <p:cNvSpPr/>
            <p:nvPr/>
          </p:nvSpPr>
          <p:spPr>
            <a:xfrm>
              <a:off x="3279600" y="4243320"/>
              <a:ext cx="2471760" cy="1790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99"/>
                  </a:solidFill>
                  <a:latin typeface="Arial"/>
                </a:rPr>
                <a:t>Непредель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CH2 = CH – CH2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                  </a:t>
              </a: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1" lang="en-US" sz="2100" spc="-1" strike="noStrike">
                  <a:solidFill>
                    <a:srgbClr val="000099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2058"/>
            <p:cNvSpPr/>
            <p:nvPr/>
          </p:nvSpPr>
          <p:spPr>
            <a:xfrm>
              <a:off x="6164280" y="4243320"/>
              <a:ext cx="2473200" cy="1790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99"/>
                  </a:solidFill>
                  <a:latin typeface="Tahoma"/>
                </a:rPr>
                <a:t>Ароматическ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CH2 - OH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4" name="Picture 24" descr=""/>
            <p:cNvPicPr/>
            <p:nvPr/>
          </p:nvPicPr>
          <p:blipFill>
            <a:blip r:embed="rId1"/>
            <a:stretch/>
          </p:blipFill>
          <p:spPr>
            <a:xfrm>
              <a:off x="6443640" y="5084640"/>
              <a:ext cx="455760" cy="4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Line 22"/>
            <p:cNvSpPr/>
            <p:nvPr/>
          </p:nvSpPr>
          <p:spPr>
            <a:xfrm>
              <a:off x="2268360" y="5229360"/>
              <a:ext cx="180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076720" y="5013360"/>
              <a:ext cx="18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Line 19"/>
          <p:cNvSpPr/>
          <p:nvPr/>
        </p:nvSpPr>
        <p:spPr>
          <a:xfrm>
            <a:off x="2268360" y="5229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5076720" y="501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6877080" y="522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 flipV="1">
            <a:off x="6877080" y="5157360"/>
            <a:ext cx="21600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38"/>
          <p:cNvGrpSpPr/>
          <p:nvPr/>
        </p:nvGrpSpPr>
        <p:grpSpPr>
          <a:xfrm>
            <a:off x="324000" y="1557360"/>
            <a:ext cx="8243640" cy="4476600"/>
            <a:chOff x="324000" y="1557360"/>
            <a:chExt cx="8243640" cy="4476600"/>
          </a:xfrm>
        </p:grpSpPr>
        <p:grpSp>
          <p:nvGrpSpPr>
            <p:cNvPr id="152" name="Organization Chart 27"/>
            <p:cNvGrpSpPr/>
            <p:nvPr/>
          </p:nvGrpSpPr>
          <p:grpSpPr>
            <a:xfrm>
              <a:off x="324000" y="1557360"/>
              <a:ext cx="8243640" cy="4476600"/>
              <a:chOff x="324000" y="1557360"/>
              <a:chExt cx="8243640" cy="4476600"/>
            </a:xfrm>
          </p:grpSpPr>
          <p:cxnSp>
            <p:nvCxnSpPr>
              <p:cNvPr id="153" name="_s2064"/>
              <p:cNvCxnSpPr>
                <a:stCxn id="154" idx="0"/>
                <a:endCxn id="155" idx="2"/>
              </p:cNvCxnSpPr>
              <p:nvPr/>
            </p:nvCxnSpPr>
            <p:spPr>
              <a:xfrm flipV="1" rot="16200000">
                <a:off x="5440680" y="2352600"/>
                <a:ext cx="896040" cy="2885040"/>
              </a:xfrm>
              <a:prstGeom prst="bentConnector3">
                <a:avLst>
                  <a:gd name="adj1" fmla="val 12741"/>
                </a:avLst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56" name="_s2065"/>
              <p:cNvCxnSpPr>
                <a:stCxn id="157" idx="0"/>
                <a:endCxn id="155" idx="2"/>
              </p:cNvCxnSpPr>
              <p:nvPr/>
            </p:nvCxnSpPr>
            <p:spPr>
              <a:xfrm flipV="1">
                <a:off x="4446720" y="3347280"/>
                <a:ext cx="2160" cy="896040"/>
              </a:xfrm>
              <a:prstGeom prst="bentConnector2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58" name="_s2066"/>
              <p:cNvCxnSpPr>
                <a:stCxn id="159" idx="0"/>
                <a:endCxn id="155" idx="2"/>
              </p:cNvCxnSpPr>
              <p:nvPr/>
            </p:nvCxnSpPr>
            <p:spPr>
              <a:xfrm flipH="1" flipV="1" rot="5400000">
                <a:off x="2555640" y="2351880"/>
                <a:ext cx="896040" cy="2886840"/>
              </a:xfrm>
              <a:prstGeom prst="bentConnector3">
                <a:avLst>
                  <a:gd name="adj1" fmla="val 12741"/>
                </a:avLst>
              </a:prstGeom>
              <a:ln w="28440">
                <a:solidFill>
                  <a:srgbClr val="ffffff"/>
                </a:solidFill>
                <a:miter/>
              </a:ln>
            </p:spPr>
          </p:cxnSp>
          <p:sp>
            <p:nvSpPr>
              <p:cNvPr id="155" name="_s2067"/>
              <p:cNvSpPr/>
              <p:nvPr/>
            </p:nvSpPr>
            <p:spPr>
              <a:xfrm>
                <a:off x="3209760" y="1557360"/>
                <a:ext cx="2471760" cy="1790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99"/>
                    </a:solidFill>
                    <a:latin typeface="Arial"/>
                  </a:rPr>
                  <a:t>По характеру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99"/>
                    </a:solidFill>
                    <a:latin typeface="Arial"/>
                  </a:rPr>
                  <a:t> </a:t>
                </a:r>
                <a:r>
                  <a:rPr b="1" lang="ru-RU" sz="2000" spc="-1" strike="noStrike">
                    <a:solidFill>
                      <a:srgbClr val="000099"/>
                    </a:solidFill>
                    <a:latin typeface="Arial"/>
                  </a:rPr>
                  <a:t>углеводородного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99"/>
                    </a:solidFill>
                    <a:latin typeface="Arial"/>
                  </a:rPr>
                  <a:t>радикал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xHy(OH)n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_s2068"/>
              <p:cNvSpPr/>
              <p:nvPr/>
            </p:nvSpPr>
            <p:spPr>
              <a:xfrm>
                <a:off x="324000" y="4243320"/>
                <a:ext cx="2473200" cy="1790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100" spc="-1" strike="noStrike">
                    <a:solidFill>
                      <a:srgbClr val="000099"/>
                    </a:solidFill>
                    <a:latin typeface="Tahoma"/>
                  </a:rPr>
                  <a:t>Предельные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CH</a:t>
                </a:r>
                <a:r>
                  <a:rPr b="1" lang="en-US" sz="21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 – CH</a:t>
                </a:r>
                <a:r>
                  <a:rPr b="1" lang="en-US" sz="21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 – CH</a:t>
                </a:r>
                <a:r>
                  <a:rPr b="1" lang="en-US" sz="21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       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                    </a:t>
                </a: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OH</a:t>
                </a:r>
                <a:r>
                  <a:rPr b="1" lang="en-US" sz="2100" spc="-1" strike="noStrike">
                    <a:solidFill>
                      <a:srgbClr val="000099"/>
                    </a:solidFill>
                    <a:latin typeface="Tahoma"/>
                  </a:rPr>
                  <a:t> 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_s2069"/>
              <p:cNvSpPr/>
              <p:nvPr/>
            </p:nvSpPr>
            <p:spPr>
              <a:xfrm>
                <a:off x="3209760" y="4243320"/>
                <a:ext cx="2471760" cy="1790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99"/>
                    </a:solidFill>
                    <a:latin typeface="Arial"/>
                  </a:rPr>
                  <a:t>Непредельны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CH</a:t>
                </a:r>
                <a:r>
                  <a:rPr b="1" lang="en-US" sz="21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 = CH – CH</a:t>
                </a:r>
                <a:r>
                  <a:rPr b="1" lang="en-US" sz="21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       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                   </a:t>
                </a: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OH</a:t>
                </a:r>
                <a:r>
                  <a:rPr b="1" lang="en-US" sz="2100" spc="-1" strike="noStrike">
                    <a:solidFill>
                      <a:srgbClr val="000099"/>
                    </a:solidFill>
                    <a:latin typeface="Tahoma"/>
                  </a:rPr>
                  <a:t> 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_s2070"/>
              <p:cNvSpPr/>
              <p:nvPr/>
            </p:nvSpPr>
            <p:spPr>
              <a:xfrm>
                <a:off x="6094440" y="4243320"/>
                <a:ext cx="2473200" cy="1790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99"/>
                    </a:solidFill>
                    <a:latin typeface="Tahoma"/>
                  </a:rPr>
                  <a:t>Ароматическ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          </a:t>
                </a: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CH</a:t>
                </a:r>
                <a:r>
                  <a:rPr b="1" lang="en-US" sz="21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r>
                  <a:rPr b="1" lang="en-US" sz="2100" spc="-1" strike="noStrike">
                    <a:solidFill>
                      <a:srgbClr val="000000"/>
                    </a:solidFill>
                    <a:latin typeface="Tahoma"/>
                  </a:rPr>
                  <a:t> - OH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0" name="Picture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73800" y="5084640"/>
                <a:ext cx="455760" cy="47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" name="Line 37"/>
            <p:cNvSpPr/>
            <p:nvPr/>
          </p:nvSpPr>
          <p:spPr>
            <a:xfrm flipV="1">
              <a:off x="6807240" y="5157360"/>
              <a:ext cx="21600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Line 39"/>
          <p:cNvSpPr/>
          <p:nvPr/>
        </p:nvSpPr>
        <p:spPr>
          <a:xfrm>
            <a:off x="2268360" y="5229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42"/>
          <p:cNvSpPr/>
          <p:nvPr/>
        </p:nvSpPr>
        <p:spPr>
          <a:xfrm>
            <a:off x="507672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404280"/>
            <a:ext cx="6778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6600"/>
                </a:solidFill>
                <a:latin typeface="Arial"/>
              </a:rPr>
              <a:t>Номенклатура спиртов</a:t>
            </a:r>
            <a:br>
              <a:rPr sz="35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мотрите таблицу и сделайте вывод о номенклатуре спир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8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04000" cy="5111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Выво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6392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звания одноатомных спиртов образуются из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звания углеводород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 самой длинной углеродной цепью, содержащей гидроксильную группу, путём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обавления суффикса -о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многоатомных спиртов перед суффиксом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о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-гречески (-ди-, -три-, ...) указывается количество гидроксильных груп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O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ан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Виды изомерии спиртов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520" y="2138040"/>
            <a:ext cx="28908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уктурная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Углеродной цеп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оло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ональной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7" descr="o2121"/>
          <p:cNvPicPr/>
          <p:nvPr/>
        </p:nvPicPr>
        <p:blipFill>
          <a:blip r:embed="rId1"/>
          <a:stretch/>
        </p:blipFill>
        <p:spPr>
          <a:xfrm>
            <a:off x="4765680" y="2125800"/>
            <a:ext cx="3898800" cy="3241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Отдельные представители спиртов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o242"/>
          <p:cNvPicPr/>
          <p:nvPr/>
        </p:nvPicPr>
        <p:blipFill>
          <a:blip r:embed="rId1"/>
          <a:srcRect l="2921" t="12613" r="3268" b="22861"/>
          <a:stretch/>
        </p:blipFill>
        <p:spPr>
          <a:xfrm>
            <a:off x="395280" y="2421000"/>
            <a:ext cx="8497800" cy="3095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6600"/>
                </a:solidFill>
                <a:latin typeface="Arial"/>
              </a:rPr>
              <a:t>Одноатомный спирт</a:t>
            </a:r>
            <a:r>
              <a:rPr b="1" lang="en-US" sz="3500" spc="-1" strike="noStrike">
                <a:solidFill>
                  <a:srgbClr val="ff6600"/>
                </a:solidFill>
                <a:latin typeface="Arial"/>
              </a:rPr>
              <a:t> -</a:t>
            </a:r>
            <a:r>
              <a:rPr b="1" lang="ru-RU" sz="3500" spc="-1" strike="noStrike">
                <a:solidFill>
                  <a:srgbClr val="ff6600"/>
                </a:solidFill>
                <a:latin typeface="Arial"/>
              </a:rPr>
              <a:t> метанол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4360" y="1844280"/>
            <a:ext cx="385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дкость без цвета с температурой кипения 64С,  характерным запахом Легче воды. Горит бесцветным пламен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няется  в качестве растворител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плива в двигателях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3"/>
          <p:cNvPicPr/>
          <p:nvPr/>
        </p:nvPicPr>
        <p:blipFill>
          <a:blip r:embed="rId1"/>
          <a:srcRect l="10649" t="17830" r="14192" b="23775"/>
          <a:stretch/>
        </p:blipFill>
        <p:spPr>
          <a:xfrm>
            <a:off x="4125960" y="2276640"/>
            <a:ext cx="4767120" cy="2665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03:26:29Z</dcterms:created>
  <dc:creator>Серега</dc:creator>
  <dc:description/>
  <dc:language>en-US</dc:language>
  <cp:lastModifiedBy>Admin</cp:lastModifiedBy>
  <dcterms:modified xsi:type="dcterms:W3CDTF">2012-06-19T18:43:53Z</dcterms:modified>
  <cp:revision>37</cp:revision>
  <dc:subject/>
  <dc:title>Спирты</dc:title>
</cp:coreProperties>
</file>