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9588-8813-4205-8713-0E41BB8EB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9635-EFD9-4B15-91E0-CF594D24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9F1C-F443-4184-B267-52F654471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8A6E-9AD3-4426-BDB1-86479B174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02C7-1AAF-46FE-ACE8-0B85F7E0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604A-F13A-406B-AC44-622C97CA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7FD1-4219-4ACC-9AEA-B2A7BC67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412F-DEE5-44A2-996B-F15BDD07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8342-BFE7-4025-A138-9D0EFD94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F773-C400-4694-B060-B7B7C405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0FCC-0F58-44BB-84CF-9E426CC5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1255-348F-459B-BD17-7CEACF48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43E8-F3FE-4805-9D05-B2581568A2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Х ПЕРЕД ПУБЛИЧНЫМ ВЫСТУПЛЕНИЕ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647960" y="1844640"/>
            <a:ext cx="42447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ЗАТУЛИНА  Виктория  Дмитриев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я,  Краснодарский край,  Белоглинский район, село Белая Глина, муниципальное автономное общеобразовательное учреждение  «Средняя общеобразовательная школа № 9  с. Белая Глина»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«Б» клас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ый руководитель: Сурина Дина Валерьевна, педагог – психолог  муниципального автономного общеобразовательного учреждения «Средняя общеобразовательная школа №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Белая Глина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C:\Users\дом\Desktop\речь\00324078.jpg"/>
          <p:cNvPicPr/>
          <p:nvPr/>
        </p:nvPicPr>
        <p:blipFill>
          <a:blip r:embed="rId1"/>
          <a:stretch/>
        </p:blipFill>
        <p:spPr>
          <a:xfrm>
            <a:off x="250920" y="1628640"/>
            <a:ext cx="441000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рамма 4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вы испытываете страх перед публичными выступлениями?(%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4" descr=""/>
          <p:cNvPicPr/>
          <p:nvPr/>
        </p:nvPicPr>
        <p:blipFill>
          <a:blip r:embed="rId1"/>
          <a:stretch/>
        </p:blipFill>
        <p:spPr>
          <a:xfrm>
            <a:off x="857160" y="1428840"/>
            <a:ext cx="728676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рамма 5. Что вы чувствуете при публичном выступлении?(%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Диаграмма 9" descr=""/>
          <p:cNvPicPr/>
          <p:nvPr/>
        </p:nvPicPr>
        <p:blipFill>
          <a:blip r:embed="rId1"/>
          <a:stretch/>
        </p:blipFill>
        <p:spPr>
          <a:xfrm>
            <a:off x="1071720" y="1571760"/>
            <a:ext cx="72151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рамма 6. По вашему мнению, можно ли развить в себе чувство уверенности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Диаграмма 15" descr=""/>
          <p:cNvPicPr/>
          <p:nvPr/>
        </p:nvPicPr>
        <p:blipFill>
          <a:blip r:embed="rId1"/>
          <a:stretch/>
        </p:blipFill>
        <p:spPr>
          <a:xfrm>
            <a:off x="1071720" y="1785960"/>
            <a:ext cx="68580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2818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по формированию уверенности и преодолению страха публичных выступле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94920" y="1484280"/>
            <a:ext cx="806436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ткажитесь от мысли, что вы должны всегда быть совершен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едставляйте результат, который хотите получи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думайте о содержании, составьте пла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тарайтесь всегда готовиться к выступлен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оработайте над своим имидж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Помните о дыхан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Фокусируйте взгляд на дружелюбных лиц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Больше практикуйтесь 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7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 том, что обучающиеся школы испытывают страх публичных вступлений из-за неуверенности в себе, нашла подтверждение только в 9,6% случае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х публичных выступлений  связан с возрастом, он несильно проявляется у обучающихся 6-х и 7-х классов, усиливается к 8-9 классам и уменьшается к 10-11 классам. Это объясняется возрастными психологическими особенностями развит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Users\дом\Desktop\речь\1374765045-357893-811453.jpg"/>
          <p:cNvPicPr/>
          <p:nvPr/>
        </p:nvPicPr>
        <p:blipFill>
          <a:blip r:embed="rId1"/>
          <a:stretch/>
        </p:blipFill>
        <p:spPr>
          <a:xfrm>
            <a:off x="395280" y="1197000"/>
            <a:ext cx="3983040" cy="4929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4500720" y="1197000"/>
            <a:ext cx="4248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убличные выступления - неотъемлемая часть жизни современного челове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Многим людям присущ страх публичных выступл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Чтобы стать успешным человеком, нужно избавиться от страха публичных выступлен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11280" y="292392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154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154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  <a:ea typeface="Aharoni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C:\Users\дом\Desktop\речь\3968c0.jpg"/>
          <p:cNvPicPr/>
          <p:nvPr/>
        </p:nvPicPr>
        <p:blipFill>
          <a:blip r:embed="rId1"/>
          <a:stretch/>
        </p:blipFill>
        <p:spPr>
          <a:xfrm>
            <a:off x="611280" y="189000"/>
            <a:ext cx="7848360" cy="52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39640" y="549000"/>
            <a:ext cx="806472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ва ли найдется человек, который так или иначе, не имел бы в своей жизни опыта публичных выступл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исследований различных социологических и психологических институтов страх публичных выступлений стоит на втором месте в списке страхов человечеств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C:\Users\дом\Desktop\речь\skidki-Yoshkar-Ola-1379408401.jpg"/>
          <p:cNvPicPr/>
          <p:nvPr/>
        </p:nvPicPr>
        <p:blipFill>
          <a:blip r:embed="rId1"/>
          <a:stretch/>
        </p:blipFill>
        <p:spPr>
          <a:xfrm>
            <a:off x="4859280" y="3716280"/>
            <a:ext cx="345780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42960" y="785880"/>
            <a:ext cx="758664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исследовательской работы: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проблему страха школьников перед публичными выступлениям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зучить литературу по теме исследова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спользуя  метод анкетирования, выявить причины возникновения страха публичных выступлений учащихся  школ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оследить  изменения  страхов публичных выступлений в связи с возрастом и среди мальчиков и девочек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роанализировать полученные результаты и дать рекомендации по избавлению от страха публичных выступлен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42960" y="713880"/>
            <a:ext cx="75866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ая гипотеза: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тся, что наиболее частой особенностью реагирования человека на публичное выступление будет волнение и стра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веденческие реакции во время публичных выступлени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 исследовании приняли участие обучающиеся МАОУ СОШ № 9 с  6 по 11 классы  в количестве    94 человек, среди них  50 мальчиков и 44 девочк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500040" y="571320"/>
            <a:ext cx="807264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  можно разделить на три этапа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ьный (аналитико-организационный) этап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ий (накопительный) эта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о-обобщающий этап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ля проведения исследования мной выбраны следующие методы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сбора информаци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 источников информации по вопросу исследовани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ирование - социологический метод сбора первичной информации посредством обращения с вопросами к определенной группе людей с целью получения информации об изучаемом явлени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ирование учащихся 11 класса с использованием методик: «Интервьюирование» (устный опрос) педагогов школ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опоставительный анализ результатов тестирован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обработки и анализа данных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сводных таблиц статистических данных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ие диаграмм и графиков по данным тестировани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:\Users\дом\Desktop\речь\49465.jpg"/>
          <p:cNvPicPr/>
          <p:nvPr/>
        </p:nvPicPr>
        <p:blipFill>
          <a:blip r:embed="rId1"/>
          <a:stretch/>
        </p:blipFill>
        <p:spPr>
          <a:xfrm>
            <a:off x="6804000" y="4221000"/>
            <a:ext cx="213372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же побороть страх перед публичным выступлением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79280" y="1557360"/>
            <a:ext cx="805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ы по преодолению данного страх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знайтесь, что нервничае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згляните на аудиторию по-другом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спользуйте наглядные пособ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берите конкретного слуша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скажите яркое личное мн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кспериментируй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C:\Users\дом\Desktop\речь\39204.gif"/>
          <p:cNvPicPr/>
          <p:nvPr/>
        </p:nvPicPr>
        <p:blipFill>
          <a:blip r:embed="rId1"/>
          <a:stretch/>
        </p:blipFill>
        <p:spPr>
          <a:xfrm>
            <a:off x="6858000" y="3789360"/>
            <a:ext cx="228600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рамма 1. Нравится  ли вам выступать публично с докладом, презентацией  и т.п.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Диаграмма 5" descr=""/>
          <p:cNvPicPr/>
          <p:nvPr/>
        </p:nvPicPr>
        <p:blipFill>
          <a:blip r:embed="rId1"/>
          <a:srcRect l="0" t="0" r="0" b="-14"/>
          <a:stretch/>
        </p:blipFill>
        <p:spPr>
          <a:xfrm>
            <a:off x="785880" y="1571760"/>
            <a:ext cx="75722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рамма 2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равится  ли вам отвечать у доски?(%)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Диаграмма 4" descr=""/>
          <p:cNvPicPr/>
          <p:nvPr/>
        </p:nvPicPr>
        <p:blipFill>
          <a:blip r:embed="rId1"/>
          <a:stretch/>
        </p:blipFill>
        <p:spPr>
          <a:xfrm>
            <a:off x="785880" y="1571760"/>
            <a:ext cx="742932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рамма 3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наком ли вам страх публичных выступлений?(%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Диаграмма 2" descr=""/>
          <p:cNvPicPr/>
          <p:nvPr/>
        </p:nvPicPr>
        <p:blipFill>
          <a:blip r:embed="rId1"/>
          <a:stretch/>
        </p:blipFill>
        <p:spPr>
          <a:xfrm>
            <a:off x="1285920" y="1571760"/>
            <a:ext cx="664380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6T08:29:20Z</dcterms:created>
  <dc:creator>SamLab.ws</dc:creator>
  <dc:description/>
  <dc:language>en-US</dc:language>
  <cp:lastModifiedBy>дом</cp:lastModifiedBy>
  <dcterms:modified xsi:type="dcterms:W3CDTF">2015-01-22T17:24:45Z</dcterms:modified>
  <cp:revision>34</cp:revision>
  <dc:subject/>
  <dc:title>СТРАХ ПЕРЕД ПУБЛИЧНЫМ ВЫСТУПЛЕНИЕМ</dc:title>
</cp:coreProperties>
</file>