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5.wav" ContentType="audio/x-wav"/>
  <Override PartName="/ppt/media/image2.jpeg" ContentType="image/jpeg"/>
  <Override PartName="/ppt/media/image8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4.wav" ContentType="audio/x-wav"/>
  <Override PartName="/ppt/media/image6.png" ContentType="image/png"/>
  <Override PartName="/ppt/media/image5.wmf" ContentType="image/x-wmf"/>
  <Override PartName="/ppt/media/image10.png" ContentType="image/png"/>
  <Override PartName="/ppt/media/8.wav" ContentType="audio/x-wav"/>
  <Override PartName="/ppt/media/3.wav" ContentType="audio/x-wav"/>
  <Override PartName="/ppt/media/image4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2.wav" ContentType="audio/x-wav"/>
  <Override PartName="/ppt/media/image1.jpeg" ContentType="image/jpeg"/>
  <Override PartName="/ppt/media/image19.jpeg" ContentType="image/jpeg"/>
  <Override PartName="/ppt/media/9.wav" ContentType="audio/x-wav"/>
  <Override PartName="/ppt/media/image13.wmf" ContentType="image/x-wmf"/>
  <Override PartName="/ppt/media/image15.jpeg" ContentType="image/jpeg"/>
  <Override PartName="/ppt/media/6.wav" ContentType="audio/x-wav"/>
  <Override PartName="/ppt/media/image11.wmf" ContentType="image/x-wmf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EB4A-BDA9-426B-B39D-90AA0A057A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9806-7965-409A-9A34-67383E006F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9093-C87A-4D88-9178-0558AF327D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DC1F-6FA3-40C8-BF7B-D24437F0F5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AA5B-27B0-4A95-9965-669DFBCE48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405A-1794-48DA-B779-67FD4834D2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3661-B9D5-4643-9BAC-61F98B21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35C-C814-4073-8FAA-16659A8B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F22-882F-454A-BF8B-7453E8B9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E0B-1DE3-4650-AB08-C9FAAA2A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5CB-D682-4B26-A97B-D271085F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295-F433-4DD4-BDD9-4B49867E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C85-FDBC-4F33-97C5-8B482366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AC1-006B-4F79-94FB-C5113F8E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DA4-1B03-48B8-9DA1-822AA19D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F0E-02C2-478A-8CE4-C55D002D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CD5D-EA9A-4F88-AFB0-00773469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362-9054-4C0B-884D-DB08C222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0BAD-35DF-4360-AF27-8ACCBB01C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3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audio" Target="../media/4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audio" Target="../media/5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audio" Target="../media/6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8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9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2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Презентация проекта</a:t>
            </a:r>
            <a:br>
              <a:rPr sz="4400"/>
            </a:b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Волшебница - в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928600"/>
            <a:ext cx="640080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редняя групп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4"/>
          <p:cNvSpPr/>
          <p:nvPr/>
        </p:nvSpPr>
        <p:spPr>
          <a:xfrm>
            <a:off x="785880" y="571680"/>
            <a:ext cx="4887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Calibri"/>
              </a:rPr>
              <a:t>РАЗЛИЧНЫЕ СОСТОЯНИЯ ВОД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C:\Documents and Settings\Admin\Local Settings\Temporary Internet Files\Content.IE5\EAELFSSL\MP900433143[1].jpg"/>
          <p:cNvPicPr/>
          <p:nvPr/>
        </p:nvPicPr>
        <p:blipFill>
          <a:blip r:embed="rId1"/>
          <a:stretch/>
        </p:blipFill>
        <p:spPr>
          <a:xfrm>
            <a:off x="1371600" y="3143160"/>
            <a:ext cx="6400800" cy="371484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358120" cy="55004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4" descr=""/>
          <p:cNvPicPr/>
          <p:nvPr/>
        </p:nvPicPr>
        <p:blipFill>
          <a:blip r:embed="rId2"/>
          <a:stretch/>
        </p:blipFill>
        <p:spPr>
          <a:xfrm>
            <a:off x="2352600" y="109440"/>
            <a:ext cx="4438800" cy="11034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3857760" y="0"/>
            <a:ext cx="450036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4" descr=""/>
          <p:cNvPicPr/>
          <p:nvPr/>
        </p:nvPicPr>
        <p:blipFill>
          <a:blip r:embed="rId2"/>
          <a:stretch/>
        </p:blipFill>
        <p:spPr>
          <a:xfrm>
            <a:off x="281160" y="2889360"/>
            <a:ext cx="3436920" cy="113328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2652840" y="214200"/>
            <a:ext cx="5276880" cy="628668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3" descr=""/>
          <p:cNvPicPr/>
          <p:nvPr/>
        </p:nvPicPr>
        <p:blipFill>
          <a:blip r:embed="rId2"/>
          <a:stretch/>
        </p:blipFill>
        <p:spPr>
          <a:xfrm>
            <a:off x="-19080" y="2773440"/>
            <a:ext cx="3243240" cy="181116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819520" y="0"/>
            <a:ext cx="5110200" cy="585792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3" descr=""/>
          <p:cNvPicPr/>
          <p:nvPr/>
        </p:nvPicPr>
        <p:blipFill>
          <a:blip r:embed="rId2"/>
          <a:stretch/>
        </p:blipFill>
        <p:spPr>
          <a:xfrm>
            <a:off x="281160" y="212760"/>
            <a:ext cx="4437000" cy="114624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671400" y="507960"/>
            <a:ext cx="7786800" cy="52182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3" descr=""/>
          <p:cNvPicPr/>
          <p:nvPr/>
        </p:nvPicPr>
        <p:blipFill>
          <a:blip r:embed="rId2"/>
          <a:stretch/>
        </p:blipFill>
        <p:spPr>
          <a:xfrm>
            <a:off x="420840" y="4200480"/>
            <a:ext cx="2444760" cy="114624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357280" y="5286240"/>
            <a:ext cx="4286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5400" spc="-1" strike="noStrike">
                <a:solidFill>
                  <a:srgbClr val="376092"/>
                </a:solidFill>
                <a:latin typeface="Times New Roman"/>
              </a:rPr>
              <a:t>Лёд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rcRect l="0" t="35023" r="0" b="0"/>
          <a:stretch/>
        </p:blipFill>
        <p:spPr>
          <a:xfrm>
            <a:off x="595440" y="857160"/>
            <a:ext cx="7786440" cy="485784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0480" y="5572080"/>
            <a:ext cx="829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5400" spc="-1" strike="noStrike">
                <a:solidFill>
                  <a:srgbClr val="17375e"/>
                </a:solidFill>
                <a:latin typeface="Times New Roman"/>
              </a:rPr>
              <a:t>обла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rcRect l="0" t="0" r="0" b="4747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C:\Documents and Settings\Admin\Local Settings\Temporary Internet Files\Content.IE5\EAELFSSL\MP900202015[1].jpg"/>
          <p:cNvPicPr/>
          <p:nvPr/>
        </p:nvPicPr>
        <p:blipFill>
          <a:blip r:embed="rId1"/>
          <a:stretch/>
        </p:blipFill>
        <p:spPr>
          <a:xfrm>
            <a:off x="1143000" y="0"/>
            <a:ext cx="692928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643040" y="0"/>
            <a:ext cx="642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C:\Documents and Settings\Admin\Local Settings\Temporary Internet Files\Content.IE5\SZDX01GE\MP900433157[1].jpg"/>
          <p:cNvPicPr/>
          <p:nvPr/>
        </p:nvPicPr>
        <p:blipFill>
          <a:blip r:embed="rId1"/>
          <a:stretch/>
        </p:blipFill>
        <p:spPr>
          <a:xfrm>
            <a:off x="0" y="142920"/>
            <a:ext cx="8929800" cy="6486480"/>
          </a:xfrm>
          <a:prstGeom prst="rect">
            <a:avLst/>
          </a:prstGeom>
          <a:ln w="0">
            <a:noFill/>
          </a:ln>
        </p:spPr>
      </p:pic>
    </p:spTree>
  </p:cSld>
  <p:transition advTm="2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Вода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0040" y="114264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« Вода! У тебя нет ни вкуса, ни цвета, ни запаха. Тебя невозможно описать, тобой наслаждаются, не ведая, что ты такое! Нельзя сказать, что ты необходима для жизни: ты- сама жизнь. Ты наполняешь нас радостью, которую не объяснишь нашими чувствами… Ты самое большое богатство на свете…»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Антуан де Сент-Экзюпери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nts and Settings\Admin\Local Settings\Temporary Internet Files\Content.IE5\IG31J3AY\MP900316837[1].jpg"/>
          <p:cNvPicPr/>
          <p:nvPr/>
        </p:nvPicPr>
        <p:blipFill>
          <a:blip r:embed="rId1"/>
          <a:stretch/>
        </p:blipFill>
        <p:spPr>
          <a:xfrm>
            <a:off x="1000080" y="0"/>
            <a:ext cx="6572160" cy="67150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2714760" y="73836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C:\Documents and Settings\Admin\Local Settings\Temporary Internet Files\Content.IE5\6M454T0Y\MP900407176[1].jpg"/>
          <p:cNvPicPr/>
          <p:nvPr/>
        </p:nvPicPr>
        <p:blipFill>
          <a:blip r:embed="rId1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Admin\Local Settings\Temporary Internet Files\Content.IE5\IG31J3AY\MP900401709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Admin\Local Settings\Temporary Internet Files\Content.IE5\SZDX01GE\MP900425223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Admin\Local Settings\Temporary Internet Files\Content.IE5\SZDX01GE\MP900403289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Чистая вода – для хвори беда.</a:t>
            </a:r>
            <a:br>
              <a:rPr sz="2000"/>
            </a:br>
            <a:r>
              <a:rPr b="1" lang="en-US" sz="2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en-US" sz="2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Без воды нет жизни.</a:t>
            </a:r>
            <a:br>
              <a:rPr sz="2000"/>
            </a:br>
            <a:r>
              <a:rPr b="1" lang="en-US" sz="2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en-US" sz="2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Вода – начало всех начал.</a:t>
            </a:r>
            <a:br>
              <a:rPr sz="2000"/>
            </a:br>
            <a:r>
              <a:rPr b="1" lang="en-US" sz="2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en-US" sz="2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Вода – всему голова.</a:t>
            </a:r>
            <a:br>
              <a:rPr sz="2000"/>
            </a:br>
            <a:r>
              <a:rPr b="0" lang="en-US" sz="1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5" descr="http://dob.1september.ru/2003/11/44.jpg"/>
          <p:cNvPicPr/>
          <p:nvPr/>
        </p:nvPicPr>
        <p:blipFill>
          <a:blip r:embed="rId1"/>
          <a:stretch/>
        </p:blipFill>
        <p:spPr>
          <a:xfrm>
            <a:off x="2428920" y="2857680"/>
            <a:ext cx="4071960" cy="4000320"/>
          </a:xfrm>
          <a:prstGeom prst="rect">
            <a:avLst/>
          </a:prstGeom>
          <a:ln w="0">
            <a:noFill/>
          </a:ln>
        </p:spPr>
      </p:pic>
      <p:sp>
        <p:nvSpPr>
          <p:cNvPr id="54" name="Блок-схема: процесс 5"/>
          <p:cNvSpPr/>
          <p:nvPr/>
        </p:nvSpPr>
        <p:spPr>
          <a:xfrm>
            <a:off x="642960" y="500040"/>
            <a:ext cx="1643040" cy="364320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В народе говорят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6092"/>
                </a:solidFill>
                <a:latin typeface="Calibri"/>
              </a:rPr>
              <a:t>Матрица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499680"/>
            <a:ext cx="8229600" cy="80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азвание проекта</a:t>
            </a: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: «Волшебница вод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ематическое поле</a:t>
            </a: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: ознакомление с окружающим и природный ми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Формировать представление о том, что вода является жизненно важным явлением  для жизни человека, животных и растений, а так же единственной средой обитания некоторых животных, рыб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чи:   1. </a:t>
            </a: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асширять представление о значимости воды для жизни человека, животных и раст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. Формировать представление  о свойствах воды опытным путем и через наблюд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. Закрепить  у детей знания о разных состояниях  воды, о круговороте воды в приро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4.</a:t>
            </a: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Развивать любознательность и воображение, творческие способ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5.</a:t>
            </a: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Воспитывать бережливое отношение к водным ресурс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6. </a:t>
            </a: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оспитывать интерес и любовь к художественной литературе посредством  сказок, стихотворений, потешек, загадок и т.д.</a:t>
            </a: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92880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азработка проек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Этапы реализации проек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хема осуществления проек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ыполнение проек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дведение итогов </a:t>
            </a: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: обобщающая беседа, развлечение «Путешествие вместе с капелькой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ид проекта:</a:t>
            </a: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информационный,  практико – ориентирован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остав участников: </a:t>
            </a: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ети, родители, педагог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214280" y="357120"/>
          <a:ext cx="6643800" cy="6346800"/>
        </p:xfrm>
        <a:graphic>
          <a:graphicData uri="http://schemas.openxmlformats.org/drawingml/2006/table">
            <a:tbl>
              <a:tblPr/>
              <a:tblGrid>
                <a:gridCol w="857520"/>
                <a:gridCol w="4714920"/>
                <a:gridCol w="1071360"/>
              </a:tblGrid>
              <a:tr h="420840"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Этап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одержание деятель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ро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рганизацион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формление цели, зад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Беседы о значение воды для всего живого на земл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Решение проблемных ситуац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ктябр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1800"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ехнологиче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оведение занятий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оведение опытно – исследовательской деятельности с фиксацией результа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Чтение художественной литературы  по обнаружению  различных состояний воды и круговороте  воды в природ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Загадывание загадо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Рассматривание иллюстраций, картин, фотографий с изображением водоемов, их обитател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лушание музыкальных произведе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осмотр мультфильм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Уход за растениями уголка приро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Хозяйственно-бытовой тру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оябрь-февра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Заключитель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бобщение и систематизация полученных зна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Фиксирование результатов полученных знаний (рисунки, фотоальбом, слайды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Итоговое развлечение  (День воды – 22 марта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ерспективы: </a:t>
                      </a:r>
                      <a:r>
                        <a:rPr b="0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дальнейшее изучение гидросферы Земл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Изготовление фотоальбома «Отдых у водоемов» (во время летних отпусков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Изготовление плакатов «Берегите воду!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Мар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0" y="3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Этапы реализации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8760" y="357120"/>
          <a:ext cx="8215200" cy="6418440"/>
        </p:xfrm>
        <a:graphic>
          <a:graphicData uri="http://schemas.openxmlformats.org/drawingml/2006/table">
            <a:tbl>
              <a:tblPr/>
              <a:tblGrid>
                <a:gridCol w="3119400"/>
                <a:gridCol w="5095800"/>
              </a:tblGrid>
              <a:tr h="246240">
                <a:tc>
                  <a:txBody>
                    <a:bodyPr lIns="29160" rIns="29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Раздел программы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Содерж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Игровая деятель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Игры с водой: «Тонет – не тонет», «Кто быстрее перельет воду из одного сосуда в друго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Пальчиковые игры «Ты волна моя волна», «Дождик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Сюжетно – ролевая игра «Семь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Изобразительная деятель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Рисование «Подводный мир», «Капелька – проказница», аппликация «Волшебные снежинки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040"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Эколог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Наблюдения; Занятия «Превращение воды», «Берегите воду!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Уход за растениями (полив, опрыскивание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Речевые логические загадки:   «Удивительные капельки», «Волшебные льдинки», «Когда это бывает?», «Где снежинки?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Опытно- исследовательская деятельность: «Вода прозрачна, без вкуса», «Вода без запаха», «В воде растворяется не всё», «Вода принимает форму сосуда». «Окрашивание воды», «Изготовление цветных льдинок», «Взаимодействие воды и снега», «Загадочные пузырьки»,  «Где вода?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Проведение опыта по проращиванию срезанных веток дерева (с фиксацией результатов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Театрализованная деятель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Игра  - инсценировка «Водичка – сестрич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Этюд «Дождик»,  игра – имитация «Дождик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Развлечение «Путешествие вместе с капелько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Развитие реч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Составление рассказов из опыта «Как я отдыхал на водоемах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Составление описательных загадок о воде и разных ее состояния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Этические беседы «Как беречь воду»,  «Как вести себя у водоем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1680"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Художественная литерату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Чтение и заучивание потешек,  песенок , стихотворений «Тучка», «В банке чистая вода», «В речке летом ребята купались», «В родничке вода ключевая», «Мы любим умыватьс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Загадывание загадо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Заучивание стихотворения «Кап!кап!кап!» с помощью пиктограмм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Чтение сказок «Капелька», «История одной капельки», «Желтая страна», «Сказки про тучку со скверным характером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1"/>
          <p:cNvSpPr/>
          <p:nvPr/>
        </p:nvSpPr>
        <p:spPr>
          <a:xfrm>
            <a:off x="0" y="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осуществления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42960" y="357120"/>
          <a:ext cx="8001000" cy="6051600"/>
        </p:xfrm>
        <a:graphic>
          <a:graphicData uri="http://schemas.openxmlformats.org/drawingml/2006/table">
            <a:tbl>
              <a:tblPr/>
              <a:tblGrid>
                <a:gridCol w="3170160"/>
                <a:gridCol w="4830840"/>
              </a:tblGrid>
              <a:tr h="94320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зыкальное разви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слушивание музыкальных произве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доровье и физическ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вижная игра «Ручеек», «Водовозы», «Живое домино», «Солнышко и дожди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удовая деятель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зяйственно – бытовой труд (мытье игрушек, стирка кукольной одежд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уд в  уголке приро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56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ое разви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нятие «Уроки Айболит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седы «Как мы используем воду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смотр мультфильмов «Капитошка», «Уроки тетушки совы», «Капелька и ручее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сматривание  альбома  «Обитатели водоемо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сматривание дидактических картинок, иллюстраций о природе, отношении к н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 с родителя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борка музыкальных произведений для  создания фонотеки «Звуки воды» (скрип снега, журчание ручейка, шум водопада, струя воды из крана, хруст снега, кипение воды в чайнике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опыта по проращиванию луковицы  без воды и в вод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исование на тему  «Берегите воду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Овал 1"/>
          <p:cNvSpPr/>
          <p:nvPr/>
        </p:nvSpPr>
        <p:spPr>
          <a:xfrm>
            <a:off x="3214800" y="285840"/>
            <a:ext cx="32860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начение водных ресур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0" y="1428840"/>
            <a:ext cx="1357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ода как среда об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Блок-схема: процесс 3"/>
          <p:cNvSpPr/>
          <p:nvPr/>
        </p:nvSpPr>
        <p:spPr>
          <a:xfrm>
            <a:off x="1428840" y="1428840"/>
            <a:ext cx="1928880" cy="92844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здоровительно – гигиеническая ценност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процесс 4"/>
          <p:cNvSpPr/>
          <p:nvPr/>
        </p:nvSpPr>
        <p:spPr>
          <a:xfrm>
            <a:off x="3429000" y="1428840"/>
            <a:ext cx="1643040" cy="92844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рактическая ценность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Блок-схема: процесс 5"/>
          <p:cNvSpPr/>
          <p:nvPr/>
        </p:nvSpPr>
        <p:spPr>
          <a:xfrm>
            <a:off x="5143680" y="1428840"/>
            <a:ext cx="1628640" cy="92844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Эстетическая ценность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лок-схема: процесс 6"/>
          <p:cNvSpPr/>
          <p:nvPr/>
        </p:nvSpPr>
        <p:spPr>
          <a:xfrm>
            <a:off x="6929280" y="1428840"/>
            <a:ext cx="1857600" cy="92844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амоце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Прямая со стрелкой 10"/>
          <p:cNvCxnSpPr/>
          <p:nvPr/>
        </p:nvCxnSpPr>
        <p:spPr>
          <a:xfrm>
            <a:off x="5643720" y="1143000"/>
            <a:ext cx="72000" cy="286560"/>
          </a:xfrm>
          <a:prstGeom prst="straightConnector1">
            <a:avLst/>
          </a:prstGeom>
          <a:ln w="9360">
            <a:solidFill>
              <a:srgbClr val="365d8b"/>
            </a:solidFill>
            <a:miter/>
            <a:tailEnd len="med" type="arrow" w="med"/>
          </a:ln>
        </p:spPr>
      </p:cxnSp>
      <p:cxnSp>
        <p:nvCxnSpPr>
          <p:cNvPr id="72" name="Прямая со стрелкой 12"/>
          <p:cNvCxnSpPr>
            <a:endCxn id="68" idx="0"/>
          </p:cNvCxnSpPr>
          <p:nvPr/>
        </p:nvCxnSpPr>
        <p:spPr>
          <a:xfrm flipH="1">
            <a:off x="4249440" y="1143000"/>
            <a:ext cx="180000" cy="286560"/>
          </a:xfrm>
          <a:prstGeom prst="straightConnector1">
            <a:avLst/>
          </a:prstGeom>
          <a:ln w="9360">
            <a:solidFill>
              <a:srgbClr val="365d8b"/>
            </a:solidFill>
            <a:miter/>
            <a:tailEnd len="med" type="arrow" w="med"/>
          </a:ln>
        </p:spPr>
      </p:cxnSp>
      <p:cxnSp>
        <p:nvCxnSpPr>
          <p:cNvPr id="73" name="Прямая со стрелкой 21"/>
          <p:cNvCxnSpPr/>
          <p:nvPr/>
        </p:nvCxnSpPr>
        <p:spPr>
          <a:xfrm flipH="1">
            <a:off x="2642400" y="927720"/>
            <a:ext cx="786600" cy="500760"/>
          </a:xfrm>
          <a:prstGeom prst="straightConnector1">
            <a:avLst/>
          </a:prstGeom>
          <a:ln w="9360">
            <a:solidFill>
              <a:srgbClr val="365d8b"/>
            </a:solidFill>
            <a:miter/>
            <a:tailEnd len="med" type="arrow" w="med"/>
          </a:ln>
        </p:spPr>
      </p:cxnSp>
      <p:cxnSp>
        <p:nvCxnSpPr>
          <p:cNvPr id="74" name="Прямая со стрелкой 23"/>
          <p:cNvCxnSpPr>
            <a:stCxn id="65" idx="2"/>
          </p:cNvCxnSpPr>
          <p:nvPr/>
        </p:nvCxnSpPr>
        <p:spPr>
          <a:xfrm flipH="1">
            <a:off x="1071000" y="741960"/>
            <a:ext cx="2143800" cy="757800"/>
          </a:xfrm>
          <a:prstGeom prst="straightConnector1">
            <a:avLst/>
          </a:prstGeom>
          <a:ln w="9360">
            <a:solidFill>
              <a:srgbClr val="365d8b"/>
            </a:solidFill>
            <a:miter/>
            <a:tailEnd len="med" type="arrow" w="med"/>
          </a:ln>
        </p:spPr>
      </p:cxnSp>
      <p:cxnSp>
        <p:nvCxnSpPr>
          <p:cNvPr id="75" name="Прямая со стрелкой 25"/>
          <p:cNvCxnSpPr>
            <a:stCxn id="65" idx="6"/>
            <a:endCxn id="70" idx="0"/>
          </p:cNvCxnSpPr>
          <p:nvPr/>
        </p:nvCxnSpPr>
        <p:spPr>
          <a:xfrm>
            <a:off x="6500880" y="742680"/>
            <a:ext cx="1357920" cy="686520"/>
          </a:xfrm>
          <a:prstGeom prst="straightConnector1">
            <a:avLst/>
          </a:prstGeom>
          <a:ln w="9360">
            <a:solidFill>
              <a:srgbClr val="365d8b"/>
            </a:solidFill>
            <a:miter/>
            <a:tailEnd len="med" type="arrow" w="med"/>
          </a:ln>
        </p:spPr>
      </p:cxnSp>
      <p:sp>
        <p:nvSpPr>
          <p:cNvPr id="76" name="Блок-схема: альтернативный процесс 26"/>
          <p:cNvSpPr/>
          <p:nvPr/>
        </p:nvSpPr>
        <p:spPr>
          <a:xfrm>
            <a:off x="0" y="2786040"/>
            <a:ext cx="1357200" cy="407196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Необходимое условие для жизни людей, животных,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альтернативный процесс 27"/>
          <p:cNvSpPr/>
          <p:nvPr/>
        </p:nvSpPr>
        <p:spPr>
          <a:xfrm>
            <a:off x="1428840" y="2786040"/>
            <a:ext cx="1785960" cy="407196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Используется для гигиенических процедур, поддерживает и укрепляет здоровье человека: снимает усталость, поднимает настроение, используется для закал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альтернативный процесс 28"/>
          <p:cNvSpPr/>
          <p:nvPr/>
        </p:nvSpPr>
        <p:spPr>
          <a:xfrm>
            <a:off x="3357720" y="2786040"/>
            <a:ext cx="1714320" cy="407196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Используют в быту(стирка, убор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на заводах, гидроэлектростанциях (для выработки электроэнергии), в водоемах разводят ры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Блок-схема: альтернативный процесс 29"/>
          <p:cNvSpPr/>
          <p:nvPr/>
        </p:nvSpPr>
        <p:spPr>
          <a:xfrm>
            <a:off x="5143680" y="2786040"/>
            <a:ext cx="2286000" cy="407196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блюдая за морем, речкой, водопадом, человек испытывает удовольствие, наполняется положительными эмоциями. Свои впечатления передает в произведениях искусства(музыке, поэзии,картин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Блок-схема: альтернативный процесс 31"/>
          <p:cNvSpPr/>
          <p:nvPr/>
        </p:nvSpPr>
        <p:spPr>
          <a:xfrm>
            <a:off x="7500960" y="2786040"/>
            <a:ext cx="1643040" cy="407196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емля – уникальная экосистема. Оберегая даже самый маленький ее элемент – ручеек, человек способствует сохранению  природы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низ 32"/>
          <p:cNvSpPr/>
          <p:nvPr/>
        </p:nvSpPr>
        <p:spPr>
          <a:xfrm>
            <a:off x="428760" y="2357280"/>
            <a:ext cx="403200" cy="42876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33"/>
          <p:cNvSpPr/>
          <p:nvPr/>
        </p:nvSpPr>
        <p:spPr>
          <a:xfrm>
            <a:off x="2143080" y="2357280"/>
            <a:ext cx="50004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низ 34"/>
          <p:cNvSpPr/>
          <p:nvPr/>
        </p:nvSpPr>
        <p:spPr>
          <a:xfrm>
            <a:off x="4071960" y="2357280"/>
            <a:ext cx="50004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низ 35"/>
          <p:cNvSpPr/>
          <p:nvPr/>
        </p:nvSpPr>
        <p:spPr>
          <a:xfrm>
            <a:off x="5715000" y="2357280"/>
            <a:ext cx="50004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низ 36"/>
          <p:cNvSpPr/>
          <p:nvPr/>
        </p:nvSpPr>
        <p:spPr>
          <a:xfrm>
            <a:off x="7929720" y="2357280"/>
            <a:ext cx="50004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7:43:24Z</dcterms:created>
  <dc:creator>Admin</dc:creator>
  <dc:description/>
  <dc:language>en-US</dc:language>
  <cp:lastModifiedBy>Admin</cp:lastModifiedBy>
  <dcterms:modified xsi:type="dcterms:W3CDTF">2012-07-04T20:36:51Z</dcterms:modified>
  <cp:revision>79</cp:revision>
  <dc:subject/>
  <dc:title>Фотоальбом</dc:title>
</cp:coreProperties>
</file>