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2A6-821D-4D40-AA20-C3978A04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51C-C6FA-498B-9B97-A9C16AC3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DB6-BA8A-4FA2-AEB2-E20C8B23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518-3C5E-45BA-91B2-ACAF38E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B15-99E3-44DC-B01D-8BFF9307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DA4B-CEBF-42A8-BDB5-D21E729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D90F-E7D2-49C5-BF72-151C02C5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78E-4B92-4D4B-8676-88627E73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54A-F3F2-4D1A-B4B5-9593B213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716-EC5E-4D01-ABD6-F495F257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5131-D95A-4729-8D62-3F4D564C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BB4-0F71-418A-9CED-0BF9B3D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AAD-E0AF-41FF-89C9-D1BD9F54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6E7-F9DA-4B53-8DCF-13E4A0C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25A1-691F-4254-B2F7-A4EAE58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974B-B1EC-418F-98CC-8C01BB62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6FA-F05D-4837-8DD4-F91D1902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60C-B2ED-48D4-8C57-681C4FDC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29E-7DF4-426C-B9D4-BF0E8F9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6D4-C29A-49AB-A3CD-58343F8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B65-B284-49E3-9ED1-DDEA758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F9B-BAE4-4268-B5E5-514D897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03E-0F9E-4B84-A658-23B50BC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03B-2378-4C9A-A183-91881094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918-6DB7-4822-B57E-46A3928253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058-BEEA-4D3C-9195-3EB3CAFEE3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86080" y="4928760"/>
            <a:ext cx="52084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28548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Возрастные особенности младших подростков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Основные задачи развития в этот период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рмирование нового уровня мышлени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логической памяти, избирательного, устойчивого вним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рмирование широкого спектра  способностей и интересов, выделение круга устойчивых интерес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рмирование интереса к другому человеку как к лич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витие интереса к себе как к личности, формирование первых навыков самоанализ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1680" y="500040"/>
            <a:ext cx="85406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развитие чувства взрослост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развитие чувства собственного достоинства, внутренних критериев самооценк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развитие форм и навыков личностного общения в группе сверстников и  способов их взаимопониман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развитие моральных чувств, форм сочувствия и сопереживания другим людя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формирование представлений о происходящих изменениях, связанных с половым созревание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42920" y="285840"/>
          <a:ext cx="8821800" cy="5949720"/>
        </p:xfrm>
        <a:graphic>
          <a:graphicData uri="http://schemas.openxmlformats.org/drawingml/2006/table">
            <a:tbl>
              <a:tblPr/>
              <a:tblGrid>
                <a:gridCol w="2000160"/>
                <a:gridCol w="2212920"/>
                <a:gridCol w="2232000"/>
                <a:gridCol w="237672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1. Появление чувства взросл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емление делать что-то значимое, социально поощряем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пируются чисто  внешние признаки взрослости (курение, употребление алкоголя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ощрять проявление общественно одобряемых черт взросл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2. Начало "ценностного конфликта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стаивание собственного понимания взглядов на мир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личение взрослых в том, что они сами не следуют нормам, которые провозглашаю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блюдать принципы справедливости, объяснять требования детям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285840"/>
          <a:ext cx="8750160" cy="6072120"/>
        </p:xfrm>
        <a:graphic>
          <a:graphicData uri="http://schemas.openxmlformats.org/drawingml/2006/table">
            <a:tbl>
              <a:tblPr/>
              <a:tblGrid>
                <a:gridCol w="2004840"/>
                <a:gridCol w="2335320"/>
                <a:gridCol w="2187720"/>
                <a:gridCol w="22222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Garamond"/>
                          <a:ea typeface="Times New Roman"/>
                        </a:rPr>
                        <a:t>3. Новый период в нравственном развити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ановятся значимыми ценности, выходящие за рамки его жизни (справедливость, искренность, свобода, любовь)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Ребенку важнее говорить о ценностях, принципах, чем претворять их в жизнь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зрослые должны отстаивать свою точку зрения, но очень доброжелательно и аргументирован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Garamond"/>
                          <a:ea typeface="Times New Roman"/>
                        </a:rPr>
                        <a:t>4.Потребительское отношение  к взрослым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Желание проверить равенство прав со взрослыми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Расширение своих прав и сужение своих обязанносте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Не снижать требований, объясняя их разумность. Но помогать ребенку выполнять эти требования (он должен чувствовать безопасность)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14200" y="277920"/>
          <a:ext cx="8643960" cy="6246720"/>
        </p:xfrm>
        <a:graphic>
          <a:graphicData uri="http://schemas.openxmlformats.org/drawingml/2006/table">
            <a:tbl>
              <a:tblPr/>
              <a:tblGrid>
                <a:gridCol w="1968480"/>
                <a:gridCol w="2293920"/>
                <a:gridCol w="2167200"/>
                <a:gridCol w="221436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5. "Право на родителей"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отят получить подтверждение того, что их по-прежнему любят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ановятся капризными, требовательными, хотят новых проявлений родительской любви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ить детей различию в способах выражения чувств между взрослыми и детьми, чужими и близкими.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6. Недостаточный опыт общени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ожь, агрессия, замкнутость, вызванные неспособностью объяснить свое поведение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местный анализ поступков ребенка, выражение понимани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14200" y="277920"/>
          <a:ext cx="8715600" cy="5852880"/>
        </p:xfrm>
        <a:graphic>
          <a:graphicData uri="http://schemas.openxmlformats.org/drawingml/2006/table">
            <a:tbl>
              <a:tblPr/>
              <a:tblGrid>
                <a:gridCol w="1928880"/>
                <a:gridCol w="2238480"/>
                <a:gridCol w="2249280"/>
                <a:gridCol w="229896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7. Развитие самооцен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бенок начинает ориентироваться на реальные достижения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ыявляется группа ребят, не считающих себя способными ни к одному предмету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спользование "эффекта Розенталя"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8. Потребность говорить о себе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сутствие рефлексии и  достаточного словарного запаса, описывающего чувства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ать возможность говорить о себе, своих удачах и неудачах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42920" y="260280"/>
          <a:ext cx="8858160" cy="6189840"/>
        </p:xfrm>
        <a:graphic>
          <a:graphicData uri="http://schemas.openxmlformats.org/drawingml/2006/table">
            <a:tbl>
              <a:tblPr/>
              <a:tblGrid>
                <a:gridCol w="2071800"/>
                <a:gridCol w="2287440"/>
                <a:gridCol w="2249640"/>
                <a:gridCol w="224928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9. Учение обретает личностный смысл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ируется интерес к какой-либо деятельност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сутствие учебной мотивации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здание классов, групп по уровням обучения, по интересам. Занятия научной работой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10. Познавательная  активность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ик любознательности Формирование устойчивых интересов. Мода на интересы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устойчивый характер интересов, отрицание того, что их главный труд - учеб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ировать воспитывающую образовательную среду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14200" y="1197000"/>
          <a:ext cx="8715600" cy="3835440"/>
        </p:xfrm>
        <a:graphic>
          <a:graphicData uri="http://schemas.openxmlformats.org/drawingml/2006/table">
            <a:tbl>
              <a:tblPr/>
              <a:tblGrid>
                <a:gridCol w="2071800"/>
                <a:gridCol w="2209680"/>
                <a:gridCol w="2211480"/>
                <a:gridCol w="222264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собенность, черта характер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ложи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трицательное проявле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спитательное воздейств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11. Формирование понятийного мышлени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ируется научный язык, умение логически мыслить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понимание значения самых распространен-ных  слов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авать определение понятий, добиваться полного понимания.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Возможные нарушения в развития личности в подростковом возрасте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"Аффект неадекватности"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искажение самооценки, при котором человек видит только свои успехи, неудачи не замечаются и не анализирую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"Дефицит успеха"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 ребенок считает успех случайным, не верит в свои си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"Задержка развития интеллекта"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о возможен "эффект внезапного пробуждения интеллекта"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зко и  быстро сформировавшая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тивация уч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80240" y="4005360"/>
            <a:ext cx="3263760" cy="2662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7150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Л. ВЫГОТСКИЙ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400" y="356760"/>
            <a:ext cx="80658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лючом ко всей проблеме психологического развития подростка является проблема интересов в переходном возрасте. Все психологические функции человека на каждой ступени  развития действуют не бессистемно, не автоматически и не случайно, а в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пределенной системе, направляемые сложившимися в подростковом возрасте стремлениями, влечениями, интересами.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4681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80c"/>
                </a:solidFill>
                <a:latin typeface="Garamond"/>
              </a:rPr>
              <a:t>Важнейшим содержанием психического развития подростков является развитие самосознания (интерес к собственной личности, выявление своих возможностей и их оценка)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55840" y="3529080"/>
            <a:ext cx="40417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00080c"/>
                </a:solidFill>
                <a:latin typeface="Garamond"/>
              </a:rPr>
              <a:t>Центральным новообразованием этого возраста является возникновение чувства взросл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6" descr="р"/>
          <p:cNvPicPr/>
          <p:nvPr/>
        </p:nvPicPr>
        <p:blipFill>
          <a:blip r:embed="rId2"/>
          <a:stretch/>
        </p:blipFill>
        <p:spPr>
          <a:xfrm>
            <a:off x="5867280" y="404640"/>
            <a:ext cx="2808360" cy="259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3952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684360" y="981000"/>
            <a:ext cx="7921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47640" y="3284640"/>
            <a:ext cx="50403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2868120"/>
            <a:ext cx="77230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подростковом возрасте происходит изменение характера познавательной деятельности: появляется способность к более сложному аналитико-синтетическому восприятию предметов и явлений, формируется способность самостоятельно мыслить, рассуждать, сравнивать, делать относительно глубокие выводы и обобщ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вивается способность к абстрактному мышлению, интенсивное развитие произвольной памя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00720" y="92880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211640" y="549360"/>
            <a:ext cx="4537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сходит сознательное усвоение ценностей и норм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44863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начимой особенностью мышления подростка является его критичность (у ребёнка появляется своё мнение, которое он демонстрирует как можно чаще, заявляя о себе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84360" y="4221000"/>
            <a:ext cx="792000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этом возрасте подросток весьма подражателен, что может привести его к ошибочным и даже к аморальным представлениям и поступ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813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Если хотите, чтобы подростковый возраст прошел без осложнений, следует соблюдать следующие требования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5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ростка очень хрупкий организм, он может часто болеть, у него обостряются хронические заболевания. Надо помочь организму справиться с перестройко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этого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строго следите за соблюдением режима дня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позволяйте злоупотреблять острой пищей, пить много кофе, есть много шоколада (это крайне вредно для  подростка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502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ростки много времени проводят в праздности: часами болтают по телефону, смотрят телевизор, круглосуточно слушают громкую музыку, не расстаются с Интернет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Научите ребенка дорожить своим времене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Норма просмотра телепередач, компьютерные игры в этом возрасте – 60 минут в день, а для возбудимых детей и того меньш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е важное для ребенка – общен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Разговаривайте с ним каждый день, обсуждайте, что интересного произошло в течение дня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выпытывайте у него информацию, лучше организуйте диалог, расскажите о своих проблемах, таким образом подавая ребенку пример самораскрытия. Чаще обсуждайте с ним разные вопросы семейной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41943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Старайтесь не ругать подростка в случае неудачи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Помогите ему разобраться в причинах случившего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Чаще хвалите ребенка и проявляйте любовь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не забывайте о тактильном контакте (обнимайте, целуйте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5" descr="i"/>
          <p:cNvPicPr/>
          <p:nvPr/>
        </p:nvPicPr>
        <p:blipFill>
          <a:blip r:embed="rId2"/>
          <a:stretch/>
        </p:blipFill>
        <p:spPr>
          <a:xfrm>
            <a:off x="4716360" y="33336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3851280" y="3860640"/>
            <a:ext cx="47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ывая, что главное новообразование возраста – чувство взрослости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сширяя обязанности подростка, не забывайте расширять е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т"/>
          <p:cNvPicPr/>
          <p:nvPr/>
        </p:nvPicPr>
        <p:blipFill>
          <a:blip r:embed="rId3"/>
          <a:stretch/>
        </p:blipFill>
        <p:spPr>
          <a:xfrm>
            <a:off x="755640" y="4221000"/>
            <a:ext cx="2376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320" y="333360"/>
            <a:ext cx="484668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Приучайте подростка к систематическому труду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 него обязательно должны быть обязанности по д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Создайте дома обстановку нетерпимости к курению и употреблению алкоголя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тогда и у ребенка не появятся подобные вредные привыч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1" descr="i?id=124836171&amp;tov=8"/>
          <p:cNvPicPr/>
          <p:nvPr/>
        </p:nvPicPr>
        <p:blipFill>
          <a:blip r:embed="rId2"/>
          <a:stretch/>
        </p:blipFill>
        <p:spPr>
          <a:xfrm>
            <a:off x="6924600" y="1773360"/>
            <a:ext cx="2219400" cy="234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2857680" cy="237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2552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4321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Обязательно организуйте  систематические занятия спортом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ледите за тем, чтобы ребенок посещал уроки физкультуры, помогите ему выбрать спортивную секц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i?id=24821531&amp;tov=4"/>
          <p:cNvPicPr/>
          <p:nvPr/>
        </p:nvPicPr>
        <p:blipFill>
          <a:blip r:embed="rId2"/>
          <a:stretch/>
        </p:blipFill>
        <p:spPr>
          <a:xfrm>
            <a:off x="1171440" y="3529080"/>
            <a:ext cx="3052800" cy="2560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4572000" y="321300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лучае появления у ребенка необычной манеры поведения проанализируйте причины ее появления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при необходимости  обратитесь к психоло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45:59Z</dcterms:created>
  <dc:creator>HP530</dc:creator>
  <dc:description/>
  <dc:language>en-US</dc:language>
  <cp:lastModifiedBy>Admin</cp:lastModifiedBy>
  <dcterms:modified xsi:type="dcterms:W3CDTF">2014-12-17T13:43:00Z</dcterms:modified>
  <cp:revision>14</cp:revision>
  <dc:subject/>
  <dc:title>Возрастные особенности младших подростков</dc:title>
</cp:coreProperties>
</file>