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9F9-3D1F-48D9-9440-B90453164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60D-95CF-400A-8411-514CAC28B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738-C94F-4734-8002-A14C77BA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5DE-983B-4BF8-A452-243605D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BCC-C7CC-46F3-BDC6-C4A423E8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603-D0F0-42AA-9190-3512DF72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74AD-05BD-445C-993C-6349C251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76C8-546C-44BE-8FDA-3326BEB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1B36-1DEE-435E-B728-9AFB821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FFCB-421F-4E5B-8B22-CAEE5CFE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8569-C6FA-4357-B6EA-97659065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4F2-89CA-445D-98E0-218FC41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529E-D765-4FC0-A0F3-C9F24E3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E06-8D99-4C68-BCDD-C667267A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85D-E6AD-4DFA-990C-E81E1AF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11EB-23E6-49DC-BD1F-C3EA920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6749-3E86-4604-B834-1508CE08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1444-4E1A-413E-85D9-021DD5B1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8AB3-AF69-4492-9DE7-25D9F400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DE3-C1C8-4DAE-B425-E7335FD2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15C-5B9A-44B6-AD7A-6A0BB99C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134-9090-4577-B7FC-226DA6B9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F74-4B83-4DBD-8A4B-8ABB773B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8E2-FE4D-4088-B634-5A889AE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3FE-65B7-4517-B042-55CFF56A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52A-6803-47F5-A487-E8016A1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b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8F5-5A0C-4064-BF1D-E8B45744C5B5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b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851-39AC-4177-A9F1-084C1750D304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2;&#1090;&#1086;&#1088;.ppt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93;&#1080;&#1084;&#1080;&#1103;/&#1043;&#1072;&#1079;&#1080;&#1088;&#1086;&#1074;&#1072;&#1085;&#1085;&#1072;&#1103;%20&#1074;&#1086;&#1076;&#1072;.ppt" TargetMode="External"/><Relationship Id="rId2" Type="http://schemas.openxmlformats.org/officeDocument/2006/relationships/hyperlink" Target="file:///&#1093;&#1080;&#1084;&#1080;&#1103;/&#1048;&#1089;&#1089;&#1083;&#1077;&#1076;&#1086;&#1074;&#1072;&#1085;&#1080;&#1077;%20&#1079;&#1091;&#1073;&#1085;&#1099;&#1093;%20&#1087;&#1072;&#1089;&#1090;.ppt" TargetMode="External"/><Relationship Id="rId3" Type="http://schemas.openxmlformats.org/officeDocument/2006/relationships/hyperlink" Target="file:///&#1093;&#1080;&#1084;&#1080;&#1103;/&#1082;&#1088;&#1072;&#1089;&#1080;&#1090;&#1077;&#1083;&#1080;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5278320" y="4443480"/>
            <a:ext cx="3511800" cy="1993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00720" y="642600"/>
            <a:ext cx="42861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nstantia"/>
              </a:rPr>
              <a:t>Расскажи мне, и я забуду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nstantia"/>
              </a:rPr>
              <a:t>Покажи мне, и я запомн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nstantia"/>
              </a:rPr>
              <a:t>Вовлеки меня, и я научус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nstantia"/>
              </a:rPr>
              <a:t>Китайская мудрость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714240" y="235728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Педагогически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Электронная презентация –как   мех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повышения качества  химическ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7200" y="7855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боснование способа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решения проблемы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714920" y="385776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11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етоды исследования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450720" y="1884240"/>
            <a:ext cx="824256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620280"/>
            <a:ext cx="8258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истема применения средств ИТО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42" name="Содержимое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7560"/>
            <a:ext cx="8686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еоретическая значимость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ка тематических электронных образовательных ресурс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такого банка – процесс довольно трудоёмкий и учащиеся здесь – первые помощн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800100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актическая значимость</a:t>
            </a: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.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ый материал, может быть использован для проведения элективных курс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 создание странички на школьном сайте и размещение учительского и ученического матери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овые презентации заинтересовали ребят. Они с удовольствием ведут исследовательскую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6800" y="704880"/>
            <a:ext cx="78296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емы проектов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проект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"/>
              </a:rPr>
              <a:t>«Газированная вода»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ласс, 2009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исследовательский проект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«Исследование зубных паст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ласс 2010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проект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"/>
              </a:rPr>
              <a:t>«Натуральные красители»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ласс. 201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713880"/>
            <a:ext cx="80010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Результаты</a:t>
            </a: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 повышения </a:t>
            </a: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качества   образования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515736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процессом обучения показали, что  на уроках с использованием ИКТ возрастает мотивация обучающих, качество химического образования. Даже слабо подготовленные учащиеся работают более активно, не отвлекаются, заинтересованно выполняют зад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1" name="Диаграмма 4" descr=""/>
          <p:cNvPicPr/>
          <p:nvPr/>
        </p:nvPicPr>
        <p:blipFill>
          <a:blip r:embed="rId1"/>
          <a:stretch/>
        </p:blipFill>
        <p:spPr>
          <a:xfrm>
            <a:off x="1473120" y="1793880"/>
            <a:ext cx="6197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Сформированность мотивационно-самоорганизационных состояний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76640"/>
          <a:ext cx="8229600" cy="35812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4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ние смысла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редставление о результа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полаг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к достижению ц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контроль и самооце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9ff"/>
                    </a:solidFill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 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  - 4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 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5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27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5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27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5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27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5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27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4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27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27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36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4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изкий-18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редний-54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ысокий-27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785520"/>
            <a:ext cx="7443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формированность мотивационно-познавательных состояний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55" name="Диаграмма 3" descr=""/>
          <p:cNvPicPr/>
          <p:nvPr/>
        </p:nvPicPr>
        <p:blipFill>
          <a:blip r:embed="rId1"/>
          <a:stretch/>
        </p:blipFill>
        <p:spPr>
          <a:xfrm>
            <a:off x="-6480" y="2706840"/>
            <a:ext cx="5658120" cy="2724120"/>
          </a:xfrm>
          <a:prstGeom prst="rect">
            <a:avLst/>
          </a:prstGeom>
          <a:ln w="0">
            <a:noFill/>
          </a:ln>
        </p:spPr>
      </p:pic>
      <p:pic>
        <p:nvPicPr>
          <p:cNvPr id="156" name="Диаграмма 6" descr=""/>
          <p:cNvPicPr/>
          <p:nvPr/>
        </p:nvPicPr>
        <p:blipFill>
          <a:blip r:embed="rId2"/>
          <a:stretch/>
        </p:blipFill>
        <p:spPr>
          <a:xfrm>
            <a:off x="566640" y="2779560"/>
            <a:ext cx="3651480" cy="2725920"/>
          </a:xfrm>
          <a:prstGeom prst="rect">
            <a:avLst/>
          </a:prstGeom>
          <a:ln w="0">
            <a:noFill/>
          </a:ln>
        </p:spPr>
      </p:pic>
      <p:pic>
        <p:nvPicPr>
          <p:cNvPr id="157" name="Диаграмма 4" descr=""/>
          <p:cNvPicPr/>
          <p:nvPr/>
        </p:nvPicPr>
        <p:blipFill>
          <a:blip r:embed="rId3"/>
          <a:stretch/>
        </p:blipFill>
        <p:spPr>
          <a:xfrm>
            <a:off x="4638600" y="2706840"/>
            <a:ext cx="4297320" cy="26571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357120" y="56437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Начальная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857920" y="5643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Итоговая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ыводы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61" name="Содержимое 4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3394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4720" y="549000"/>
            <a:ext cx="6472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Актуальность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00008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88c"/>
                </a:solidFill>
                <a:latin typeface="Constanti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условиях огромного информационного потока последних десятилетий актуальной становится задача развития активности и самостоятельности школьника, его способности к познанию нового и решению сложных жизненных проблем. Образованный человек в современном обществе – это не только и не столько человек, вооруженный знаниями, но умеющий добывать, приобретать знания и применять их в любой ситуации. Выпускник школы должен адаптироваться в меняющихся жизненных ситуациях, самостоятельно критически мыслить, быть коммуникабельным, контактным в различных социальных групп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ечь идет о формировании у обучающихся современных ключевых компетенций: общенаучной, информационной, познавательной, коммуникативной, ценностно-смысловой, социальн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еимущества метода проектов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н дает возможность организовать учебную деятельность, соблюдая разумный баланс между теорией и практико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успешно интегрируется в образовательный процесс; обеспечивает не только интеллектуальное, но и нравственное развитие детей, их самостоятельность, активность; позволяет приобретать обучающимся опыт социального взаимодействия, сплачивает детей, развивает коммуникативнос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Информационные ресурсы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@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учение для будущего» (при поддерж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редакция: Е.Н.Ястребцевой и Я.С.Быховского «Русская редакция»,2005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т Е.С. Новые педагогические и информационные технологии в системе образования,М.:АСАДЕМА,200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пова Н.К. Роль проективной методики в формировании ключевых компетенций выпускника школы. /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пова Н.К., Вязовова О.В., Телелюхина О. В. Проектная  деятельность с использованием ИКТ:Сборник материалов учебно-методических проектов. Тамбов,24 ноября 2004г. – Тамбов: ТОИПКРО,2005.-37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вко Г. К.  Современные образовательные технологии.- М.: Народное образ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и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ов А. В.  «Информационные технологии в    образовании» РГПУ им. А.Н. Герцен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gontf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dex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4" descr="D:\001\Documents and Settings\1\Мои документы\Мои рисунки\Новая папка\Для сайта\Картинки анимированные\book15.gif"/>
          <p:cNvPicPr/>
          <p:nvPr/>
        </p:nvPicPr>
        <p:blipFill>
          <a:blip r:embed="rId1"/>
          <a:stretch/>
        </p:blipFill>
        <p:spPr>
          <a:xfrm>
            <a:off x="214200" y="0"/>
            <a:ext cx="1643040" cy="81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001\Documents and Settings\1\Мои документы\Мои рисунки\Новая папка\Для сайта\Картинки анимированные\book15.gif"/>
          <p:cNvPicPr/>
          <p:nvPr/>
        </p:nvPicPr>
        <p:blipFill>
          <a:blip r:embed="rId2"/>
          <a:stretch/>
        </p:blipFill>
        <p:spPr>
          <a:xfrm>
            <a:off x="7358040" y="0"/>
            <a:ext cx="15001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2" descr=""/>
          <p:cNvPicPr/>
          <p:nvPr/>
        </p:nvPicPr>
        <p:blipFill>
          <a:blip r:embed="rId1"/>
          <a:stretch/>
        </p:blipFill>
        <p:spPr>
          <a:xfrm>
            <a:off x="450720" y="749160"/>
            <a:ext cx="83026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2789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8840" y="35676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Противоречия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b32c1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высоким уровнем требований к ЗУН и недостаточным владением учениками приемами учебной деятельност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 информационным потоком и отсутствие навыков  критической обработки поступающей информаци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традиционной методикой преподавания химии и активными формами и приемами работы, развивающими познавательный интерес школьника и стимулирующими положительную мотивацию к учен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епродуктивным характером обучения и стремлению личности к творческому самовыражен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90092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Цель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840" y="2214360"/>
            <a:ext cx="8143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спользуя проектную деятельность на уроках способствовать созданию условий для развития ключевых компетенций обучаемых и повышению качества химического образования, интереса  к  химии,  развитию творческих способностей учащихся 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28560" y="785520"/>
            <a:ext cx="6257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Задачи проекта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ичностные качества: самостоятельность, внимание, умение концентрироваться, работать с большим объемом информ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исследовательской рабо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 проверить влияние использования ИКТ на развития познавательной активност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работы в команд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0080" y="7045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бъект исследования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228600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бучения хим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714240" y="3141720"/>
            <a:ext cx="7429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едмет  исследова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95280" y="4508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применения электронных   презентаций на различных этапах уро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1196640"/>
            <a:ext cx="8043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Новизна</a:t>
            </a:r>
            <a:br>
              <a:rPr sz="5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разработке материала направленного на развитие самосто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обывании, приобретении знаний и применении их в любой ситуации.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комфортных условий, положительной мотивации к учению.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213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ипотез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спользовать систематически современные педагогические технологии, интегрируя их с ИТО, на различных этапах урока, то у учащихся возрастет мотивация и  качество химического  образ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71760" y="7045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9933ff"/>
                </a:solidFill>
                <a:uFillTx/>
                <a:latin typeface="Times New Roman"/>
                <a:ea typeface="Times New Roman"/>
              </a:rPr>
              <a:t>Постановка проблемы</a:t>
            </a:r>
            <a:r>
              <a:rPr b="1" lang="ru-RU" sz="5000" spc="-1" strike="noStrike" u="sng">
                <a:solidFill>
                  <a:srgbClr val="9933ff"/>
                </a:solidFill>
                <a:uFillTx/>
                <a:latin typeface="Calibri"/>
              </a:rPr>
              <a:t>: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ный материал, предложенный учащимся в форме рассказа, не создает на уроке ситуацию решения учебной  проблемы.  Поэтому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для построения образовательного процесса, опирающегося на потребности, способности и возможности всех его субъектов, нам нужны деятельностные, групповые, игровые, ролевые, практико-ориентированные, проблемные, рефлексивные и прочие формы и методы обучения. Среди разнообразных направлений современных методик и технологий наиболее адекватным поставленным целям является метод проект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7030a0"/>
                </a:solidFill>
                <a:uFillTx/>
                <a:latin typeface="Calibri"/>
              </a:rPr>
              <a:t>Планируемые результаты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3"/>
          <p:cNvSpPr/>
          <p:nvPr/>
        </p:nvSpPr>
        <p:spPr>
          <a:xfrm>
            <a:off x="642960" y="2143080"/>
            <a:ext cx="2571840" cy="1571760"/>
          </a:xfrm>
          <a:prstGeom prst="roundRect">
            <a:avLst>
              <a:gd name="adj" fmla="val 16667"/>
            </a:avLst>
          </a:prstGeom>
          <a:solidFill>
            <a:srgbClr val="004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высить качеств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4"/>
          <p:cNvSpPr/>
          <p:nvPr/>
        </p:nvSpPr>
        <p:spPr>
          <a:xfrm>
            <a:off x="4500720" y="2071800"/>
            <a:ext cx="2571480" cy="1571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onstantia"/>
              </a:rPr>
              <a:t>Создать б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onstantia"/>
              </a:rPr>
              <a:t>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5"/>
          <p:cNvSpPr/>
          <p:nvPr/>
        </p:nvSpPr>
        <p:spPr>
          <a:xfrm>
            <a:off x="571680" y="4214880"/>
            <a:ext cx="2571480" cy="1700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звитие познавательного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6"/>
          <p:cNvSpPr/>
          <p:nvPr/>
        </p:nvSpPr>
        <p:spPr>
          <a:xfrm>
            <a:off x="4643280" y="4286160"/>
            <a:ext cx="2714760" cy="1629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сследовател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кие 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13:48Z</dcterms:created>
  <dc:creator>светик</dc:creator>
  <dc:description/>
  <dc:language>en-US</dc:language>
  <cp:lastModifiedBy>Наталья</cp:lastModifiedBy>
  <dcterms:modified xsi:type="dcterms:W3CDTF">2013-07-28T12:40:46Z</dcterms:modified>
  <cp:revision>237</cp:revision>
  <dc:subject/>
  <dc:title>Слайд 1</dc:title>
</cp:coreProperties>
</file>