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108B-786A-4D8D-8CA8-17E97F5F1A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47A3-0BE5-4184-AA78-0DF632082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редложение – 5 секунд, 2-5 предложение – 4 секун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1735-7DA5-42E5-B959-C9445E1F9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предложение – 4 секунды, 3 предложение– 5 секунд, 4 предложение – 7 секунд, 5 предложение – 8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C953-7149-456D-BED3-F9E2CF41F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предложение – 10 секунд, 3-4 предложение – 7 секунд, 5 предложение – 10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910B-02A7-483F-AADA-FB9392410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7 секунд, 5 предложение – 5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ABC9-A46F-44FD-B254-2765BCF67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5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A802-737A-43B6-A8C6-47B591DE0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2F45-1817-4E98-8224-78844D143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5C33-9729-4713-B5DF-564F70E1F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AA5E-F38D-4C2F-9147-3F8BFC31F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8E60-465F-4C09-8B22-E0189098F3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F14E-44EC-4C53-AA44-FB8240A9AA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9B35-ACED-46C8-A70F-17B376418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5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3B5D-EADD-4A3D-AE60-0BA385757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3 предложение – 5 секунд, 4-5 предложение – 6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FBD2-95AC-4643-992A-1FE6612D88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7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E0A9-E5A4-461E-8012-9BFB80A0F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8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5CA1-456B-4D52-AF41-769FAB819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2 предложение - 4 сек, 3 - 5предложение - 5 с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0C5F-3EEF-4290-B4B9-B36FA144C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6 секунд, 5 предложение -7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9C6F-51B6-4641-AB31-7E8E1DCA4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редложение – 7 секунд, 2-5 – 8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DF0C-9262-4A9D-8A3B-0C224F9D1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8 секунд, 5 предложение - 7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D906-9B3C-47D0-AA50-DD92F147D7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7 секунд, 5 предложение - 6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6526-DAE6-4D91-BAB0-72593C149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едложения – 6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52B3-13AC-46A3-A3FD-31593AC37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едложения – 5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892-BDA5-451A-8771-8123A3F5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ACD-8EB6-44ED-8832-4E312328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1C0-683D-4422-8BDE-4A51830F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9EB-45E4-4343-AEF2-CA8E31ED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2E8E-E48D-471A-BC05-34F55DD6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6500-F6F9-48B5-A378-08CFAC4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623A-CB03-48FB-AE95-91300914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B1E1-943D-449D-934B-6899D1F2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2AE2-ECDA-46EC-8E76-9087D8C8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DDCB-8F35-4555-817C-DF399882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D60D-EFB7-4093-9141-75AA522A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B7B-DCDE-4521-B0AF-4A04F896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0185-CDE1-462F-BDCC-8ECF569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F1F7-2C8E-443D-A4CF-5140664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AAFA-438E-46D9-87A0-457CC0B7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C207-BE83-47AE-828D-C2AA482B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47B8-4F4C-4155-A88D-582C00B9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C57A-F029-4344-9C6A-B6ADBB17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36F2-4093-4801-9968-87DBB1FD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9944-063F-450E-A688-F92C5CEC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F16F-0EF1-47FC-8D31-1B2AA55C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70D3-7D38-4427-9182-672D428D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CCA-C1FC-4A0B-B580-EBCB1419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88E5-CBA0-4488-B965-255E0B83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E0D2-B49B-4454-A26F-98F7516A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476D-7109-4C13-895D-F42ED3A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AB06-2CE1-49F1-A52D-964BA16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3819-9F13-4B3A-885F-46789243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FBCD-5EC7-46A9-BAD9-0B7B020D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F52C-04F5-4048-9385-0F9C8044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BEDF-3413-4960-8D04-A2C87257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07AF-7701-4801-A884-E83D9C07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62E7-CB46-4831-9398-CC0748C0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E49-AD1D-424F-85EC-2429055B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2D0F-DD45-4CD4-BD54-430EB2B9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F7C06-87F5-4C1E-B123-64D1647B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D1BC-4BA0-4B90-8A24-44A444CE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CBBD-4618-4148-BE82-CAEF7BC9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5470-F293-432A-ABF2-E08A40AB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F5F99-945D-4E28-AF17-6BD049B5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88A8-1A45-4AE0-B9AC-9607EBC7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F47C-E5A1-4094-BE5B-76205C7F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ECF5C-F954-4625-887A-C87CF9F7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1D805-715D-44AA-9F58-6840E78C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DBF-3FF7-4476-B702-E8EDB0B5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83B5-F529-49B6-846F-6811465F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4F56D-C2E9-4C51-9A1B-1A682519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0532C-0368-4232-BD1E-C0BDE632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5A1BF-DE4B-49F1-B96B-1E520A0C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50D2-ED1E-4A62-AB9F-DB152D7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1049F-7815-4444-A833-5280C713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E772-CACE-43F5-9191-62787D6D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448C7-5D03-4C1A-891F-D339929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E0115-8DE1-4EA9-9321-4CE1CD0A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0F42-FC55-4039-BE99-13499D9A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D9B-E0E5-4FB5-938C-E10118C9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D4781-D9C8-4BB2-B0A2-77881329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976A-06F1-446C-91ED-B2F6AABE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89A46-D90B-4B21-9A94-92681932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7FB23-7050-425D-AB78-3B3DD10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0E8F-BEAD-43D4-B114-6872AD5E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1A9F1-C691-4423-BB2E-F02A83D7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1C49B-4815-4DEE-8661-C5430B91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F4B4-B178-4162-87B8-9F2679DC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24A55-1EAC-40B7-A29A-C06C010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276AA-8383-46D6-968A-EDD10DA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089-AEEE-4A0C-AE45-02A7EEAC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11736-8BEE-4AEE-ACF6-6F01EEE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AB9BE-186D-4D73-98DE-652FF501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7A132-B688-4DC7-8520-AFBDB2DD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BF7A5-EDFE-4100-B2AF-FF382EFC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223BD-1A09-493B-A690-276917C6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FCCB7-2C1C-4949-877D-9DC7EFF6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405FE-8942-4B60-AF97-740101B4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BD9D0-3399-48B7-BBB9-63F4F45E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9DAB6-279A-44E8-B5BC-5F9C1D17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D12BD-E71E-4212-B0A4-8035E77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484-B54E-4D23-B0C1-515F3DD6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DD9D5-A9C3-4609-AAF2-7244CBC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55633-EF59-40F3-8A28-70201E1A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6BCA6-35D4-401C-86B5-6D451485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DABF4-EFF5-4A95-AA38-7687E990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9EA33-D570-447B-9E14-E00C78F9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9FD-2C30-4743-AB5B-FA29FE4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ACE4-584C-47FD-A484-8E492A7623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5FB4-5A29-41D7-8DD0-F7ABB424678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6112-EB5D-4785-8F46-EB798AC962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5837-214B-45E9-9B69-EBC25F4C9E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6DFB-E65D-4AD2-9182-115FF66E47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59FE-7FBE-4D1B-901A-23700D750BD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1634-B0B4-4192-B1C3-7B8CD7DD82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WordArt 2" descr=""/>
          <p:cNvPicPr/>
          <p:nvPr/>
        </p:nvPicPr>
        <p:blipFill>
          <a:blip r:embed="rId1"/>
          <a:stretch/>
        </p:blipFill>
        <p:spPr>
          <a:xfrm>
            <a:off x="1060560" y="1517760"/>
            <a:ext cx="80899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8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1450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Мы жили возле берёзовой рощ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2211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Небо покрылось серыми туча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3050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Дети посадили во дворе акаци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0" y="38883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Бабушка купила внуку буквар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0" y="480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Землю согрело тёплое солнышк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9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145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Моя сестра работает на фабрик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0" y="24404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Ласково грело весеннее солнц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0" y="3278880"/>
            <a:ext cx="38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Идёт дожд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0" y="4193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Мы любим наш Ки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0" y="518364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Береги учебные вещ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0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15260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У Андрея чистая тетра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25167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Помогай своему товарищ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0" y="34311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Воды морей солёные на вку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0" y="449784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Наша страна борется за ми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0" y="5564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Эти мальчики – весёлые ребя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1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16023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Дети ходили в лес за гриба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25167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Началась большая перем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0" y="3507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Мальчики – будущие отлични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0" y="449784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Красивы улицы нашего гор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0" y="51840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Москва – столица нашей Родин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2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0" y="1526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Школьники поливают саженц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266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Депутаты съехались на съез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0" y="36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Надо быть честными и правдивы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0" y="472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Звёзды сияют на башнях Кремл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0" y="5716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 Летом наша семья жила на Волг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3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0" y="1602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Весело колоситься густая рож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0" y="251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Поля запорошило белым снег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0" y="3506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Мы читали интересный расска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0" y="4421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 Учёный много и упорно работа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0" y="5564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 Новые дома растут очень быстр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4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62120" y="14374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машины вышел Митрофан Фомич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914400" y="2482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ьчики принесли сухих вето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914400" y="34376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оле поспевают рожь и пшени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914400" y="44870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одёжь приехали на строй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914400" y="5474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всех стран хотят жить в мир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3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4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5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1066680" y="144864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жий ветерок повеял прохла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838080" y="2450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ркнула молния, и загремел г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914400" y="3529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но скосили луга и поля ферм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838080" y="44553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взобралась на верхнюю вет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838080" y="55047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нце светило ярко, и дети купа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6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685800" y="14421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ь народ гордится героями космо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85800" y="2513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душка Филипп пасёт большое стад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533520" y="34376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лю я в поле встречать восход сол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533520" y="4507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нялась за рекой большая серая туч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457200" y="55094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далёкой тайге живут охотники – эвен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09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7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304920" y="1401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радовались встрече с космонав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80880" y="2483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едчики отправились в опасный п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152280" y="3455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жная семья и землю превратит в золот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76320" y="45727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вь всегда необходимо очищать от пы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228600" y="5680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цветёт, зазеленеет наш весёлый ог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47520" y="192240"/>
            <a:ext cx="84106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ак лучше проводить зрительные диктан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дном слайде представлен 1 дикта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сего диктантов 22) состоящий из 5 предлож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открываются по одному. На прочтение каждого предложения отводится определён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ремя, необходимое для запоминания, написано к заметкам к слайд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нструкция учи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рочитайте предложение молча и постарайтесь  его запомнить.  Закройте гла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ьте, как оно записано, и повторите его про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предложение пропадает, и ученики запис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в тетрадь. Если многие дети плохо запоминаю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ледует повторять до положительного резуль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дней подря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рительные диктанты должны писаться ежедне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8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1423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 редеющих верхушек показалась син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609480" y="2353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и привольные широкие степи Укра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685800" y="3415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мелого собака лает, а трусливого кус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457200" y="4448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м велит трудиться школа, учит этому от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228600" y="55933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 народ хочет жить в мире со всеми наро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5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9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152280" y="143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айге водятся хищные животные: волки, ры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304920" y="2513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возь волнистые туманы пробирается лу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0" y="335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ьники готовятся к новому учебному году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457200" y="444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 работы в школьном саду ранней вес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533520" y="55058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берегу моря раскинулся лагерь отды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0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04920" y="1449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 небо покроется тучами, заморосит дож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152280" y="247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жды в студёную зимнюю пору я из лесу выш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52280" y="3528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илась из-под земли вода, и родился роднич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228600" y="4542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города в тайгу строители проложили шо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304920" y="57092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ы были не знакомые, похожие на колокольч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1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152280" y="14133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хладная вода хорошо освежает уставших реб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254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ют волны, ветер свищет, и мачта гнётся и скрип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152280" y="367236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да над врагом наполнила грудь воина счасть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533520" y="44373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день тысячи людей въезжают в новые кварти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838080" y="5461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ьники выращивают мандарины, лимоны, апельс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0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2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990720" y="13766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По лесной заросшей тропе осторожно идёт погранич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1066680" y="23353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ик подошёл к окну и увидел за ним строящийся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1066680" y="33782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страна живёт в мире и дружбе с другими нар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990720" y="43164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Сибири покрыта крутыми и обрывистыми го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914400" y="5445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ашему краю течёт красивая полноводная река Ени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752480" y="28944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. Тает снег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752480" y="30470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2. Идёт дождь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447920" y="28832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3. Небо хмурое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295280" y="312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4. Коля заболел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1143000" y="312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5. Запели птицы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143000" y="135216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. Поле опустел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219320" y="2171520"/>
            <a:ext cx="769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.Трещат морозы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19320" y="30520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. Я ищу землянику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1219320" y="396144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4. В лесу росла ель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1143000" y="491076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. Наступила ос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3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295280" y="160272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ни стали короч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295280" y="22122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лесу много берёз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295280" y="320292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летели птич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1295280" y="3964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рко светит солнц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1295280" y="48031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да вытерла дос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4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533520" y="1617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есело бегут ручь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85800" y="2545920"/>
            <a:ext cx="613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ул резкий вете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609480" y="33746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оя прилежно учитс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609480" y="426204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ятел долбил дере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609480" y="52192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 хочу посадить цвет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5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685800" y="15220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ней запушил деревь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762120" y="247464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з воды цветы вяну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85800" y="337464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летело жаркое лет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609480" y="418104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зле дома посадили ел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685800" y="510516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лнышко светит и грее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6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57200" y="155844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едя решил задачу у дос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533520" y="24220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горелась в небе зорь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533520" y="33192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 деревьях сверкал ин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533520" y="38635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род Киев стоит на Днепр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09480" y="5158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лесу собирают земляник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7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457200" y="137376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Зимой река покрылась льд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80880" y="244044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Мальчик подарил маме цвет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0880" y="3278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Крестьяне работают на луг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04920" y="426924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Дежурные стёрли пыль с дос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380880" y="518364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Из короба выбрались цыпля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ршова_Г_И</cp:lastModifiedBy>
  <dcterms:modified xsi:type="dcterms:W3CDTF">2015-01-16T10:21:4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