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16B-2844-4D8D-8B0F-C4A6EFEC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573-563A-4491-AC58-2C73B1A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30C-AE2E-44AC-AFB5-5D052875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594-E49C-4568-BC91-04E85AC4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1E3-41E0-4D59-8F0E-F4368196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42C-34B1-4A07-B3E2-6021F7AD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35B-35CF-40A8-8F35-752E1C1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B9A-8788-42BA-9D4A-10E648C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341-FFA6-4BE2-B6D6-CF9CB81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370-B48E-4303-96D8-1D723DD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CF2-D901-4F20-A102-82F379F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04D-EB76-4BAA-9283-2F7C39A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61A-00D8-407A-8531-DBC15070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АНТАРКТИДА.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РЕЛЬЕФ И КЛИМА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люсы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юс холода: - 89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юс ветров: 92 м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юс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юс недо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Бюст Ленина на Полюсе Недоступ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Каменный уг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Железная 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Руды цветных металлов (медь, свине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лма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4720" cy="561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26028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ИД ИЗ КОСМ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нежные гря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0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нтарктические оази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улкан Э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77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35344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2320" cy="642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53:00Z</dcterms:created>
  <dc:creator>KMA</dc:creator>
  <dc:description/>
  <dc:language>en-US</dc:language>
  <cp:lastModifiedBy>KMA</cp:lastModifiedBy>
  <dcterms:modified xsi:type="dcterms:W3CDTF">2009-12-13T21:26:12Z</dcterms:modified>
  <cp:revision>2</cp:revision>
  <dc:subject/>
  <dc:title>АНТАРКТИДА.  РЕЛЬЕФ И КЛИМАТ.</dc:title>
</cp:coreProperties>
</file>