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048-D688-4254-BFCC-A422205C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E98-D156-4602-A49E-02CAE51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251-48E9-4B59-A0AC-FD7678E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0E4-1B20-484B-AA66-040EF891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75C-495A-4E55-9D95-EEE204E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23E-C5E5-4893-BA92-41F7E4E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B28-FECA-4FBC-9E11-1888ED0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EEA-6792-4AE4-9BEC-915CB15C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42C-C8CE-46AD-837F-66F12C1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F1F-96D7-4C04-BF35-8EBB316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573-6819-4847-8A9B-30DF539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7FC-94FD-4320-9C94-73A2ECC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BDA4-477E-4D08-B4E3-A6CBEEC39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b050"/>
                </a:solidFill>
                <a:latin typeface="Calibri"/>
              </a:rPr>
              <a:t>Австралия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ивотный мир Австралии не такой разнообразный как растительный. Здесь обитают такие же животные как и на других матери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12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амое известное сумчатое животное Австралии – это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ие сумчатые животные НЕ водятся в Австрал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сумчатые голу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сумчатые муравь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сумчатые медв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) сумчатые жираф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) сумчатые б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Этот сумчатый медведь питается только листьями эвкалипта и ведет малоподвижный образ жиз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Маша\Pictures\image_preview.jpg"/>
          <p:cNvPicPr/>
          <p:nvPr/>
        </p:nvPicPr>
        <p:blipFill>
          <a:blip r:embed="rId2"/>
          <a:stretch/>
        </p:blipFill>
        <p:spPr>
          <a:xfrm>
            <a:off x="2643120" y="2071800"/>
            <a:ext cx="40006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ие яйцекладущие животные обитают в Австрал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Маша\Pictures\platypus.jpg"/>
          <p:cNvPicPr/>
          <p:nvPr/>
        </p:nvPicPr>
        <p:blipFill>
          <a:blip r:embed="rId2"/>
          <a:stretch/>
        </p:blipFill>
        <p:spPr>
          <a:xfrm>
            <a:off x="428760" y="2357280"/>
            <a:ext cx="3978000" cy="30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Маша\Pictures\echidnajup.jpg"/>
          <p:cNvPicPr/>
          <p:nvPr/>
        </p:nvPicPr>
        <p:blipFill>
          <a:blip r:embed="rId3"/>
          <a:stretch/>
        </p:blipFill>
        <p:spPr>
          <a:xfrm>
            <a:off x="4714920" y="23572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 Австралии обитает очень много различных хищных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Единственный хищник Австралии – это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Маша\Pictures\dingo_3.jpg"/>
          <p:cNvPicPr/>
          <p:nvPr/>
        </p:nvPicPr>
        <p:blipFill>
          <a:blip r:embed="rId2"/>
          <a:stretch/>
        </p:blipFill>
        <p:spPr>
          <a:xfrm>
            <a:off x="1857240" y="1785960"/>
            <a:ext cx="54007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громная ящерица длиной до 2,5 метров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Казу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) Ва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) Ко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тица – символ Австрал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Эта птица хоть куда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е летает никогда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олько бегает, как ветер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ют птицу все на све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 гербе Австралии изображены ехидна и уткон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кажите Австрал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                            В)                           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Маша\Pictures\300px-Australia_(orthographic_projection).svg.png"/>
          <p:cNvPicPr/>
          <p:nvPr/>
        </p:nvPicPr>
        <p:blipFill>
          <a:blip r:embed="rId1"/>
          <a:stretch/>
        </p:blipFill>
        <p:spPr>
          <a:xfrm>
            <a:off x="0" y="2357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Маша\Pictures\300px-Americas_(orthographic_projection).svg.png"/>
          <p:cNvPicPr/>
          <p:nvPr/>
        </p:nvPicPr>
        <p:blipFill>
          <a:blip r:embed="rId2"/>
          <a:stretch/>
        </p:blipFill>
        <p:spPr>
          <a:xfrm>
            <a:off x="3143160" y="2357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Маша\Pictures\220px-Eurasia_(orthographic_projection).svg.png"/>
          <p:cNvPicPr/>
          <p:nvPr/>
        </p:nvPicPr>
        <p:blipFill>
          <a:blip r:embed="rId3"/>
          <a:stretch/>
        </p:blipFill>
        <p:spPr>
          <a:xfrm>
            <a:off x="6324480" y="2357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2" descr=""/>
          <p:cNvPicPr/>
          <p:nvPr/>
        </p:nvPicPr>
        <p:blipFill>
          <a:blip r:embed="rId1"/>
          <a:stretch/>
        </p:blipFill>
        <p:spPr>
          <a:xfrm>
            <a:off x="281160" y="1633680"/>
            <a:ext cx="8240400" cy="461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Маша\Pictures\Who-Are-the-Australian-Aborigines-3.jpeg"/>
          <p:cNvPicPr/>
          <p:nvPr/>
        </p:nvPicPr>
        <p:blipFill>
          <a:blip r:embed="rId2"/>
          <a:stretch/>
        </p:blipFill>
        <p:spPr>
          <a:xfrm>
            <a:off x="4714920" y="1785960"/>
            <a:ext cx="4133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ыми Австралию засели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Папуа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) Казу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) Абориг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изнь коренных жителей изменилась с появлением на континенте в конце 18 века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) Русски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) Англич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) Интерн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остров входит в Австралийский союз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) Мадагаск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) Новая Зелан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) Тасм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рейшей отраслью сельского хозяйства является животноводство. Обширные пастбища Австралии позволяют содержать огромные стада молочного скота (коров) и ов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олица Австралии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А) Сидн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Б) Канбер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В) Мельбур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это? И где это находи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Маша\Pictures\highquality.2007.08.06.038-1267353628-800x600.jpg"/>
          <p:cNvPicPr/>
          <p:nvPr/>
        </p:nvPicPr>
        <p:blipFill>
          <a:blip r:embed="rId2"/>
          <a:stretch/>
        </p:blipFill>
        <p:spPr>
          <a:xfrm>
            <a:off x="1214280" y="1285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4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Маша\Pictures\mikluho_maklay.jpg"/>
          <p:cNvPicPr/>
          <p:nvPr/>
        </p:nvPicPr>
        <p:blipFill>
          <a:blip r:embed="rId2"/>
          <a:stretch/>
        </p:blipFill>
        <p:spPr>
          <a:xfrm>
            <a:off x="4643280" y="1285920"/>
            <a:ext cx="3260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ими двумя океанами омывается Австрал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Атлантический оке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Тихий оке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Индий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встралия - самый засушливый материк на земном ша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очему реки на карте Австралии обозначены пунктиром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рно ли утвержд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ольшинство австралийских видов растений не встречается на других матери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иболее характерные для Австралии деревья это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Маша\Pictures\1282480472_05-eukalyptus.jpg"/>
          <p:cNvPicPr/>
          <p:nvPr/>
        </p:nvPicPr>
        <p:blipFill>
          <a:blip r:embed="rId2"/>
          <a:stretch/>
        </p:blipFill>
        <p:spPr>
          <a:xfrm>
            <a:off x="2857680" y="1571760"/>
            <a:ext cx="35049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 называется дерево изображенное на картин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леб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) Ак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) Бутылоч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Маша\Pictures\8906da6f86aed41b01634cbba183b905.jpg"/>
          <p:cNvPicPr/>
          <p:nvPr/>
        </p:nvPicPr>
        <p:blipFill>
          <a:blip r:embed="rId1"/>
          <a:stretch/>
        </p:blipFill>
        <p:spPr>
          <a:xfrm>
            <a:off x="5689440" y="1655640"/>
            <a:ext cx="34545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 вечнозеленое дерево с крупными листьями. С коры стволов у него свисают большие, круглые, зеленые плоды. Они могут весить 16 – 20 к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Травяные 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Фику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Хлебное 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Маша\Pictures\breadfruit2.jpg"/>
          <p:cNvPicPr/>
          <p:nvPr/>
        </p:nvPicPr>
        <p:blipFill>
          <a:blip r:embed="rId1"/>
          <a:stretch/>
        </p:blipFill>
        <p:spPr>
          <a:xfrm>
            <a:off x="4214880" y="2786040"/>
            <a:ext cx="4673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7:45:32Z</dcterms:created>
  <dc:creator>Маша</dc:creator>
  <dc:description/>
  <dc:language>en-US</dc:language>
  <cp:lastModifiedBy>Маша</cp:lastModifiedBy>
  <dcterms:modified xsi:type="dcterms:W3CDTF">2011-12-02T08:09:39Z</dcterms:modified>
  <cp:revision>13</cp:revision>
  <dc:subject/>
  <dc:title>Австралия.</dc:title>
</cp:coreProperties>
</file>