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920C-3CBD-4D1A-8EA7-54C0085F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C5F7-6D11-48E8-B1CD-CFF108A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0AFF-CB11-4119-90C7-A674F2D4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2701-B7C0-4598-9347-8F58CF3C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DAC6-EB57-4126-9E33-7E4EAB9F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04E-9FBC-4CC3-9C88-50A84D20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1949-C5E3-437B-B001-ADB7710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9DA9-431B-4FBB-A354-4125946B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7F5-81F3-47B1-AEAC-5FBCDA1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F0BF-4F93-4878-9994-49B8BC3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CA1E-45C4-4023-B0C1-7B5E363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56DF-1767-4493-9D5C-CB6013A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897-922C-4AD5-A960-1FFAFAE8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C9FD-C43D-4E80-937F-351118B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316A-D445-41A8-95DE-C35F321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F8C-B480-4DF4-995C-05BCAA55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3852-FA6A-4814-A994-3736780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6C92-C9D7-47B4-8A7A-D7A5914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6AB0-E7CD-4042-8EE7-86F27AAD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5ECE-B8B9-4985-937D-C0BD35C9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60F6-7516-4483-B93F-424ED8D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1CC6-90AA-4B4B-AC5D-D3A0D56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FF31-6254-4002-8C14-7902E05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99B5-8CE6-4458-B74E-56229AD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0297-64E9-458E-ADDC-A35E1180B8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2A2B-3D74-4E2D-90B0-AC612767DB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Белый бенгальский тигр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кла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ницы 4-5 клас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границкой Вар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Белый тигр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_tigr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енгальский тиг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енгальский тигр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обитает в Северной и Центральной Индии, в Непале и Бирме. В природе они выживают крайне редко — такие животные не могут успешно охотиться, так как они слишком заметны. Белых тигров специально разводят для цирков и зоопар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60836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ак индийцы обращаются с тиграми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68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дийцы свято верили в то, что если человек увидит белого тигра, ему будет даровано полное счасть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е белые тигры, содержащиеся сегодня в неволе, происходят от одного общего предка – бенгальского самца по кличке Моха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36_tigr"/>
          <p:cNvPicPr/>
          <p:nvPr/>
        </p:nvPicPr>
        <p:blipFill>
          <a:blip r:embed="rId1"/>
          <a:stretch/>
        </p:blipFill>
        <p:spPr>
          <a:xfrm>
            <a:off x="179280" y="1484280"/>
            <a:ext cx="417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олько их сейчас в мире? Точную цифру не сможет сказать никто, поскольку эти животные содержатся не только в зоопарках и цирках, но и в частных зверинцах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ольше всего белых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игр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проживает на родине их предка Мохана – в Инд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29160" y="1557360"/>
            <a:ext cx="461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х можно увидеть почти в каждом индийском зоопарке. Есть они и в Америке и в Европе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ейчас в зоопарках мира содержится около 130 белых тиг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032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15:50:33Z</dcterms:created>
  <dc:creator>Dasha</dc:creator>
  <dc:description/>
  <dc:language>en-US</dc:language>
  <cp:lastModifiedBy>Dasha</cp:lastModifiedBy>
  <dcterms:modified xsi:type="dcterms:W3CDTF">2014-10-10T16:52:16Z</dcterms:modified>
  <cp:revision>10</cp:revision>
  <dc:subject/>
  <dc:title>впквнег</dc:title>
</cp:coreProperties>
</file>