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11.png" ContentType="image/png"/>
  <Override PartName="/ppt/media/image3.gif" ContentType="image/gif"/>
  <Override PartName="/ppt/media/image12.png" ContentType="image/png"/>
  <Override PartName="/ppt/media/image4.gif" ContentType="image/gif"/>
  <Override PartName="/ppt/media/image13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10.jpeg" ContentType="image/jpeg"/>
  <Override PartName="/ppt/media/image7.gif" ContentType="image/gi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2F97-38A5-4702-863B-61065E87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D6F3-B98B-4F38-B251-7AEB0E77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E44-6A59-4DBC-B897-88FA6385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9D0-419F-4368-8C9A-FC0A43DA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8A87-F4CD-4936-AA66-0426D1AD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727F-4D96-421B-8A36-20AFBFD0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7B5D-A8D0-47A4-ABC0-D459DDF8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EDB2-0DDC-4D8D-B393-6F021BAE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3745-0836-4CCB-87A4-1D6DC656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5E1B-900A-4DFB-A220-0B649A57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A481-7B7C-487B-8229-89314928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5B99-21A1-4D59-991C-6A3CD3A3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16E7-9DD6-4805-BAC6-9724908D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2FCB-005C-49E5-8EF9-A37B4AF9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EE21-1271-427B-B9F8-3761FEF6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FF9E-B759-4EC2-83FA-6C335CDB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B4DE-44C4-481F-A16B-04323F84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29E4-B693-4393-B8BF-34C06EF1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19B2-F7B0-452C-A0C1-252895D1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3D52-4582-4D42-97B3-A6D22961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E434-7717-40E4-8A1A-EC1E63D1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D0FC-4512-4B64-8FD5-D5FA5625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3436-8617-49CE-9B5F-1E83EECA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3A59-179E-43EC-8178-73A1C9B8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593A-C92D-43AB-BA4F-4510A6DCB3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7CC8-C962-4944-B830-81E8BB08F4F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560" y="1773360"/>
            <a:ext cx="79362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Если  хочешь</a:t>
            </a:r>
            <a:br>
              <a:rPr sz="6000"/>
            </a:b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         быть здоров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начальных классов Васильева М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после приема пищи нет возможности почистить зубы, нужно хотя бы тщательно прополоскать рот вод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ороший результат так же дает применение жевательной резинки без сахара. Но при этом необходимо помнить, что жевательную резинку нужно жевать после еды не более 10 мину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верь  себ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2276640"/>
            <a:ext cx="87854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да  ли,  что  продукты  бывают  растительного  и  животного  происхождения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  1  продукт  животного  происхож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  1  продукт  растительного  происхож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лько  раз  в  день  нужно  чистить  зуб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олжи  фразу:   во  время  еды  нельзя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думай, что  такое  здоровье  и  нужно  ли  оно человеку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Comic Sans MS"/>
              </a:rPr>
              <a:t>Иммунитет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– невосприимчивость  организма  к  различным  инфекциям,  способность организма противостоять заразным заболевани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акие  правила  необходимо  соблюдать  для  сохранения  здоровья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560" y="2349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тить  зубы  над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  едой  нужн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  время  еды  нельз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когда  не  ешь  немытые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 письме  свет должен  падать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914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акие  бывают  продукты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дукты  бывают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животног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и 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растительного  происхожд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предели  вид  продукта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food01"/>
          <p:cNvPicPr/>
          <p:nvPr/>
        </p:nvPicPr>
        <p:blipFill>
          <a:blip r:embed="rId1"/>
          <a:stretch/>
        </p:blipFill>
        <p:spPr>
          <a:xfrm>
            <a:off x="684360" y="393372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food02"/>
          <p:cNvPicPr/>
          <p:nvPr/>
        </p:nvPicPr>
        <p:blipFill>
          <a:blip r:embed="rId2"/>
          <a:stretch/>
        </p:blipFill>
        <p:spPr>
          <a:xfrm>
            <a:off x="1835280" y="5157720"/>
            <a:ext cx="2016000" cy="1209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food09"/>
          <p:cNvPicPr/>
          <p:nvPr/>
        </p:nvPicPr>
        <p:blipFill>
          <a:blip r:embed="rId3"/>
          <a:stretch/>
        </p:blipFill>
        <p:spPr>
          <a:xfrm>
            <a:off x="7596360" y="2781360"/>
            <a:ext cx="1360440" cy="187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eda10"/>
          <p:cNvPicPr/>
          <p:nvPr/>
        </p:nvPicPr>
        <p:blipFill>
          <a:blip r:embed="rId4"/>
          <a:stretch/>
        </p:blipFill>
        <p:spPr>
          <a:xfrm>
            <a:off x="3780000" y="3500280"/>
            <a:ext cx="1726920" cy="172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9" descr="eda20"/>
          <p:cNvPicPr/>
          <p:nvPr/>
        </p:nvPicPr>
        <p:blipFill>
          <a:blip r:embed="rId5"/>
          <a:stretch/>
        </p:blipFill>
        <p:spPr>
          <a:xfrm>
            <a:off x="7164360" y="4797360"/>
            <a:ext cx="1565280" cy="165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1" descr="eda31"/>
          <p:cNvPicPr/>
          <p:nvPr/>
        </p:nvPicPr>
        <p:blipFill>
          <a:blip r:embed="rId6"/>
          <a:stretch/>
        </p:blipFill>
        <p:spPr>
          <a:xfrm>
            <a:off x="539640" y="2421000"/>
            <a:ext cx="992160" cy="1655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3" descr="eda51"/>
          <p:cNvPicPr/>
          <p:nvPr/>
        </p:nvPicPr>
        <p:blipFill>
          <a:blip r:embed="rId7"/>
          <a:stretch/>
        </p:blipFill>
        <p:spPr>
          <a:xfrm>
            <a:off x="5796000" y="4724280"/>
            <a:ext cx="12794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8351640" cy="24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одумай,  почему  для  нашего  здоровья  очень важны  здоровые  зубы.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560" y="2637000"/>
            <a:ext cx="80074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10" descr="125"/>
          <p:cNvPicPr/>
          <p:nvPr/>
        </p:nvPicPr>
        <p:blipFill>
          <a:blip r:embed="rId1"/>
          <a:stretch/>
        </p:blipFill>
        <p:spPr>
          <a:xfrm>
            <a:off x="5364000" y="3141720"/>
            <a:ext cx="2476800" cy="2879640"/>
          </a:xfrm>
          <a:prstGeom prst="rect">
            <a:avLst/>
          </a:prstGeom>
          <a:ln w="0">
            <a:noFill/>
          </a:ln>
        </p:spPr>
      </p:pic>
      <p:sp>
        <p:nvSpPr>
          <p:cNvPr id="116" name="WordArt 11"/>
          <p:cNvSpPr txBox="1"/>
          <p:nvPr/>
        </p:nvSpPr>
        <p:spPr>
          <a:xfrm>
            <a:off x="539640" y="2637000"/>
            <a:ext cx="273528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?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ак правильно чистить зубы?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убы нужно чистить 2 раза в день, утром и вечером, качественной зубной пастой и щет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9" descr="Чистить много зубы вредно"/>
          <p:cNvPicPr/>
          <p:nvPr/>
        </p:nvPicPr>
        <p:blipFill>
          <a:blip r:embed="rId1"/>
          <a:stretch/>
        </p:blipFill>
        <p:spPr>
          <a:xfrm>
            <a:off x="5688000" y="3068640"/>
            <a:ext cx="29574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Наружные поверхности зубов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изводят выметающие движения от десны к зуб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очищение наружных поверхностей зубов, стоматология Евродент"/>
          <p:cNvPicPr/>
          <p:nvPr/>
        </p:nvPicPr>
        <p:blipFill>
          <a:blip r:embed="rId1"/>
          <a:stretch/>
        </p:blipFill>
        <p:spPr>
          <a:xfrm>
            <a:off x="4788000" y="2637000"/>
            <a:ext cx="3743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нутренние поверхности передних зубов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убная щетка располагается вертикально, направление движения – от десны к  краю зуб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очищение внутренних поверхностей жевательных зубов, стоматология Евродент"/>
          <p:cNvPicPr/>
          <p:nvPr/>
        </p:nvPicPr>
        <p:blipFill>
          <a:blip r:embed="rId1"/>
          <a:stretch/>
        </p:blipFill>
        <p:spPr>
          <a:xfrm>
            <a:off x="5724360" y="3500280"/>
            <a:ext cx="3024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96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Жевательные поверхности зубов: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убную щетку располагают горизонтально и производят чистящие движ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очищение жевательных поверхностей зубов, стоматологическая клиника Евродент"/>
          <p:cNvPicPr/>
          <p:nvPr/>
        </p:nvPicPr>
        <p:blipFill>
          <a:blip r:embed="rId1"/>
          <a:stretch/>
        </p:blipFill>
        <p:spPr>
          <a:xfrm>
            <a:off x="5219640" y="3070080"/>
            <a:ext cx="34578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56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09:41:58Z</dcterms:created>
  <dc:creator>Наталья</dc:creator>
  <dc:description/>
  <dc:language>en-US</dc:language>
  <cp:lastModifiedBy>FizInform</cp:lastModifiedBy>
  <dcterms:modified xsi:type="dcterms:W3CDTF">2015-01-23T12:01:09Z</dcterms:modified>
  <cp:revision>4</cp:revision>
  <dc:subject/>
  <dc:title>Если  хочешь          быть здоров</dc:title>
</cp:coreProperties>
</file>