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A5E-B84E-410A-80E8-658CB677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0AC-4ABA-47FE-B035-6900E73F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410-C1C6-4E07-9AB3-7C25A67E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550-3C6E-438E-A731-A33AFCFB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CEE0-D5A6-43EC-9538-1BACC139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AD2C-91DA-4AB6-B4D3-44D8771A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BD13-382F-4007-B4E6-4A9A9157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C569-CAA9-4DE9-8EB4-05026D65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11D-DA4F-43E9-99F1-436D813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28F-D662-453C-8D6A-C0E3ABF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6D3-731F-4C20-A001-22369F0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59F-83D4-44A4-99F3-F267568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695-7294-4459-A6A1-AFF12AB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C90-4A53-44DA-8962-E9D8A15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676-361A-434E-81C8-ACBE03B5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0D5-9B4D-4281-BACC-816A27F6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6AB-B95D-4EF9-8172-056D16F6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949-9BDB-45D6-A889-780DFA1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56-E5D0-4219-8578-ADBC2594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8A1-3EF6-4A75-9741-C3A5B84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B3A-AF72-40FF-8358-1340A02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E93-D595-4813-B8E9-04EE8264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2C7-C87A-4AEF-A131-6F72422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533-5F1C-4124-AE83-5AD49DA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CE81-1628-4FF5-9572-101FEF9FCF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061-3129-4B3B-88C1-FBE1C117855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119320" y="1281240"/>
            <a:ext cx="49053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838080" y="1598760"/>
            <a:ext cx="6705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илами на воде писа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119320" y="1281240"/>
            <a:ext cx="49053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от где собака зары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71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носить сор из изб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8676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57913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ЗАРЫВАТЬ ТАЛАНТ В ЗЕМЛЮ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6483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де раки зимую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кладывать в долгий ящ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990720" y="1681200"/>
            <a:ext cx="61722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ержи карман ши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2451240" y="1598760"/>
            <a:ext cx="30114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ак с гуся во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4724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орона с павлиньим хвост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8" name="Picture 10" descr=""/>
          <p:cNvPicPr/>
          <p:nvPr/>
        </p:nvPicPr>
        <p:blipFill>
          <a:blip r:embed="rId1"/>
          <a:stretch/>
        </p:blipFill>
        <p:spPr>
          <a:xfrm>
            <a:off x="2198520" y="1447920"/>
            <a:ext cx="3908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71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Как аршин проглоти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1523880" y="2217600"/>
            <a:ext cx="4267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676520" y="1716120"/>
            <a:ext cx="5105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8676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378080" y="1295280"/>
            <a:ext cx="532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4" descr=""/>
          <p:cNvPicPr/>
          <p:nvPr/>
        </p:nvPicPr>
        <p:blipFill>
          <a:blip r:embed="rId1"/>
          <a:stretch/>
        </p:blipFill>
        <p:spPr>
          <a:xfrm>
            <a:off x="1428840" y="762120"/>
            <a:ext cx="45212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371600" y="1959120"/>
            <a:ext cx="6019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4081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1"/>
          <a:stretch/>
        </p:blipFill>
        <p:spPr>
          <a:xfrm>
            <a:off x="1447920" y="1420920"/>
            <a:ext cx="45720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10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3908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3T15:07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