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1D3B-17B7-4A6D-B175-1DA82734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B9DB-618B-47EA-8BEB-258C0A08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B4AD-7CF2-4724-996E-B22EC155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51B7-D9D4-47E5-BBC5-3B1ADE09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BCFE-C2DC-40D4-BA5D-F81C4BD8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E7A4-5C2B-4656-A812-72EDA6C2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56FA-3B06-44DC-BCED-DF172B09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C6F5-DCC2-4AE5-A5CC-204E3B15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F16D-A003-45EA-9BD6-2994D47E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7179-F2C1-4A0E-ADCA-CD9F00A8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FA42-C13F-46B0-81E8-DA0E0F00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037E-D731-4B8C-BC2D-E390711E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1FB8-F8E2-4115-BE21-784D281F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5CEA-A84C-42BC-BEE8-6ED58A6C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DDBE-7587-4283-9321-18316824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53AB-0B6F-4155-BBF9-E3B44597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2E39-E0FE-45EC-B931-08B5F2D9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E473-97BF-4476-AF0D-9CFBB7E9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4E8E-132C-4BD9-9B56-BCF5F2C9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2AB1-45FA-4CE0-A29E-B7C9749A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91EA-9FDA-4240-800E-CEAD8362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181D-39BF-4334-89DB-75BC73A8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30F0-8EEC-4AEC-B4CE-A3DBBF37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80AC-9255-43FE-8115-FB40CB42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8ae8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8ae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8ae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e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a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e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a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1342-D3AD-4B16-A1B1-88EC32AAB8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8ae8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8ae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8ae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e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a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e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a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3D55-40F1-49CC-A4FE-3E735920CEF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7696440" cy="1447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роект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Человек –часть природы и должен ее беречь, охранять , изучать и защищать»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Рисунок 3" descr="C:\Documents and Settings\Admin\Мои документы\Мои рисунки\IMG_2690.jpg"/>
          <p:cNvPicPr/>
          <p:nvPr/>
        </p:nvPicPr>
        <p:blipFill>
          <a:blip r:embed="rId1"/>
          <a:stretch/>
        </p:blipFill>
        <p:spPr>
          <a:xfrm>
            <a:off x="1981080" y="2743200"/>
            <a:ext cx="5193000" cy="38955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5925960" y="2880"/>
            <a:ext cx="321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втор проект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оспитатель по приоритетному направлен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рвой квалификационной катег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откина Галина феодос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Выставка поделок из мусор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560" y="533160"/>
            <a:ext cx="83818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4" descr="G:\Выставка\IMG_1178.jpg"/>
          <p:cNvPicPr/>
          <p:nvPr/>
        </p:nvPicPr>
        <p:blipFill>
          <a:blip r:embed="rId1"/>
          <a:stretch/>
        </p:blipFill>
        <p:spPr>
          <a:xfrm>
            <a:off x="228600" y="1341360"/>
            <a:ext cx="2514600" cy="20113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G:\Выставка\IMG_1179.jpg"/>
          <p:cNvPicPr/>
          <p:nvPr/>
        </p:nvPicPr>
        <p:blipFill>
          <a:blip r:embed="rId2"/>
          <a:stretch/>
        </p:blipFill>
        <p:spPr>
          <a:xfrm>
            <a:off x="3124080" y="1371600"/>
            <a:ext cx="2614680" cy="1981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G:\Выставка\IMG_1190.jpg"/>
          <p:cNvPicPr/>
          <p:nvPr/>
        </p:nvPicPr>
        <p:blipFill>
          <a:blip r:embed="rId3"/>
          <a:stretch/>
        </p:blipFill>
        <p:spPr>
          <a:xfrm>
            <a:off x="5943600" y="1428840"/>
            <a:ext cx="2590920" cy="1939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G:\Выставка\IMG_1193.jpg"/>
          <p:cNvPicPr/>
          <p:nvPr/>
        </p:nvPicPr>
        <p:blipFill>
          <a:blip r:embed="rId4"/>
          <a:stretch/>
        </p:blipFill>
        <p:spPr>
          <a:xfrm>
            <a:off x="157320" y="36576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G:\Выставка\IMG_1195.jpg"/>
          <p:cNvPicPr/>
          <p:nvPr/>
        </p:nvPicPr>
        <p:blipFill>
          <a:blip r:embed="rId5"/>
          <a:stretch/>
        </p:blipFill>
        <p:spPr>
          <a:xfrm>
            <a:off x="3124080" y="3657600"/>
            <a:ext cx="2749680" cy="20574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G:\Выставка\IMG_1197.jpg"/>
          <p:cNvPicPr/>
          <p:nvPr/>
        </p:nvPicPr>
        <p:blipFill>
          <a:blip r:embed="rId6"/>
          <a:stretch/>
        </p:blipFill>
        <p:spPr>
          <a:xfrm>
            <a:off x="6095880" y="3657600"/>
            <a:ext cx="2737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Юннатский кружок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388620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4" descr="E:\ПДД\IMG_1974.jpg"/>
          <p:cNvPicPr/>
          <p:nvPr/>
        </p:nvPicPr>
        <p:blipFill>
          <a:blip r:embed="rId1"/>
          <a:stretch/>
        </p:blipFill>
        <p:spPr>
          <a:xfrm>
            <a:off x="152280" y="1295280"/>
            <a:ext cx="3733920" cy="2903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I:\ПДД\наблюдение в живом уголке.jpg"/>
          <p:cNvPicPr/>
          <p:nvPr/>
        </p:nvPicPr>
        <p:blipFill>
          <a:blip r:embed="rId2"/>
          <a:stretch/>
        </p:blipFill>
        <p:spPr>
          <a:xfrm>
            <a:off x="5105520" y="1371600"/>
            <a:ext cx="3851280" cy="289080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5" descr="I:\IMG_0748.jpg"/>
          <p:cNvPicPr/>
          <p:nvPr/>
        </p:nvPicPr>
        <p:blipFill>
          <a:blip r:embed="rId3"/>
          <a:stretch/>
        </p:blipFill>
        <p:spPr>
          <a:xfrm>
            <a:off x="2819520" y="2986200"/>
            <a:ext cx="304776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Arial"/>
              </a:rPr>
              <a:t>Исследовательская деятельн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9" name="Picture 4" descr="I:\Новая папка (2)\IMG_2006.jpg"/>
          <p:cNvPicPr/>
          <p:nvPr/>
        </p:nvPicPr>
        <p:blipFill>
          <a:blip r:embed="rId1"/>
          <a:stretch/>
        </p:blipFill>
        <p:spPr>
          <a:xfrm>
            <a:off x="685800" y="1432080"/>
            <a:ext cx="3429000" cy="25304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E:\ПДД\IMG_2002.jpg"/>
          <p:cNvPicPr/>
          <p:nvPr/>
        </p:nvPicPr>
        <p:blipFill>
          <a:blip r:embed="rId2"/>
          <a:stretch/>
        </p:blipFill>
        <p:spPr>
          <a:xfrm>
            <a:off x="4876920" y="4151160"/>
            <a:ext cx="3429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ыставка рисунков «Защитим природу!"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28240" y="609480"/>
            <a:ext cx="838188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H:\IMG_2803.jpg"/>
          <p:cNvPicPr/>
          <p:nvPr/>
        </p:nvPicPr>
        <p:blipFill>
          <a:blip r:embed="rId1"/>
          <a:stretch/>
        </p:blipFill>
        <p:spPr>
          <a:xfrm>
            <a:off x="304920" y="1219320"/>
            <a:ext cx="2819160" cy="2111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H:\IMG_2800.jpg"/>
          <p:cNvPicPr/>
          <p:nvPr/>
        </p:nvPicPr>
        <p:blipFill>
          <a:blip r:embed="rId2"/>
          <a:stretch/>
        </p:blipFill>
        <p:spPr>
          <a:xfrm>
            <a:off x="2438280" y="1809720"/>
            <a:ext cx="2819520" cy="2111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H:\IMG_2804.jpg"/>
          <p:cNvPicPr/>
          <p:nvPr/>
        </p:nvPicPr>
        <p:blipFill>
          <a:blip r:embed="rId3"/>
          <a:stretch/>
        </p:blipFill>
        <p:spPr>
          <a:xfrm>
            <a:off x="4419720" y="3009960"/>
            <a:ext cx="2743200" cy="2054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H:\IMG_2802.jpg"/>
          <p:cNvPicPr/>
          <p:nvPr/>
        </p:nvPicPr>
        <p:blipFill>
          <a:blip r:embed="rId4"/>
          <a:stretch/>
        </p:blipFill>
        <p:spPr>
          <a:xfrm>
            <a:off x="6095880" y="4648320"/>
            <a:ext cx="2870280" cy="21492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H:\IMG_2805.jpg"/>
          <p:cNvPicPr/>
          <p:nvPr/>
        </p:nvPicPr>
        <p:blipFill>
          <a:blip r:embed="rId5"/>
          <a:stretch/>
        </p:blipFill>
        <p:spPr>
          <a:xfrm>
            <a:off x="304920" y="3809880"/>
            <a:ext cx="2057400" cy="2748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H:\IMG_2799.jpg"/>
          <p:cNvPicPr/>
          <p:nvPr/>
        </p:nvPicPr>
        <p:blipFill>
          <a:blip r:embed="rId6"/>
          <a:stretch/>
        </p:blipFill>
        <p:spPr>
          <a:xfrm>
            <a:off x="6781680" y="1219320"/>
            <a:ext cx="21686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88e4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Праздник  Земли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5" descr="I:\ФОТО лето2013\IMG_1162.jpg"/>
          <p:cNvPicPr/>
          <p:nvPr/>
        </p:nvPicPr>
        <p:blipFill>
          <a:blip r:embed="rId1"/>
          <a:stretch/>
        </p:blipFill>
        <p:spPr>
          <a:xfrm>
            <a:off x="5029200" y="1371600"/>
            <a:ext cx="2793960" cy="2209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I:\ФОТО лето2013\IMG_1166.jpg"/>
          <p:cNvPicPr/>
          <p:nvPr/>
        </p:nvPicPr>
        <p:blipFill>
          <a:blip r:embed="rId2"/>
          <a:stretch/>
        </p:blipFill>
        <p:spPr>
          <a:xfrm>
            <a:off x="2666880" y="4038480"/>
            <a:ext cx="2895840" cy="2438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9" descr="I:\ФОТО лето2013\IMG_1161.jpg"/>
          <p:cNvPicPr/>
          <p:nvPr/>
        </p:nvPicPr>
        <p:blipFill>
          <a:blip r:embed="rId3"/>
          <a:stretch/>
        </p:blipFill>
        <p:spPr>
          <a:xfrm>
            <a:off x="838080" y="1143000"/>
            <a:ext cx="21337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а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Picture 5" descr="E:\город\IMG_2713.jpg"/>
          <p:cNvPicPr/>
          <p:nvPr/>
        </p:nvPicPr>
        <p:blipFill>
          <a:blip r:embed="rId1"/>
          <a:stretch/>
        </p:blipFill>
        <p:spPr>
          <a:xfrm>
            <a:off x="533520" y="457200"/>
            <a:ext cx="8153280" cy="601992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5"/>
          <p:cNvSpPr/>
          <p:nvPr/>
        </p:nvSpPr>
        <p:spPr>
          <a:xfrm>
            <a:off x="1027440" y="5257800"/>
            <a:ext cx="731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9256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Раздел программы:»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«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знакомление с природ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правление деятельности проект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 работы по воспитанию экологической культуры с детьми старшего дошкольного возраста,  родителями, педагог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ип проект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формационно-практико-ориентированны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Цель проекта: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спитание   экологической культуры у детей старшего дошкольного возраста, которая проявляется в ответственном отношении детей к здоровью и окружающей среде на основе соблюдения  моральных и правовых норм, принятых в обществ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Рисунок 3" descr="I:\IMG_0736.jpg"/>
          <p:cNvPicPr/>
          <p:nvPr/>
        </p:nvPicPr>
        <p:blipFill>
          <a:blip r:embed="rId1"/>
          <a:stretch/>
        </p:blipFill>
        <p:spPr>
          <a:xfrm>
            <a:off x="5334120" y="1143000"/>
            <a:ext cx="312408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  формирование элементарных научных экологических знаний, доступных пониманию дошколь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 развитие познавательного интере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 формирование умений и навыков экологически грамотного и безопасного  для природы и самого ребенка пове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оспитание гуманного, эмоционально-положительного, бережного, заботливого отношения к миру природы и окружающего мира в цел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  формирование умений и навыков наблюдений за природными объектами и явлени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 формирование системы  ценностных ориентаций (восприятие себя, как части природы, взаимосвязи человека и природы, самоценность и многообразие значений природ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своение элементарных норм поведения по отношению к приро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 формирование  умения и желания сохранять природу и при необходимости оказывать ей помощ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одолжительность проекта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олгосрочный проек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частники проекта: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спитатели групп старшего возрас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узыкальный руководител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уководитель  по изобразительной деятельности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структор по физкультур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4" descr="C:\Documents and Settings\Admin\Мои документы\Мои рисунки\IMG_2679.jpg"/>
          <p:cNvPicPr/>
          <p:nvPr/>
        </p:nvPicPr>
        <p:blipFill>
          <a:blip r:embed="rId1"/>
          <a:stretch/>
        </p:blipFill>
        <p:spPr>
          <a:xfrm>
            <a:off x="1981080" y="2971800"/>
            <a:ext cx="5105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Формы работы с детьми: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33520" y="1219320"/>
            <a:ext cx="81532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ff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Занятия   по экологи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(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спективное планирование – приложение №1)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2. Чтение художественной литературы:</a:t>
            </a:r>
            <a:r>
              <a:rPr b="0" lang="ru-RU" sz="18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.А.Рыжова - экологические  сказки: «Кот Маклай и дерево Кверкус», «Серая Шапочка и Красный Волк», «Сказка о Человеке и Золотой Рыбке», «Жила-была Река», «Как Медведь пень потерял»; рассказы: «Как люди речку обидели», «Кот кого ест», «Почему тигр полосатый?», «Наука о доме»; В.Осеева «Ежинка»; Н.Романова «Чтот узнал дождевой червяк»; В. Бианки «Как Муравьишка домой спешил», «Глаза и уши», «Хвосты»; Л.Н. Толстой «О животных и птицах»; Г. Снегирев 2Как животных цвет защищает». 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ff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Экскурсии </a:t>
            </a:r>
            <a:r>
              <a:rPr b="0" lang="ru-RU" sz="18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 экологической тропе, в лес, в  городской парк, экологические походы в лес. (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спективное планирование и фото-галерея – приложение № 2)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ff"/>
                </a:solidFill>
                <a:latin typeface="Arial"/>
              </a:rPr>
              <a:t>4. Организация работы </a:t>
            </a: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Юннатского кружка</a:t>
            </a:r>
            <a:r>
              <a:rPr b="1" lang="ru-RU" sz="1600" spc="-1" strike="noStrike">
                <a:solidFill>
                  <a:srgbClr val="66ffff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(Перспективное планирование – приложение №  3 - фотоматериал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ff"/>
                </a:solidFill>
                <a:latin typeface="Arial"/>
              </a:rPr>
              <a:t>5.</a:t>
            </a: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Организация труда детей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 огороде,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цветниках по выращиванию овощей, клумбовых цветов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. (фото)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ff"/>
                </a:solidFill>
                <a:latin typeface="Arial"/>
              </a:rPr>
              <a:t>6. Создание в групповых комнатах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голков природы и живого уголк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в экологической комнат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ff"/>
                </a:solidFill>
                <a:latin typeface="Arial"/>
              </a:rPr>
              <a:t>7.</a:t>
            </a: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Развлечение « Чистая вода»»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сценарий развлечения «Чистая вода»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ложение № 4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. Экологическая акция</a:t>
            </a:r>
            <a:r>
              <a:rPr b="0" lang="ru-RU" sz="1800" spc="-1" strike="noStrike">
                <a:solidFill>
                  <a:srgbClr val="66ffff"/>
                </a:solidFill>
                <a:latin typeface="Arial"/>
              </a:rPr>
              <a:t> «Сохраним природу от мусора»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ыставка рабо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детей и родителей поделок из мусора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Фото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ff"/>
                </a:solidFill>
                <a:latin typeface="Arial"/>
              </a:rPr>
              <a:t>9.</a:t>
            </a: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Организация лабораторных работ</a:t>
            </a:r>
            <a:r>
              <a:rPr b="0" lang="ru-RU" sz="18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 исследованию свойств почвы, песка, глины, воды, воздуха. (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ланирование работы по наблюдениям за явлениями в природе, исследовательской деятельности детей, конспект занятия «Круговорот воды в природе» – приложение № 5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ff"/>
                </a:solidFill>
                <a:latin typeface="Arial"/>
              </a:rPr>
              <a:t>10. </a:t>
            </a: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 Экологическая акция « Поможем птицам»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 изготовление  скворечников и кормушек для птиц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ff"/>
                </a:solidFill>
                <a:latin typeface="Arial"/>
              </a:rPr>
              <a:t>11.</a:t>
            </a: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Выставка рисунков</a:t>
            </a:r>
            <a:r>
              <a:rPr b="0" lang="ru-RU" sz="18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етей по теме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Защитим природу!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ffff"/>
                </a:solidFill>
                <a:uFillTx/>
                <a:latin typeface="Arial"/>
              </a:rPr>
              <a:t>Результат.</a:t>
            </a:r>
            <a:br>
              <a:rPr sz="2400"/>
            </a:br>
            <a:br>
              <a:rPr sz="1600"/>
            </a:b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здник « День Земли»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2362320" cy="41148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I:\ПДД\IMG_1168.jpg"/>
          <p:cNvPicPr/>
          <p:nvPr/>
        </p:nvPicPr>
        <p:blipFill>
          <a:blip r:embed="rId1"/>
          <a:stretch/>
        </p:blipFill>
        <p:spPr>
          <a:xfrm>
            <a:off x="1523880" y="1752480"/>
            <a:ext cx="6504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1397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ffff"/>
                </a:solidFill>
                <a:uFillTx/>
                <a:latin typeface="Arial"/>
              </a:rPr>
              <a:t>Формы работы с родителями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solidFill>
            <a:srgbClr val="afe1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ьское собрани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а те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Экологическое воспитание в детском саду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нсультация для родителей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«Труд детей в природе – как средство воспитания нравственно-волевых качеств у детей дошкольного возраст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Консультация для родителей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«Живая и неживая природ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вместная  экологическая акция «Спасем природу от мусора)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частие родителей в изготовлении поделок из мусора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рганизации выставки работ.(фото)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5. Помощь родителей  в подготовке и проведени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аздника – конкурс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ода с мусорным оттенком»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( сценарий конкурса – приложение №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. Выставка  художественной литературы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 экологии для чтения детям, рекомендуемой  педагогами родителя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7. Экологическа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кция «Поможем птицам»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 изготовление скворечников родителями и детьм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8.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глашение родителей на праздни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День Земл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28600" y="228600"/>
            <a:ext cx="8686800" cy="647712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ализ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ойчивый интерес к миру природы, к жизненным проявлениям всего жив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  выработаны навыки эмоционально-доброжелательного, гуманного отношения к живым объектам природы и ухода за ними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  проявление желания разобраться, как правильЮннатский кружокно взаимодействовать с природой; желания  устанавливать простейшие, причинно-следственные связ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 понимание  важности выполнения экологических правил в приро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 понимание факта неразрывной связи человека с природой (человек – часть природы и должен относиться к природе, как к себе самому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орма презентац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кологический праздник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День Земл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09:32:22Z</dcterms:created>
  <dc:creator>md</dc:creator>
  <dc:description/>
  <dc:language>en-US</dc:language>
  <cp:lastModifiedBy>Admin</cp:lastModifiedBy>
  <dcterms:modified xsi:type="dcterms:W3CDTF">2015-01-23T10:43:22Z</dcterms:modified>
  <cp:revision>1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