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187-C1A4-4FD9-A02B-CAEF285C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286-DA82-4450-9D1E-E1379AA7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708-54CF-4A6E-9FFD-47682263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EBD-A5DB-46BB-9B81-413CB9DD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93D-11A4-401F-B48F-ABBD525F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F80-6938-4470-9F83-8517760D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E33-9B1D-48EB-8262-9F9B2A57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B31-E9B4-4EB5-AC3F-C497038D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75C-8991-44F4-A199-EA6023E9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5FD-489D-4332-A54D-6ED53D0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400-5037-443F-A682-77A3726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3A3-3C94-4668-9D9A-076BEF19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FC72-DFDF-46A9-81A9-C7AB43249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шмар в Домодед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Теракт в аэропорту Домодедово 24.01.2011"/>
          <p:cNvPicPr/>
          <p:nvPr/>
        </p:nvPicPr>
        <p:blipFill>
          <a:blip r:embed="rId1"/>
          <a:stretch/>
        </p:blipFill>
        <p:spPr>
          <a:xfrm>
            <a:off x="611280" y="1628640"/>
            <a:ext cx="7705800" cy="46087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ошмар в Домодед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7:24:28Z</dcterms:created>
  <dc:creator>Русский</dc:creator>
  <dc:description/>
  <dc:language>en-US</dc:language>
  <cp:lastModifiedBy>Русский</cp:lastModifiedBy>
  <dcterms:modified xsi:type="dcterms:W3CDTF">2013-10-18T07:49:04Z</dcterms:modified>
  <cp:revision>2</cp:revision>
  <dc:subject/>
  <dc:title>Слайд 1</dc:title>
</cp:coreProperties>
</file>