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3.gif" ContentType="image/gif"/>
  <Override PartName="/ppt/media/image17.jpeg" ContentType="image/jpeg"/>
  <Override PartName="/ppt/media/image14.jpeg" ContentType="image/jpeg"/>
  <Override PartName="/ppt/media/image12.jpeg" ContentType="image/jpeg"/>
  <Override PartName="/ppt/media/image7.png" ContentType="image/png"/>
  <Override PartName="/ppt/media/image1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C471-8A04-4C09-AFA8-54C515A7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8CFE-64B1-4719-8733-950955F7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838C-DDE9-49E6-A6E8-AC89EDE6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2743-EF43-4415-AE09-4B8FFD6A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D740-5F37-44C1-B38D-18CB8A67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FED-3B63-4A4E-9885-2126D38E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169A-43E2-47CD-8864-3131107F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8F9-AF67-43AD-B281-4CBE5F9F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A10B-8964-48EB-94E0-001E0F10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E4B-393F-45B0-B3B8-738EC8DD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2B8-67D9-450F-A67A-BEDFEAC9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AEC-9A94-4D47-AC52-82BFD050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092D-8C6A-4C0F-9FDA-489F2E181E0A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71DC-EB3F-4232-98A2-1B1DC2FDF14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дготовила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ля учеников 3-4 классов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асильева Марина Владимировна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ОУ школа «Выбор»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87280" y="1773360"/>
            <a:ext cx="741708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тературная викторина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Что за прелесть эти сказки!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4" descr="H:\Documents and Settings\Aida\Рабочий стол\НОвая ГРАФИКА сборник\КАРТИНКИ СБОРНИК_ школьные\s30.gif"/>
          <p:cNvPicPr/>
          <p:nvPr/>
        </p:nvPicPr>
        <p:blipFill>
          <a:blip r:embed="rId5"/>
          <a:stretch/>
        </p:blipFill>
        <p:spPr>
          <a:xfrm>
            <a:off x="826920" y="4797360"/>
            <a:ext cx="1428840" cy="866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чинает Пушкин «Сказку о царе Салтане»?</a:t>
            </a:r>
            <a:br>
              <a:rPr sz="3600"/>
            </a:b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Три девицы под окном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Пряли поздно вечерком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73" name="Picture 6" descr="03_Tridevitsypodoknomprjalipozdnovecherkom_"/>
          <p:cNvPicPr/>
          <p:nvPr/>
        </p:nvPicPr>
        <p:blipFill>
          <a:blip r:embed="rId1"/>
          <a:stretch/>
        </p:blipFill>
        <p:spPr>
          <a:xfrm>
            <a:off x="468360" y="1916280"/>
            <a:ext cx="3448080" cy="4525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акие слова обычно кричал золотой петушок, предупреждая об опасности?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24000" y="227664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Кири-ку-ку!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Царствуй, 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лежа на боку!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6" name="Picture 10" descr="serov"/>
          <p:cNvPicPr/>
          <p:nvPr/>
        </p:nvPicPr>
        <p:blipFill>
          <a:blip r:embed="rId1"/>
          <a:stretch/>
        </p:blipFill>
        <p:spPr>
          <a:xfrm>
            <a:off x="324000" y="2060640"/>
            <a:ext cx="3746520" cy="4535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Расплачиваясь с Балдой, поп подставил лоб. Что же приговаривал Балда с укоризной?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Не гонялся бы ты, поп, 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За дешевизной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025800" cy="4160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2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    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 какими словами обращалась царица к волшебному зеркалу?</a:t>
            </a:r>
            <a:r>
              <a:rPr b="0" lang="ru-RU" sz="40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Свет мой, зеркальце! Скажи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Да всю правду доложи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Я ль на свете всех милее,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Всех румяней и белее?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3" name="Picture 6" descr="3409"/>
          <p:cNvPicPr/>
          <p:nvPr/>
        </p:nvPicPr>
        <p:blipFill>
          <a:blip r:embed="rId1"/>
          <a:stretch/>
        </p:blipFill>
        <p:spPr>
          <a:xfrm>
            <a:off x="4932360" y="1484280"/>
            <a:ext cx="3092400" cy="4525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ими словами чаще всего оканчиваются сказки А.С.Пушкина?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800000"/>
                </a:solidFill>
                <a:latin typeface="Arial"/>
              </a:rPr>
              <a:t>Я там был, мед, пиво пил,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800000"/>
                </a:solidFill>
                <a:latin typeface="Arial"/>
              </a:rPr>
              <a:t>Да усы лишь обмочил…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6" name="Picture 4" descr="26596055_1212756189_3"/>
          <p:cNvPicPr/>
          <p:nvPr/>
        </p:nvPicPr>
        <p:blipFill>
          <a:blip r:embed="rId1"/>
          <a:stretch/>
        </p:blipFill>
        <p:spPr>
          <a:xfrm>
            <a:off x="900000" y="1844640"/>
            <a:ext cx="4608720" cy="3168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3"/>
          <p:cNvSpPr txBox="1"/>
          <p:nvPr/>
        </p:nvSpPr>
        <p:spPr>
          <a:xfrm>
            <a:off x="3492360" y="907920"/>
            <a:ext cx="583416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лександр 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ергеевич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ушкин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Picture 4" descr="ПОРТ"/>
          <p:cNvPicPr/>
          <p:nvPr/>
        </p:nvPicPr>
        <p:blipFill>
          <a:blip r:embed="rId1"/>
          <a:stretch/>
        </p:blipFill>
        <p:spPr>
          <a:xfrm>
            <a:off x="1332000" y="1413000"/>
            <a:ext cx="1944720" cy="222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6" name="Picture 10" descr="%D0%9E%D0%B1%D0%BB%D0%BE%D0%B6%D0%BA%D0%B01"/>
          <p:cNvPicPr/>
          <p:nvPr/>
        </p:nvPicPr>
        <p:blipFill>
          <a:blip r:embed="rId2"/>
          <a:stretch/>
        </p:blipFill>
        <p:spPr>
          <a:xfrm>
            <a:off x="5219640" y="3429000"/>
            <a:ext cx="20383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Что спрашивала у старика рыбка, являясь на зов, и как он ей отвечал?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48" name="Picture 5" descr="О РЫБАКЕ"/>
          <p:cNvPicPr/>
          <p:nvPr/>
        </p:nvPicPr>
        <p:blipFill>
          <a:blip r:embed="rId1"/>
          <a:stretch/>
        </p:blipFill>
        <p:spPr>
          <a:xfrm>
            <a:off x="4859280" y="3284640"/>
            <a:ext cx="3113280" cy="252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9" name="Rectangle 7"/>
          <p:cNvSpPr/>
          <p:nvPr/>
        </p:nvSpPr>
        <p:spPr>
          <a:xfrm>
            <a:off x="826920" y="1844640"/>
            <a:ext cx="792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«Чего тебе надобно, старче?" –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"Смилуйся, государыня рыбка!..,"</a:t>
            </a:r>
            <a:br>
              <a:rPr sz="2800"/>
            </a:b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971640" y="3213000"/>
            <a:ext cx="3467160" cy="259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з какой сказки слова?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казка ложь, да в ней намёк!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    Добрым молодцам урок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4360" y="2852640"/>
            <a:ext cx="42253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«Сказка о золотом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петушке»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3" name="Picture 4" descr="54357"/>
          <p:cNvPicPr/>
          <p:nvPr/>
        </p:nvPicPr>
        <p:blipFill>
          <a:blip r:embed="rId1"/>
          <a:stretch/>
        </p:blipFill>
        <p:spPr>
          <a:xfrm>
            <a:off x="5364000" y="2565360"/>
            <a:ext cx="2872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 кого превращался князь Гвидон, когда летал в царство Салтана?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5" name="Picture 4" descr="Ц-САЛТ"/>
          <p:cNvPicPr/>
          <p:nvPr/>
        </p:nvPicPr>
        <p:blipFill>
          <a:blip r:embed="rId1"/>
          <a:stretch/>
        </p:blipFill>
        <p:spPr>
          <a:xfrm>
            <a:off x="395280" y="3357720"/>
            <a:ext cx="2952720" cy="226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5" descr="комар"/>
          <p:cNvPicPr/>
          <p:nvPr/>
        </p:nvPicPr>
        <p:blipFill>
          <a:blip r:embed="rId2"/>
          <a:stretch/>
        </p:blipFill>
        <p:spPr>
          <a:xfrm>
            <a:off x="5554800" y="3357720"/>
            <a:ext cx="3049560" cy="223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Rectangle 6"/>
          <p:cNvSpPr/>
          <p:nvPr/>
        </p:nvSpPr>
        <p:spPr>
          <a:xfrm>
            <a:off x="1476360" y="242100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В комара, муху, шмеля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т кого князь Гвидон спас царевну Лебедь?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9" name="Picture 4" descr="коршун"/>
          <p:cNvPicPr/>
          <p:nvPr/>
        </p:nvPicPr>
        <p:blipFill>
          <a:blip r:embed="rId1"/>
          <a:stretch/>
        </p:blipFill>
        <p:spPr>
          <a:xfrm>
            <a:off x="971640" y="1628640"/>
            <a:ext cx="2592360" cy="3457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Rectangle 5"/>
          <p:cNvSpPr/>
          <p:nvPr/>
        </p:nvSpPr>
        <p:spPr>
          <a:xfrm>
            <a:off x="5219640" y="196056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От чародея</a:t>
            </a: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ак звали пса, который сторожил терем семи богатырей?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62" name="Picture 4" descr="соколко"/>
          <p:cNvPicPr/>
          <p:nvPr/>
        </p:nvPicPr>
        <p:blipFill>
          <a:blip r:embed="rId1"/>
          <a:stretch/>
        </p:blipFill>
        <p:spPr>
          <a:xfrm>
            <a:off x="4643280" y="1557360"/>
            <a:ext cx="2449800" cy="3637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3" name="Rectangle 5"/>
          <p:cNvSpPr/>
          <p:nvPr/>
        </p:nvSpPr>
        <p:spPr>
          <a:xfrm>
            <a:off x="1260720" y="1911240"/>
            <a:ext cx="2096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Соколко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то был верным сторожем царя Дадона?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65" name="Picture 4" descr="ЗОЛОТОЙ ПЕТУХ"/>
          <p:cNvPicPr/>
          <p:nvPr/>
        </p:nvPicPr>
        <p:blipFill>
          <a:blip r:embed="rId1"/>
          <a:stretch/>
        </p:blipFill>
        <p:spPr>
          <a:xfrm>
            <a:off x="3851280" y="2133720"/>
            <a:ext cx="3457440" cy="2781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6" name="Rectangle 5"/>
          <p:cNvSpPr/>
          <p:nvPr/>
        </p:nvSpPr>
        <p:spPr>
          <a:xfrm>
            <a:off x="1042920" y="242100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Петушок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 каких трех чудесах говорили царю Салтану повариха, ткачиха и Бабариха?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68" name="Picture 8" descr="saltan09"/>
          <p:cNvPicPr/>
          <p:nvPr/>
        </p:nvPicPr>
        <p:blipFill>
          <a:blip r:embed="rId1"/>
          <a:stretch/>
        </p:blipFill>
        <p:spPr>
          <a:xfrm>
            <a:off x="846000" y="1989000"/>
            <a:ext cx="1998720" cy="2664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9" name="Picture 15" descr="saltan08"/>
          <p:cNvPicPr/>
          <p:nvPr/>
        </p:nvPicPr>
        <p:blipFill>
          <a:blip r:embed="rId2"/>
          <a:stretch/>
        </p:blipFill>
        <p:spPr>
          <a:xfrm>
            <a:off x="5508720" y="1989000"/>
            <a:ext cx="2054160" cy="2737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0" name="Picture 16" descr="49528820_1254752443_19"/>
          <p:cNvPicPr/>
          <p:nvPr/>
        </p:nvPicPr>
        <p:blipFill>
          <a:blip r:embed="rId3"/>
          <a:stretch/>
        </p:blipFill>
        <p:spPr>
          <a:xfrm>
            <a:off x="3132000" y="3357720"/>
            <a:ext cx="1920960" cy="2808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23:24:25Z</dcterms:created>
  <dc:creator>XTreme</dc:creator>
  <dc:description>http://aida.ucoz.ru</dc:description>
  <dc:language>en-US</dc:language>
  <cp:lastModifiedBy>FizInform</cp:lastModifiedBy>
  <dcterms:modified xsi:type="dcterms:W3CDTF">2015-01-23T12:13:04Z</dcterms:modified>
  <cp:revision>17</cp:revision>
  <dc:subject/>
  <dc:title>Слайд 1</dc:title>
</cp:coreProperties>
</file>