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102-FBA3-4756-9BFC-264F09CE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C99C-B33A-4C3E-BA0F-CB0780B2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9260-6476-4B79-AB60-959D0EFE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B0E0-599B-4E2E-B901-540C466E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7131-EA9E-49FE-B20A-7C74A0F3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EC98-C3CD-407D-92DC-E7A5A203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E314-449A-4F37-9523-B50C2C6D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CE4E-FC35-4F3B-8888-E6981403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9661-C12F-4778-81F6-87B72948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0A7F-3234-484E-A790-8EF89ED8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1F42-328C-4E4F-A064-94B6DF72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04BF-AFB3-42D0-86F2-C9AC972B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207B-A384-4636-AF81-1713B7FF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710B-2BC2-4C27-9381-63054C0E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F218-B6AF-4AEE-9F6F-AE3540FB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5E92-7676-47F6-9F94-7021D2BA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6F10-AC47-4DC7-B0DD-0DFEBAE3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1508-6CE9-428B-AC50-168A1AE6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4F9-E76D-4FBE-B411-4C181A7F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77CB-091E-49FD-80D7-0F2E418D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0261-BC0F-41E3-A7FF-511D7419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95AC-ABE9-48BE-8517-65349B75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7786-1D93-4791-9ED7-FCF7B80A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436-48EF-42D0-8115-AF2EA040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EBC0-0407-4732-94EA-0F067E56DFC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38FD-7137-4379-8E96-77BBE763293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Методы инструментальной диагностики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неврологической клини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5315400" y="6269040"/>
            <a:ext cx="39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ондрашова М.А.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урс 2 груп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411280" y="0"/>
            <a:ext cx="35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ЯМР-резонансная групп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РТ (Магнитно-резонансная томография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ctr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РС (Магнитно-резонансная спектроскопия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ctr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зитронно-эмиссионная томограф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ctr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нцефалосцинтиграф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ctr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нцефалоангиосцинтиграф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116000" y="0"/>
            <a:ext cx="705636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681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Нейровизуализация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Совокупность функциональных явлений и технологических методов, создающая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прижизненное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изображение ЦНС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Ультразвуковая групп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хоэнцефалография (ЭхоЭГ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ctr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льтразвуковая допплерография (УЗДГ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ctr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войная ультразвуковая допплерограф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ctr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ранскраниальная допплерограф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ctr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йросонограф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11280" y="-7920"/>
            <a:ext cx="806616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-757080" y="-25560"/>
            <a:ext cx="1018836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Обследование (диагностика)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403280" y="1628640"/>
            <a:ext cx="1152720" cy="122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1557360"/>
            <a:ext cx="0" cy="23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88000" y="1557360"/>
            <a:ext cx="1224000" cy="129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3120" y="2852640"/>
            <a:ext cx="268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линическ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9720" y="285264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Лаборатор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52960" y="4005360"/>
            <a:ext cx="643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Инструментально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-612720" y="36360"/>
            <a:ext cx="1026000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Электрофизиологическая групп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тая электроэнцефалография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Э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ctr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идео-ЭЭГ-мониторин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ctr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Холтеровский мониторин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ctr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лисомнограф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ctr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оэнцефалография (РЭГ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ctr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ртикография и субкортикограф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Электрофизиологическая групп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тод вызванных потенциалов ВП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лектромиография (глобальная и локальная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имуляционная миограф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ранскраниальная магнитная стимуляция (ТМС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Список литературы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.О. Бадалян, Невропатология, М., Академия,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урнал «Л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ування та Д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гностика», 1997, 1, стр.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40328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Классификации инструментальных методо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роникновение в организ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Инвазивные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Неинвазивные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лучаемая информац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изуальная информация о структурных изменениях в 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формация о функциональных нарушениях 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мплексная информация (структура + функци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пособ получения информаци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Электрофизиологически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6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Биофизически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6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Ультразвуковы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6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Рентгенорадиологически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6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ЯМР-резонансны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Наруше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1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труктурные наруше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ентгенорадиологическ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ЯМР-резонанс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льтразвуков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35280" y="1700280"/>
            <a:ext cx="460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Функциональные наруше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Электрофизиологическ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Ультразвуков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Биофизическ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556000" y="1125360"/>
            <a:ext cx="1079280" cy="57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64000" y="1125360"/>
            <a:ext cx="1295640" cy="57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ыбор метода диагностик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ичный опыт врач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намне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полагаемая патолог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Желаемая информац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/>
          <p:nvPr/>
        </p:nvSpPr>
        <p:spPr>
          <a:xfrm>
            <a:off x="1347480" y="4797360"/>
            <a:ext cx="656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БЕЗВРЕДНОСТЬ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Рентгенорадиологическая групп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нтгенограмма прост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ctr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нтгенограмма с контрастным веществом (вентрикулография, ангиография, миелография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ctr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тая и компьютер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нтген-томограф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8:08:42Z</dcterms:created>
  <dc:creator>KMA</dc:creator>
  <dc:description/>
  <dc:language>en-US</dc:language>
  <cp:lastModifiedBy>KMA</cp:lastModifiedBy>
  <dcterms:modified xsi:type="dcterms:W3CDTF">2010-05-13T22:07:15Z</dcterms:modified>
  <cp:revision>4</cp:revision>
  <dc:subject/>
  <dc:title>Методы инструментальной диагностики</dc:title>
</cp:coreProperties>
</file>