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684-5CF1-4922-8180-348EFF66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41D-AA06-4D0D-B6E7-8A38C9C9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B30-A72F-4434-920B-E78F44AA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276-7F62-47CF-BC4E-806BA864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844-28D9-4D6D-8C32-3B741147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151-2316-4B49-BC63-70D7008D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73C-F397-482B-8D18-A1A32A6B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2C7-BA86-485A-922D-1B518F37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08E-893B-4DDB-AA64-CF592D3F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577-F04E-4EEA-AA57-493648AC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F81-EA80-4836-8688-69B89D07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5F2-790F-4596-84AF-9F9FAF28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891E-6F07-4336-A12A-2C1F2A298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786800" y="6286680"/>
            <a:ext cx="938160" cy="22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3357720" y="5357880"/>
            <a:ext cx="252720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Рабочий стол\угадай\д.gif"/>
          <p:cNvPicPr/>
          <p:nvPr/>
        </p:nvPicPr>
        <p:blipFill>
          <a:blip r:embed="rId3"/>
          <a:stretch/>
        </p:blipFill>
        <p:spPr>
          <a:xfrm>
            <a:off x="0" y="5000760"/>
            <a:ext cx="1461960" cy="185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Admin\Рабочий стол\угадай\ссч.gif"/>
          <p:cNvPicPr/>
          <p:nvPr/>
        </p:nvPicPr>
        <p:blipFill>
          <a:blip r:embed="rId4"/>
          <a:stretch/>
        </p:blipFill>
        <p:spPr>
          <a:xfrm>
            <a:off x="7500960" y="4965840"/>
            <a:ext cx="1643040" cy="1892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5715000" y="4737240"/>
            <a:ext cx="3571920" cy="2120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63640" y="1413000"/>
            <a:ext cx="612144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на уроках окружающего ми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3203280" y="4292640"/>
            <a:ext cx="5537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бщение педагогического опыта учителя начальных классов МОУ Богдашкинской СОШ первой 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велис Елены Владимиров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alibri"/>
              </a:rPr>
              <a:t>Обучающие иг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Лексическая, орфографическая, грамматическая, ролевая, деловая,  образоват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908000" y="3141720"/>
            <a:ext cx="511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alibri"/>
              </a:rPr>
              <a:t>Обучение в сотрудничест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2436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eece1"/>
                </a:solidFill>
                <a:latin typeface="Calibri"/>
              </a:rPr>
              <a:t>Работа в группах, где слабые учащиеся могут, не стесняясь, выяснить то, что они не поняли на уроке, а также и сильный ученик, помогающий усвоить трудный для него материал, ещё раз более сознательно закрепит свои знания </a:t>
            </a:r>
            <a:r>
              <a:rPr b="0" i="1" lang="en-US" sz="2800" spc="-1" strike="noStrike">
                <a:solidFill>
                  <a:srgbClr val="eeece1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Текст 2" descr=""/>
          <p:cNvPicPr/>
          <p:nvPr/>
        </p:nvPicPr>
        <p:blipFill>
          <a:blip r:embed="rId2"/>
          <a:stretch/>
        </p:blipFill>
        <p:spPr>
          <a:xfrm>
            <a:off x="2627280" y="3357720"/>
            <a:ext cx="4830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Информационные  технологии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eece1"/>
                </a:solidFill>
                <a:latin typeface="Calibri"/>
              </a:rPr>
              <a:t>Мультимедийные технологии дают высокий эффект обучения по предметам. Я имею в наличии много сделанных мною  мультимедийных презентаций по различным темам и применяю их на своих урок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132000" y="4121280"/>
            <a:ext cx="4032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Метод проектов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Знать на зубок, ещё не значит знать. Интеграция знаний через творчество учащихся в процессе проектной деятельности позволяет успешно поддерживать мотивацию, интерес к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411280" y="3429000"/>
            <a:ext cx="5400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8720" cy="3095640"/>
          </a:xfrm>
          <a:prstGeom prst="rect">
            <a:avLst/>
          </a:prstGeom>
          <a:ln w="0">
            <a:noFill/>
          </a:ln>
        </p:spPr>
      </p:pic>
      <p:pic>
        <p:nvPicPr>
          <p:cNvPr id="306" name="Текст 2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6035760" cy="3313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4643280" y="0"/>
            <a:ext cx="42498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Моделир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В настоящее время в учебном процессе современной школы широко используется моделирование. Работа с моделями является неотъемлемой частью многих уроков: математики, информатики, русского языка, окружающего мира и других. На уроках окружающего мира я активно систематически использую учебные модели, которые необходимы для того, чтобы придать общим свойствам любого явления материализованную форму, облегчающую дальнейшее преобразование изучаемого объекта. При работе с моделями обучающиеся учатся работать с информацией: извлекать информацию, представленную в разных формах (текст, информационная модель), представлять информацию в виде текста,  таблицы, схемы, преобразовывать информацию из одного вида в другой, выбирать наиболее удобный ви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931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В современном обучении моделирование используется для стимулирования познавательной деятельности учащихся (приобретение новых знаний, закрепление их), а также оперирования приемами мышлен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                             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Р.С. Гайсин в своей статье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                      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утверждает: «В отличие от работы 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                      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готовыми моделями, моделирование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                      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предполагает совместные действ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                      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учителя и учащихся по построению 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                       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изучению модели исследуем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                       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природного объекта или яв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Моделирование как особый вид познава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деятельности представляет собой процесс созд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учащимися под руководством учителя обра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изучаемого объекта, включающего наиболе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существенные его характеристики, с отвлечением от незначимых и второстепенных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3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eece1"/>
                </a:solidFill>
                <a:uFillTx/>
                <a:latin typeface="Calibri"/>
              </a:rPr>
              <a:t>Моделирование</a:t>
            </a:r>
            <a:r>
              <a:rPr b="0" lang="en-US" sz="3600" spc="-1" strike="noStrike">
                <a:solidFill>
                  <a:srgbClr val="eeece1"/>
                </a:solidFill>
                <a:latin typeface="Calibri"/>
              </a:rPr>
              <a:t> – исследование объектов познания на их моделях; построение и изучение моделей реально существующих объектов, процессов или явлений с целью получения объяснений этих явлений, а также для предсказания явлений, интересующих исследовател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Процесс моделирования включ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Calibri"/>
              </a:rPr>
              <a:t>три элемента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субъект (исследователь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объект исследов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модель, определяющую (отражающую) отношения познающего субъекта и познаваемого объ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549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Times New Roman"/>
              </a:rPr>
              <a:t>Современное общество предъявляет новые требования к развитию личности человека: сегодня каждому  необходимо обладать творческим мышлением, собственным мнением, гибкостью в различных жизненных ситуациях.</a:t>
            </a:r>
            <a:br>
              <a:rPr sz="3600"/>
            </a:br>
            <a:r>
              <a:rPr b="0" lang="en-US" sz="1400" spc="-1" strike="noStrike">
                <a:solidFill>
                  <a:srgbClr val="eeece1"/>
                </a:solidFill>
                <a:latin typeface="Times New Roman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1" descr="http://festival.1september.ru/files/articles/51/5196/519607/img2.gif"/>
          <p:cNvPicPr/>
          <p:nvPr/>
        </p:nvPicPr>
        <p:blipFill>
          <a:blip r:embed="rId2"/>
          <a:stretch/>
        </p:blipFill>
        <p:spPr>
          <a:xfrm>
            <a:off x="179280" y="260280"/>
            <a:ext cx="7488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84596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ce1"/>
                </a:solidFill>
                <a:latin typeface="Calibri"/>
              </a:rPr>
              <a:t>                                                      </a:t>
            </a:r>
            <a:r>
              <a:rPr b="1" i="1" lang="en-US" sz="2400" spc="-1" strike="noStrike">
                <a:solidFill>
                  <a:srgbClr val="eeece1"/>
                </a:solidFill>
                <a:latin typeface="Calibri"/>
              </a:rPr>
              <a:t>А.А. Самарский выделя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ce1"/>
                </a:solidFill>
                <a:latin typeface="Calibri"/>
              </a:rPr>
              <a:t>                                   </a:t>
            </a:r>
            <a:r>
              <a:rPr b="1" i="1" lang="en-US" sz="2400" spc="-1" strike="noStrike">
                <a:solidFill>
                  <a:srgbClr val="eeece1"/>
                </a:solidFill>
                <a:latin typeface="Calibri"/>
              </a:rPr>
              <a:t>четыре этапа построения  модели:</a:t>
            </a:r>
            <a:r>
              <a:rPr b="0" i="1" lang="en-US" sz="2000" spc="-1" strike="noStrike">
                <a:solidFill>
                  <a:srgbClr val="eeece1"/>
                </a:solidFill>
                <a:latin typeface="Calibri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ce1"/>
                </a:solidFill>
                <a:latin typeface="Calibri"/>
              </a:rPr>
              <a:t>                                          </a:t>
            </a:r>
            <a:r>
              <a:rPr b="0" i="1" lang="en-US" sz="2400" spc="-1" strike="noStrike">
                <a:solidFill>
                  <a:srgbClr val="eeece1"/>
                </a:solidFill>
                <a:latin typeface="Calibri"/>
              </a:rPr>
              <a:t>* На первом этапе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построение модел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предполагает наличие некотор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знаний об объекте-оригинал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* На </a:t>
            </a:r>
            <a:r>
              <a:rPr b="0" i="1" lang="en-US" sz="2400" spc="-1" strike="noStrike">
                <a:solidFill>
                  <a:srgbClr val="eeece1"/>
                </a:solidFill>
                <a:latin typeface="Calibri"/>
              </a:rPr>
              <a:t>втором этапе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модель выступа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                                   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как самостоятельный объект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                                    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исслед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                                   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* На </a:t>
            </a:r>
            <a:r>
              <a:rPr b="0" i="1" lang="en-US" sz="2400" spc="-1" strike="noStrike">
                <a:solidFill>
                  <a:srgbClr val="eeece1"/>
                </a:solidFill>
                <a:latin typeface="Calibri"/>
              </a:rPr>
              <a:t>третьем этапе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осуществля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перенос знаний с модели на оригинал – формир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множества зн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eece1"/>
                </a:solidFill>
                <a:latin typeface="Calibri"/>
              </a:rPr>
              <a:t>На четвертом этапе используется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практическая проверка получаемых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помощью моделей знаний и 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использование для постро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обобщающей теории объекта, е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преобразования или управления и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781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Классификация видов моделирования </a:t>
            </a:r>
            <a:br>
              <a:rPr sz="3200"/>
            </a:b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на уроках окружающего мир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eece1"/>
                </a:solidFill>
                <a:latin typeface="Calibri"/>
              </a:rPr>
              <a:t>Моделирование, раскрывающее существенные признаки изучаемого объекта природы</a:t>
            </a:r>
            <a:r>
              <a:rPr b="0" i="1" lang="en-US" sz="2400" spc="-1" strike="noStrike">
                <a:solidFill>
                  <a:srgbClr val="eeece1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Сюда можно отнести построение обобщенных мод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различных групп растений, животн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К этому типу можно отнести раскрывающие эколог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связи при изучении сезонных изменений в природе,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живых организмов со средой обитания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25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250920" y="333360"/>
            <a:ext cx="7849800" cy="6119640"/>
            <a:chOff x="250920" y="333360"/>
            <a:chExt cx="7849800" cy="6119640"/>
          </a:xfrm>
        </p:grpSpPr>
        <p:sp>
          <p:nvSpPr>
            <p:cNvPr id="322" name=""/>
            <p:cNvSpPr/>
            <p:nvPr/>
          </p:nvSpPr>
          <p:spPr>
            <a:xfrm>
              <a:off x="2521080" y="1992240"/>
              <a:ext cx="3713040" cy="1029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Осеннее похолодани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66920" y="3736800"/>
              <a:ext cx="6060600" cy="102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Труд люде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66920" y="333360"/>
              <a:ext cx="2231280" cy="71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асте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53080" y="333360"/>
              <a:ext cx="2231640" cy="71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животны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920" y="5309640"/>
              <a:ext cx="1885320" cy="114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дуб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48720" y="5309640"/>
              <a:ext cx="1788840" cy="114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каба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34480" y="5309640"/>
              <a:ext cx="1866240" cy="114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вол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29" name=""/>
            <p:cNvCxnSpPr/>
            <p:nvPr/>
          </p:nvCxnSpPr>
          <p:spPr>
            <a:xfrm>
              <a:off x="3713760" y="676080"/>
              <a:ext cx="82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/>
            <p:nvPr/>
          </p:nvCxnSpPr>
          <p:spPr>
            <a:xfrm>
              <a:off x="2328480" y="5966640"/>
              <a:ext cx="827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/>
            <p:nvPr/>
          </p:nvCxnSpPr>
          <p:spPr>
            <a:xfrm>
              <a:off x="5291640" y="5966640"/>
              <a:ext cx="82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/>
            <p:nvPr/>
          </p:nvCxnSpPr>
          <p:spPr>
            <a:xfrm>
              <a:off x="2136240" y="1248120"/>
              <a:ext cx="2160" cy="22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/>
            <p:nvPr/>
          </p:nvCxnSpPr>
          <p:spPr>
            <a:xfrm>
              <a:off x="6561360" y="1248120"/>
              <a:ext cx="1800" cy="22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4425480" y="3232440"/>
              <a:ext cx="1080" cy="46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/>
            <p:nvPr/>
          </p:nvCxnSpPr>
          <p:spPr>
            <a:xfrm flipV="1">
              <a:off x="5965200" y="1248120"/>
              <a:ext cx="154800" cy="60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/>
            <p:nvPr/>
          </p:nvCxnSpPr>
          <p:spPr>
            <a:xfrm flipH="1" flipV="1">
              <a:off x="2520720" y="1248120"/>
              <a:ext cx="192960" cy="60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eece1"/>
                </a:solidFill>
                <a:latin typeface="Calibri"/>
              </a:rPr>
              <a:t>Моделирование, выявляющее особенности функционирования, роста, развития организма и другие процессы в природ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В качестве основы для моделирования такого типа мож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использовать традиционно включаемые в учебни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естествознания схемы, характеризующие развитие раст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из семени, круговорот воды в природе, смен дня и ноч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времен года, сезонные изменения в жизни деревь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обобщенные модели процесса измен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изучаемого объекта в сторону его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Увели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Умень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Разрушения или дробления на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Текст 2" descr=""/>
          <p:cNvPicPr/>
          <p:nvPr/>
        </p:nvPicPr>
        <p:blipFill>
          <a:blip r:embed="rId2"/>
          <a:stretch/>
        </p:blipFill>
        <p:spPr>
          <a:xfrm rot="20902800">
            <a:off x="250560" y="476280"/>
            <a:ext cx="67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Текст 2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673440" cy="3743280"/>
          </a:xfrm>
          <a:prstGeom prst="rect">
            <a:avLst/>
          </a:prstGeom>
          <a:ln w="0">
            <a:noFill/>
          </a:ln>
        </p:spPr>
      </p:pic>
      <p:pic>
        <p:nvPicPr>
          <p:cNvPr id="340" name="Текст 2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537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Моделирование, отражающее способы деятельности (трудовой или исследовательской) с природными объект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Элементами моделирования трудового процес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могут быть схематические рисунки его этапов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предметы, необходимые для его выполн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изображение объекта до начала работы с ним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пос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Calibri"/>
              </a:rPr>
              <a:t>Влияние применения метода моделирования на качество усвоения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403280" y="1989000"/>
          <a:ext cx="6264360" cy="424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989000"/>
                    <a:ext cx="62643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Текст 2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5689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35720" y="692280"/>
            <a:ext cx="1808280" cy="2736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0"/>
            <a:ext cx="770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Times New Roman"/>
              </a:rPr>
              <a:t>Требования  к усвоению дисциплины «Окружающий мир»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1. Понимание особой роли России в мировой истории, воспитание чувства гордости за национа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свершения, открытия, побе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2. Сформированность  уважительного отношения к своей стране, родному краю, своей семье, истории, культуре, природе нашей страны, ее современной жиз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3. Осознание целостности окружающего мира, осво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основ экологической грамотности, элементарных прави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нравственного поведения в мире природы и людей, нор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здоровьесберегающего поведения в природной и социальной сред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4. Освоение доступных способов изучения природы  и общ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5. Развитие навыков устанавливать и выявлять причинно-следственные связи в окружающем ми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Текст 2" descr=""/>
          <p:cNvPicPr/>
          <p:nvPr/>
        </p:nvPicPr>
        <p:blipFill>
          <a:blip r:embed="rId2"/>
          <a:stretch/>
        </p:blipFill>
        <p:spPr>
          <a:xfrm>
            <a:off x="0" y="1773360"/>
            <a:ext cx="4506840" cy="4273560"/>
          </a:xfrm>
          <a:prstGeom prst="rect">
            <a:avLst/>
          </a:prstGeom>
          <a:ln w="0">
            <a:noFill/>
          </a:ln>
        </p:spPr>
      </p:pic>
      <p:pic>
        <p:nvPicPr>
          <p:cNvPr id="349" name="Текст 2" descr=""/>
          <p:cNvPicPr/>
          <p:nvPr/>
        </p:nvPicPr>
        <p:blipFill>
          <a:blip r:embed="rId3"/>
          <a:stretch/>
        </p:blipFill>
        <p:spPr>
          <a:xfrm>
            <a:off x="4859280" y="692280"/>
            <a:ext cx="4038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alibri"/>
              </a:rPr>
              <a:t>Заключ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eece1"/>
                </a:solidFill>
                <a:latin typeface="Calibri"/>
              </a:rPr>
              <a:t>Моделирование можно использовать практически на любом уроке окружающего мира. В своей педагогической деятельности стараюсь правильно понимать и учитывать мотивы, интересы учащихся. Глубокие знания, мастерство, воля, выдержка, спокойствие, уверенность помогают успешно решать поставленные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alibri"/>
              </a:rPr>
              <a:t>Актуальность методической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eece1"/>
                </a:solidFill>
                <a:latin typeface="Calibri"/>
              </a:rPr>
              <a:t>Начальная школа – принципиально новый этап в жизни ребенка: начинается систематическое обучение в образовательном учреждении, расширяется сфера его взаимодействия с окружающим миром, увеличивается потребность в самовыражении. На начальном этапе необходимо развитие словесно-логического мышления, произвольной смысловой памяти, внимания, интеллектуальных операций (анализ, сравнение, классификации и др.), а также организационных умений, способности к реализации внутреннего плана действий. Этому способствует построение моделей на уро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74170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eece1"/>
                </a:solidFill>
                <a:latin typeface="Calibri"/>
              </a:rPr>
              <a:t>Работа по описанию и представлению результатов наблюдений и опытов в виде шкал, диаграмм, графиков, формирует способности воображения и образно-символического мышления ребенка. Это позволяет учителю в последующем поставить перед собой задачу дальнейшего развития мышления ребенка, а именно способности выстраивать сложные гипотезы, проверяя их логичность и объяснительную си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alibri"/>
              </a:rPr>
              <a:t>Цель педагогической деятель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организация учеб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деятельности учени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направленной на 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познавательной самостоятельнос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развитие способност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формирование активной жизнен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408720" y="333360"/>
            <a:ext cx="2735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alibri"/>
              </a:rPr>
              <a:t>Задачи</a:t>
            </a: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: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55640" y="1412640"/>
            <a:ext cx="79264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добиваться усвоения программного                       материала в полном объеме каждым                  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развивать у учащихся подвижность и                 способность самостоятельного мышления,  учить рассуждать, мысли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сохранять здоровье школь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развивать психологическую, личностную, психофизиологическую и психосоматическую сферы личности ребенка, формируя способность к саморазвитию и сохранению здоровья собственными силами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227640" y="549360"/>
            <a:ext cx="2592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alibri"/>
              </a:rPr>
              <a:t>Технолог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работа в  групп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обучающие иг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обучение в сотрудниче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информационные  технолог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метод проек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модел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alibri"/>
              </a:rPr>
              <a:t>Работа в  групп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eece1"/>
                </a:solidFill>
                <a:latin typeface="Calibri"/>
              </a:rPr>
              <a:t>КВН, путешествие по станциям, конкурсы, виктор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5113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37:32Z</dcterms:created>
  <dc:creator>Школа</dc:creator>
  <dc:description/>
  <dc:language>en-US</dc:language>
  <cp:lastModifiedBy>Admin</cp:lastModifiedBy>
  <dcterms:modified xsi:type="dcterms:W3CDTF">2015-01-23T19:03:40Z</dcterms:modified>
  <cp:revision>15</cp:revision>
  <dc:subject/>
  <dc:title>Моделирование на уроках окружающего мира </dc:title>
</cp:coreProperties>
</file>