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07ACD-7D93-4E0A-9C92-8CDDD0D02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FB95D-5D33-4CA1-BC32-7F6551075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487D5-64BE-411D-BDD8-F044C6CC3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C87A9-3067-4C6C-B0A9-E9A53C7A5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54454-6A1D-4E0B-9EEE-5E3EC6AF6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0CFD2-4EFA-4556-9667-79155680B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AE3CC-E33A-4DD4-A1C6-765BAB13D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BDEDE-492B-4CCB-A535-8269B5B7A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3D893-D58E-48D4-8970-36267C5E4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6AEB7-E85B-48D1-992A-616F3FA88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22E65-AE3D-493E-9A80-A04C4963D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C5A7A-FDC4-4B6C-9F4E-2F1788CC1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D746B-68EA-4219-A2CB-B2832645F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F8BD0-8491-405C-8158-7BFA38D0F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6F25B-F703-4E1C-8E16-0F592A51A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8161F-7ED7-49BC-8B8A-F03BABBC2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C3AEA-1266-468A-8042-83569F809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819AE-FD26-48C2-9D2C-DD76F3027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92E52-8D36-438C-B570-6AD28E6B1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A8D7C-637F-4677-87DC-EBF107372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8E920-E237-4879-A533-E620C2DF7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72604-BA88-4E23-87D4-00F9179FC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5BC34-F0A9-4E3B-8E41-94EF7DD2D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0B940-DC1F-422C-BCFE-D497A4DE9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bd367"/>
            </a:gs>
            <a:gs pos="100000">
              <a:srgbClr val="c6bf5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ac835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ac835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ac835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ac835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ac835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ac835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ac835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ac835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ac835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ac835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ac835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ac835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ac835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e5a"/>
                  </a:gs>
                  <a:gs pos="100000">
                    <a:srgbClr val="ac835e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9b7655"/>
                  </a:gs>
                  <a:gs pos="50000">
                    <a:srgbClr val="ac835e"/>
                  </a:gs>
                  <a:gs pos="100000">
                    <a:srgbClr val="9b7655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9A0E0-A58D-4DFE-82D2-0C5631223BE7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99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99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99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99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99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bd367"/>
            </a:gs>
            <a:gs pos="100000">
              <a:srgbClr val="c6bf5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ac835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ac835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ac835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ac835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ac835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ac835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ac835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ac835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ac835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ac835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ac835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ac835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ac835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e5a"/>
                  </a:gs>
                  <a:gs pos="100000">
                    <a:srgbClr val="ac835e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9b7655"/>
                  </a:gs>
                  <a:gs pos="50000">
                    <a:srgbClr val="ac835e"/>
                  </a:gs>
                  <a:gs pos="100000">
                    <a:srgbClr val="9b7655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BB30B-E106-423F-9AB9-00E1DDFD39AE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bd367"/>
            </a:gs>
            <a:gs pos="100000">
              <a:srgbClr val="c6bf5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cc"/>
                </a:solidFill>
                <a:latin typeface="Tahoma"/>
              </a:rPr>
              <a:t>Население Австралии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84" name="" descr=""/>
          <p:cNvPicPr/>
          <p:nvPr/>
        </p:nvPicPr>
        <p:blipFill>
          <a:blip r:embed="rId1"/>
          <a:stretch/>
        </p:blipFill>
        <p:spPr>
          <a:xfrm>
            <a:off x="971640" y="1125360"/>
            <a:ext cx="7183440" cy="55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bd367"/>
            </a:gs>
            <a:gs pos="100000">
              <a:srgbClr val="c6bf5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В Австралии хорошо развита промышленность.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395280" y="2060640"/>
            <a:ext cx="3782880" cy="2458800"/>
          </a:xfrm>
          <a:prstGeom prst="rect">
            <a:avLst/>
          </a:prstGeom>
          <a:ln w="0">
            <a:noFill/>
          </a:ln>
        </p:spPr>
      </p:pic>
      <p:pic>
        <p:nvPicPr>
          <p:cNvPr id="400" name="" descr=""/>
          <p:cNvPicPr/>
          <p:nvPr/>
        </p:nvPicPr>
        <p:blipFill>
          <a:blip r:embed="rId2"/>
          <a:stretch/>
        </p:blipFill>
        <p:spPr>
          <a:xfrm>
            <a:off x="4500720" y="1916280"/>
            <a:ext cx="4194000" cy="27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bd367"/>
            </a:gs>
            <a:gs pos="100000">
              <a:srgbClr val="c6bf5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cc"/>
                </a:solidFill>
                <a:latin typeface="Tahoma"/>
              </a:rPr>
              <a:t>Австралийский Союз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1042920" y="1413000"/>
            <a:ext cx="6873840" cy="516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bd367"/>
            </a:gs>
            <a:gs pos="100000">
              <a:srgbClr val="c6bf5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/>
          </p:nvPr>
        </p:nvSpPr>
        <p:spPr>
          <a:xfrm>
            <a:off x="539640" y="188640"/>
            <a:ext cx="779472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99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 1901 году Австралия стала государством. Колонии сделались штатами и объединились в Австралийский союз. Это единственное государство которое занимает целый материк. По территории Австралия шестое государство в мире. Также в Союз входит остров Тасман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4" name="" descr=""/>
          <p:cNvPicPr/>
          <p:nvPr/>
        </p:nvPicPr>
        <p:blipFill>
          <a:blip r:embed="rId1"/>
          <a:stretch/>
        </p:blipFill>
        <p:spPr>
          <a:xfrm>
            <a:off x="2195640" y="2708280"/>
            <a:ext cx="4740120" cy="390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bd367"/>
            </a:gs>
            <a:gs pos="100000">
              <a:srgbClr val="c6bf5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Валют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301680" y="1600200"/>
            <a:ext cx="854064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99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Денежной единицей в Австралийском Союзе является Австралийский доллар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7" name="" descr=""/>
          <p:cNvPicPr/>
          <p:nvPr/>
        </p:nvPicPr>
        <p:blipFill>
          <a:blip r:embed="rId1"/>
          <a:stretch/>
        </p:blipFill>
        <p:spPr>
          <a:xfrm>
            <a:off x="1258920" y="2924280"/>
            <a:ext cx="6377040" cy="26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bd367"/>
            </a:gs>
            <a:gs pos="100000">
              <a:srgbClr val="c6bf5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Столица Австралии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178920" y="1483920"/>
            <a:ext cx="4427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99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Канберра – столица и административный центр Австралийского Союза с населением около 334 тыс. человек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10" name="" descr=""/>
          <p:cNvPicPr/>
          <p:nvPr/>
        </p:nvPicPr>
        <p:blipFill>
          <a:blip r:embed="rId1"/>
          <a:stretch/>
        </p:blipFill>
        <p:spPr>
          <a:xfrm>
            <a:off x="4788000" y="1700280"/>
            <a:ext cx="4194000" cy="34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bd367"/>
            </a:gs>
            <a:gs pos="100000">
              <a:srgbClr val="c6bf5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Сидней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12" name="" descr=""/>
          <p:cNvPicPr/>
          <p:nvPr/>
        </p:nvPicPr>
        <p:blipFill>
          <a:blip r:embed="rId1"/>
          <a:stretch/>
        </p:blipFill>
        <p:spPr>
          <a:xfrm>
            <a:off x="1042920" y="1341360"/>
            <a:ext cx="7064280" cy="529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bd367"/>
            </a:gs>
            <a:gs pos="100000">
              <a:srgbClr val="c6bf5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Мельбурн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763640" y="1700280"/>
            <a:ext cx="5757840" cy="43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bd367"/>
            </a:gs>
            <a:gs pos="100000">
              <a:srgbClr val="c6bf5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Ботанический сад Мельбурн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16" name="" descr=""/>
          <p:cNvPicPr/>
          <p:nvPr/>
        </p:nvPicPr>
        <p:blipFill>
          <a:blip r:embed="rId1"/>
          <a:stretch/>
        </p:blipFill>
        <p:spPr>
          <a:xfrm>
            <a:off x="900000" y="1197000"/>
            <a:ext cx="7169400" cy="53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bd367"/>
            </a:gs>
            <a:gs pos="100000">
              <a:srgbClr val="c6bf5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95280" y="24919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ffffcc"/>
                </a:solidFill>
                <a:latin typeface="Tahoma"/>
              </a:rPr>
              <a:t>Спасибо за внимание!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bd367"/>
            </a:gs>
            <a:gs pos="100000">
              <a:srgbClr val="c6bf5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/>
          </p:nvPr>
        </p:nvSpPr>
        <p:spPr>
          <a:xfrm>
            <a:off x="250920" y="9806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cc99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Австралия</a:t>
            </a: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 – самый малонаселенный материк (около 18 млн. человек). Население по составу делится на аборигенов и переселенцев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bd367"/>
            </a:gs>
            <a:gs pos="100000">
              <a:srgbClr val="c6bf5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/>
          </p:nvPr>
        </p:nvSpPr>
        <p:spPr>
          <a:xfrm>
            <a:off x="324000" y="1268280"/>
            <a:ext cx="4194000" cy="44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cc99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Аборигены – коренные жители Австралии, они отличаются темной кожей, широким носом,  толстыми губами и волнистыми черными волосам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1"/>
          <a:stretch/>
        </p:blipFill>
        <p:spPr>
          <a:xfrm>
            <a:off x="4643280" y="549360"/>
            <a:ext cx="4030920" cy="571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bd367"/>
            </a:gs>
            <a:gs pos="100000">
              <a:srgbClr val="c6bf5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Хижина – жилье аборигенов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89" name="" descr=""/>
          <p:cNvPicPr/>
          <p:nvPr/>
        </p:nvPicPr>
        <p:blipFill>
          <a:blip r:embed="rId1"/>
          <a:stretch/>
        </p:blipFill>
        <p:spPr>
          <a:xfrm>
            <a:off x="1195560" y="1600200"/>
            <a:ext cx="6752880" cy="44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bd367"/>
            </a:gs>
            <a:gs pos="100000">
              <a:srgbClr val="c6bf5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cc"/>
                </a:solidFill>
                <a:latin typeface="Tahoma"/>
              </a:rPr>
              <a:t>Диджериду</a:t>
            </a:r>
            <a:r>
              <a:rPr b="0" lang="ru-RU" sz="2000" spc="-1" strike="noStrike">
                <a:solidFill>
                  <a:srgbClr val="ffffcc"/>
                </a:solidFill>
                <a:latin typeface="Tahoma"/>
              </a:rPr>
              <a:t> – национальный музыкальный инструмент аборигенов Австралии. Он делается из куска эвкалипта, сердцевина которого выедена термитами, один из страейших духовых инструментов в мире</a:t>
            </a:r>
            <a:endParaRPr b="0" lang="en-US" sz="2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91" name="" descr=""/>
          <p:cNvPicPr/>
          <p:nvPr/>
        </p:nvPicPr>
        <p:blipFill>
          <a:blip r:embed="rId1"/>
          <a:stretch/>
        </p:blipFill>
        <p:spPr>
          <a:xfrm>
            <a:off x="1476360" y="1773360"/>
            <a:ext cx="6103800" cy="457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bd367"/>
            </a:gs>
            <a:gs pos="100000">
              <a:srgbClr val="c6bf5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900000" y="981000"/>
            <a:ext cx="7243920" cy="48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bd367"/>
            </a:gs>
            <a:gs pos="100000">
              <a:srgbClr val="c6bf5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Священная гора Айерс-Рок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94" name="" descr=""/>
          <p:cNvPicPr/>
          <p:nvPr/>
        </p:nvPicPr>
        <p:blipFill>
          <a:blip r:embed="rId1"/>
          <a:stretch/>
        </p:blipFill>
        <p:spPr>
          <a:xfrm>
            <a:off x="900000" y="1989000"/>
            <a:ext cx="7331040" cy="421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bd367"/>
            </a:gs>
            <a:gs pos="100000">
              <a:srgbClr val="c6bf5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cc"/>
                </a:solidFill>
                <a:latin typeface="Tahoma"/>
              </a:rPr>
              <a:t>Переселенцы</a:t>
            </a:r>
            <a:r>
              <a:rPr b="0" lang="en-US" sz="2200" spc="-1" strike="noStrike">
                <a:solidFill>
                  <a:srgbClr val="ffffcc"/>
                </a:solidFill>
                <a:latin typeface="Tahoma"/>
              </a:rPr>
              <a:t> – выходцы из других стран Европы: Италии, Германии, Греции, которые многое привнесли в культуру и быт Австралии</a:t>
            </a:r>
            <a:endParaRPr b="0" lang="en-US" sz="2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96" name="" descr=""/>
          <p:cNvPicPr/>
          <p:nvPr/>
        </p:nvPicPr>
        <p:blipFill>
          <a:blip r:embed="rId1"/>
          <a:stretch/>
        </p:blipFill>
        <p:spPr>
          <a:xfrm>
            <a:off x="755640" y="1484280"/>
            <a:ext cx="7547040" cy="503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bd367"/>
            </a:gs>
            <a:gs pos="100000">
              <a:srgbClr val="c6bf5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/>
          </p:nvPr>
        </p:nvSpPr>
        <p:spPr>
          <a:xfrm>
            <a:off x="250920" y="9806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99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ереселенцы вытеснили аборигенов в пустыни, вследствие этого большинство аборигенов погибло, остальная часть была убита при сопротивлении захватчикам. Сегодня в Австралии проживает лишь 1% аборигенов, большинство из них живет в городах, но небольшое количество из них по-прежнему живет в пустынях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5T23:21:31Z</dcterms:created>
  <dc:creator>Avtogorizont</dc:creator>
  <dc:description/>
  <dc:language>en-US</dc:language>
  <cp:lastModifiedBy>Avtogorizont</cp:lastModifiedBy>
  <dcterms:modified xsi:type="dcterms:W3CDTF">2009-11-26T01:23:36Z</dcterms:modified>
  <cp:revision>2</cp:revision>
  <dc:subject/>
  <dc:title>Население Австралии</dc:title>
</cp:coreProperties>
</file>