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CEAB-6D61-4C70-9108-27389EC09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AFBD-B2DB-444B-9272-6BD8AE50E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414B-DF9D-4711-9164-DF9C768C9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C46A-17D7-4292-BEE7-084D49FC9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767-CF1C-43D4-8FD2-4DF16316C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E2A3-837A-49E2-9154-528227929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83C-3ED6-4D7E-B561-9E9085BF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83A-D9B2-46AC-A60E-FDBBA006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B7A65-6A26-440E-93AE-600268E2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F8693-ABAC-4892-9A05-2819EAF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8D1CB-4B51-427F-A286-D3F7C7AA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89AE7-1943-41E8-9361-6F51F676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46FFD-0D09-401E-AFB4-5CAA5F8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2638D-D91E-4D52-81AF-1355990B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DDF89-63B2-4686-89D1-6AE8804F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CDC18-03DF-46C5-B8C0-32F1E463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86AD3-10BA-419C-81BC-DD888338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428-8093-42DA-B096-4007BFA3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1DB-80FA-44D8-8EE3-D0894788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2BB1-1189-4906-BF14-1B7653A4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6115-8B6A-4791-9775-A393273F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472B-340A-4EC3-961A-C0BCF725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7EB3-F4F1-4773-BBEE-35F22571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0297-80F9-42E4-8152-61B4B05B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2C8-6E4D-4818-B05C-E1B2C14C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EF09-EF98-4C97-99F5-525BD680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3C4-C31F-49E2-8779-21719A67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6E0A-D249-4F61-908B-A9023B3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8208-E324-423C-B6F5-6E47FDD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DE8B-A1F0-460A-9A0F-7D3A91CF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EF02-A0E0-4B7C-8E59-BB39806E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0AA1-88E2-4758-A3CC-BC718846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67B6-DBC0-4F43-A2C9-3F8B1D46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F979-0ECA-41B3-9424-4F7D7D5E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90D2-D1C1-4B91-A91B-49D4F2A5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89AA-4898-449A-8B06-6FCCF4D2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A69F-7394-49EC-ABB7-22A2F2D6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6D8-596A-4E40-9C46-988FF537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AA49-4070-4491-9D1C-6179B182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9271-F937-45A7-A3E0-4EA1057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C219-3050-46F5-B88C-F07107C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6DE6-F426-4351-8EDB-D56D6D1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2473-44A0-4B56-8E5B-ABB4419D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A4E2-BCE6-4B94-93ED-124150BF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DD7B-1CA0-4A99-8371-1B8C2B1E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BCD29-3BDD-48A4-AC2B-93B8B74E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D8B90-788E-480A-BFB0-4571BAB5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09137-D50A-4AC8-9387-9749C6CC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17F-B0D1-4AA1-AA53-A88FE956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4F16-789D-41DC-AEDC-2451351C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83CEB-6662-4791-B7E7-524E8B44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8A3D-1E03-4281-97A6-02C129C7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0592-8D2A-4902-AE57-CCE0EDD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DCB28-A43B-4E28-BE25-C9C0D070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5B25-6D47-4E7C-A313-4DDA42F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9E36-640A-4A5D-AD1A-B07A1AB3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C3D7C-CCBD-4396-93DB-EB6A9493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24A8-1027-4CD0-AA61-B6873697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D5FA-EB53-4BA3-A43D-0725113F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9F4-4D55-4AFD-9102-3D100C39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5F17-A86E-494C-8F75-5DBB0E19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BA08-5B65-44A5-9B51-FB7EC7B4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E19E-2ECA-4F64-A3ED-9120D312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6B0D8-0F8D-4EF7-98A3-5CC516EB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089B2-85A2-4737-9291-4BB409C2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DDB8-A336-4CE8-8A26-2D83B1F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18EAA-8B9E-4E72-A0AF-827C10A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DC48-7114-4C8F-A848-AB791F5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2160-1DFD-4435-8A7B-6BD46875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90A2-7665-4FE1-8E14-AFC72C66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425-B0D7-4CDE-B620-BBC990C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B749D-D107-4BBF-9C4E-AE784840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014C7-90CA-4A9F-8593-D36CE893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0855-35F3-44EF-B144-0AE241BC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D4913-8305-43C3-9C52-B36783B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7E10-2F7D-4C9F-892C-8474600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CB25A-80AA-4A05-9612-1C00FC0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2F0A5-DC30-4A83-9EDB-C93B08F9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F218-7DD8-4F7D-990E-E4E7780B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3864-89B7-4879-8103-ADCE9FD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9859-99AD-44DB-BB26-3CCDEC8C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8D0-FDF8-4B11-83A9-E42C3147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AC0F-132F-406B-A839-325C789A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06E32-E345-4200-A0CA-22B7856C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2543-F6DA-442C-A68A-B90DB00D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B759D-A8C3-4016-A21A-0DD9381F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47287-B824-4741-8EF6-60795F34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CF0CD-D1C8-4406-9E6F-D2510027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49EE-DCB7-43AA-906A-117BA67E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AC5A-96C7-4A91-9F75-47660EBA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BBA5-06F3-4FE1-BC61-EFD89D20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EFB00-07E7-469A-99F1-4E540EE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FDF-F679-47C1-92E9-38323AE9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38892-21E1-450C-AE79-9CD4988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831D6-005E-4A6B-894C-C1F00D3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F883-D22E-4C07-9373-C717BE31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199FA-9ABE-4D35-A544-4AD4DA22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504A4-2902-4A62-9E03-85490995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6DE37-7BFC-4B78-951B-029BCA94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C231C-461F-45E5-B893-C60AFCBD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AA30-F4D2-4ABE-B7C6-49771B60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B897-595D-4A0A-8C22-1A57177A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98C1C-0A90-4EE6-8F95-412C0805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014-98DE-4727-A4F1-4B8BB414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BD036-F438-4A18-AA21-10319527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E3CC-3CB4-4421-B09B-6A268D0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97BD-686C-4CC0-9313-4F3D310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1CD65-40CD-4C29-89E7-90DB7DB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0779C-829B-49CE-A508-F08EDA8B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B206-A46A-4A16-AAF7-6E6F98C9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3D7CA-DB57-413F-BF29-DB6F49A6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E0BB9-8A0C-45C0-A663-7F5C17DF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AD9AB-B1D9-4275-939B-42F6A1EB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82621-D1A7-41C3-AEA9-D95B6A3D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2364-3E47-4773-A069-3668BBEFF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4480-375C-4149-AEEB-32A41B88FB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6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9" name="Полилиния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Прямая соединительная линия 19" descr=""/>
            <p:cNvPicPr/>
            <p:nvPr/>
          </p:nvPicPr>
          <p:blipFill>
            <a:blip r:embed="rId6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25B2-0D39-43D2-AD62-4827FD8D702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7480-4916-4674-BA90-BB8C65816F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376C-0A43-48AD-9B58-16F7E8CAC2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24D3-202D-42C7-B337-4708A0993A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6F7C-0FF4-4E77-BAF6-91CF170CB4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DFA-D52B-48FB-9A2F-43C8E57BB1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86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Прямоугольный треугольник 15" descr=""/>
            <p:cNvPicPr/>
            <p:nvPr/>
          </p:nvPicPr>
          <p:blipFill>
            <a:blip r:embed="rId5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Прямая соединительная линия 16" descr=""/>
          <p:cNvPicPr/>
          <p:nvPr/>
        </p:nvPicPr>
        <p:blipFill>
          <a:blip r:embed="rId6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C67E-4467-4E39-BA60-28FF8905596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азание первой медицинской помощи при различных травмах и повреждениях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692000" y="3885840"/>
            <a:ext cx="6840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офилактика травм опорно-двигательного аппар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упражнения благотворно влияют на опорно-двигательную систему в целом и на отдельные группы мышц. Эффективная программа физической подготовки (бег, ходьба, аэробика, велоспорт, плавание, лыжи) способствует укреплению организма и профилактике трав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E:\Учебник ОБЖ 11 кл\ПМП при ранениях\26840CF4CF00515Eskoraja_1129[1].jpg"/>
          <p:cNvPicPr/>
          <p:nvPr/>
        </p:nvPicPr>
        <p:blipFill>
          <a:blip r:embed="rId1"/>
          <a:stretch/>
        </p:blipFill>
        <p:spPr>
          <a:xfrm>
            <a:off x="5068800" y="4429080"/>
            <a:ext cx="3718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1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вая медицинская помощь при черепно-мозговой травме и повреждении позвон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репно-мозговая трав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ее жизнеопасный вид травмы, в основе которой могут лежать контузия головного мозга либо разрушения его вещества. Повреждение мозга часто связано с травмами позвоночника. У людей, перенесших черепную или позвоночную травму, могут наступить значительные нарушения физического или невралгического характера, в том числе паралич, речевые нарушения, проблемы с памятью, а также психические расстройства. Многие пострадавшие остаются инвалидами на вс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пно-мозговые травмы по механизму разделяются на ушибы, сдавления и ранения, а по своим проявлениям и характеру изменений на сотрясения и ушибы головного мозга с повреждением или без повреждения костей, оболочек, вещества моз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43000" y="214200"/>
            <a:ext cx="86868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авма позвоночника, спи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дно из наиболее тяжелых повреждений, лишающих организм опоры, а при вовлечении в травматический процесс спинного мозга — функции внутренних органов и конеч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реждения спинного мозга и нервов могут вызвать паралич, потерю чувствительности или двигательной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ы позвоночника, спины подразделяются на ушибы и переломы с вовлечением или без вовлечения в травматический процесс спинного мозга. Травма может быть закрытой и открытой (ран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ервая медицинская помощ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обезболивающее средство; уложить больного на спину; закрыть раны асептическими повяз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ВМАХ ГОЛОВЫ ИЛИ ПОЗВОНОЧН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ый прямоугольник 4"/>
          <p:cNvSpPr/>
          <p:nvPr/>
        </p:nvSpPr>
        <p:spPr>
          <a:xfrm>
            <a:off x="214200" y="1428840"/>
            <a:ext cx="8786880" cy="121428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возможности держите голову и позвоночник пострадавшего в неподвижном состоянии, зафиксируйте руками голову пострадавшего с обеих сторон в том положении, в котором вы его обнаружи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кругленный прямоугольник 5"/>
          <p:cNvSpPr/>
          <p:nvPr/>
        </p:nvSpPr>
        <p:spPr>
          <a:xfrm>
            <a:off x="214200" y="2928960"/>
            <a:ext cx="8786880" cy="121428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ивайте проходимость дыхательных путей. В случае открывшейся рвоты переверните пострадавшего на бок для предотвращения закупорки дыхательных путей рвотными мас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Скругленный прямоугольник 6"/>
          <p:cNvSpPr/>
          <p:nvPr/>
        </p:nvSpPr>
        <p:spPr>
          <a:xfrm>
            <a:off x="214200" y="428616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дите за уровнем сознания и дыхания пострадавшего. Остановите наружное кровотеч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Скругленный прямоугольник 7"/>
          <p:cNvSpPr/>
          <p:nvPr/>
        </p:nvSpPr>
        <p:spPr>
          <a:xfrm>
            <a:off x="214200" y="535788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ивайте температуру тела пострадавш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вая медицинская помощь при травмах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авма груд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в первую очередь в разной степени выраженные нарушения функции дыхания и кровообращения, обусловленные расстройством дыхательных движений груди, уменьшением дыхательной емкости легких, кровопотерей и ограничением сократительной деятельности сердечной мышц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вмы груди делятся на ушибы, сдавления и ранения с повреждением или без повреждения остова груди и органов грудн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1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ЛОМЕ  РЕБЕ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кругленный прямоугольник 4"/>
          <p:cNvSpPr/>
          <p:nvPr/>
        </p:nvSpPr>
        <p:spPr>
          <a:xfrm>
            <a:off x="214200" y="171468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обезболивающее сред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Скругленный прямоугольник 5"/>
          <p:cNvSpPr/>
          <p:nvPr/>
        </p:nvSpPr>
        <p:spPr>
          <a:xfrm>
            <a:off x="214200" y="2857680"/>
            <a:ext cx="8786880" cy="121428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жить  тугую бинтовую повязку на грудную клетку, делая первые ходы бинта в состоянии выдоха. При отсутствии бинта можно использовать полотенце, кусок ткани или простын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кругленный прямоугольник 6"/>
          <p:cNvSpPr/>
          <p:nvPr/>
        </p:nvSpPr>
        <p:spPr>
          <a:xfrm>
            <a:off x="214200" y="435780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дать  пострадавшему  возвышенное положение в положении сидя (полулежа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ЛОМЕ  ГРУДИНЫ И ЗАКРЫТОМ ПНЕВМОТОРАКС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4"/>
          <p:cNvSpPr/>
          <p:nvPr/>
        </p:nvSpPr>
        <p:spPr>
          <a:xfrm>
            <a:off x="214200" y="1500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дать  пострадавшему  возвышенное положение с приподнятым изголовьем, освободить  место травмы от одежд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кругленный прямоугольник 5"/>
          <p:cNvSpPr/>
          <p:nvPr/>
        </p:nvSpPr>
        <p:spPr>
          <a:xfrm>
            <a:off x="214200" y="2643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обезболивающее сред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Скругленный прямоугольник 6"/>
          <p:cNvSpPr/>
          <p:nvPr/>
        </p:nvSpPr>
        <p:spPr>
          <a:xfrm>
            <a:off x="214200" y="407196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есть возможность, дать пострадавшему кислоро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Скругленный прямоугольник 7"/>
          <p:cNvSpPr/>
          <p:nvPr/>
        </p:nvSpPr>
        <p:spPr>
          <a:xfrm>
            <a:off x="214200" y="542916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очно вызвать скорую помощ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ЛОМЕ  ГРУДИНЫ И ОТКРЫТОМ ПНЕВМОТОРАКС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кругленный прямоугольник 4"/>
          <p:cNvSpPr/>
          <p:nvPr/>
        </p:nvSpPr>
        <p:spPr>
          <a:xfrm>
            <a:off x="214200" y="1500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дать  пострадавшему  возвышенное положение с приподнятым изголовьем, освободить  место травмы от одежд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кругленный прямоугольник 5"/>
          <p:cNvSpPr/>
          <p:nvPr/>
        </p:nvSpPr>
        <p:spPr>
          <a:xfrm>
            <a:off x="214200" y="2643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ботать края раны и прикрыть рану салфетками, наложить герметизирующую повяз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Скругленный прямоугольник 6"/>
          <p:cNvSpPr/>
          <p:nvPr/>
        </p:nvSpPr>
        <p:spPr>
          <a:xfrm>
            <a:off x="214200" y="385776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есть возможность, дать пострадавшему кислоро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Скругленный прямоугольник 7"/>
          <p:cNvSpPr/>
          <p:nvPr/>
        </p:nvSpPr>
        <p:spPr>
          <a:xfrm>
            <a:off x="214200" y="528624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очно вызвать скорую помощ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720" y="142560"/>
            <a:ext cx="89010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Первая медицинская помощь при травмах жив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13840" y="856800"/>
            <a:ext cx="8643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вма живо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ает от резкого механического воздействия на переднюю брюшную стенку, органы брюшной полости и забрюшинного пространства, приводит к выраженным нарушениям функции дыхания и кровообращения, а в ряде случаев, при разрывах внутренних органов, к внутренним кровотечениям, острому перитониту, ш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травмах живота пострадавшему нельзя употреблять никакие таблетки, воду, пи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кругленный прямоугольник 3"/>
          <p:cNvSpPr/>
          <p:nvPr/>
        </p:nvSpPr>
        <p:spPr>
          <a:xfrm>
            <a:off x="2428920" y="3214800"/>
            <a:ext cx="6500880" cy="642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шиб брюшной стен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кругленный прямоугольник 8"/>
          <p:cNvSpPr/>
          <p:nvPr/>
        </p:nvSpPr>
        <p:spPr>
          <a:xfrm>
            <a:off x="2428920" y="4000680"/>
            <a:ext cx="650088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ые повреждения живота, сопровождающиеся внутрибрюшным кровотечени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ый прямоугольник 9"/>
          <p:cNvSpPr/>
          <p:nvPr/>
        </p:nvSpPr>
        <p:spPr>
          <a:xfrm>
            <a:off x="2428920" y="4929120"/>
            <a:ext cx="650088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ые повреждения живота, сопровождающиеся разрывом того или иного полого орга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ый прямоугольник 10"/>
          <p:cNvSpPr/>
          <p:nvPr/>
        </p:nvSpPr>
        <p:spPr>
          <a:xfrm>
            <a:off x="2428920" y="5857920"/>
            <a:ext cx="650088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нения живота (открытые и закрытые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Выноска со стрелкой вправо 11"/>
          <p:cNvSpPr/>
          <p:nvPr/>
        </p:nvSpPr>
        <p:spPr>
          <a:xfrm>
            <a:off x="214200" y="3429000"/>
            <a:ext cx="2071800" cy="2571840"/>
          </a:xfrm>
          <a:prstGeom prst="rightArrowCallout">
            <a:avLst>
              <a:gd name="adj1" fmla="val 25002"/>
              <a:gd name="adj2" fmla="val 24999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вмы живо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1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РЕЖДЕНИИ ЖИВО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Скругленный прямоугольник 4"/>
          <p:cNvSpPr/>
          <p:nvPr/>
        </p:nvSpPr>
        <p:spPr>
          <a:xfrm>
            <a:off x="214200" y="1500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ожить пострадавшего на носил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Скругленный прямоугольник 5"/>
          <p:cNvSpPr/>
          <p:nvPr/>
        </p:nvSpPr>
        <p:spPr>
          <a:xfrm>
            <a:off x="214200" y="2643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внутрибрюшном кровотечении приложить к животу хол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Скругленный прямоугольник 6"/>
          <p:cNvSpPr/>
          <p:nvPr/>
        </p:nvSpPr>
        <p:spPr>
          <a:xfrm>
            <a:off x="285840" y="385776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очно доставить пострадавшего в медицинское учрежд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самое дорогое для челов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394920" y="2205000"/>
            <a:ext cx="820908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е дорогое, что есть 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а, – это жизнь. ВНИМАТЕЛЬНЫЙ ЧЕЛОВЕК, ПРИВЫКШИЙ ОБДУМЫВАТЬ СВОИ ПОСТУПКИ, РЕДКО ПОЛУЧАЕТ ТРАВМ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ЕНИИ ЖИВО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4"/>
          <p:cNvSpPr/>
          <p:nvPr/>
        </p:nvSpPr>
        <p:spPr>
          <a:xfrm>
            <a:off x="214200" y="1500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жить на ране стерильную повязку, укрепив ее полосками лейкопластыр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Скругленный прямоугольник 5"/>
          <p:cNvSpPr/>
          <p:nvPr/>
        </p:nvSpPr>
        <p:spPr>
          <a:xfrm>
            <a:off x="214200" y="2643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обнажились внутренние органы, нужно накрыть их чистой влажной тканью или стерильными салфетк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7"/>
          <p:cNvSpPr/>
          <p:nvPr/>
        </p:nvSpPr>
        <p:spPr>
          <a:xfrm>
            <a:off x="285840" y="385776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очно доставить пострадавшего в медицинское учрежд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ый прямоугольник 8"/>
          <p:cNvSpPr/>
          <p:nvPr/>
        </p:nvSpPr>
        <p:spPr>
          <a:xfrm>
            <a:off x="285840" y="514368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нспортировать пострадавшего осуществлять на носилках в положении леж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вая медицинская помощь при травмах в области т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0920" y="1428480"/>
            <a:ext cx="8929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Травмы тазовой области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комплекс самых разнообразных повреждений костей таза и прилегающих к нему мягких тканей и внутренних орган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равмы тазовой области подразделяются на ушибы, сдавливания и ранения. Пострадавший жалуется на боль, не может поднять прямую ногу и, сгибая ее в коленном суставе, волочит стопу. При бессознательном состоянии пострадавшего определить перелом костей таза можно по следующим признакам: смещению кверху какой-либо половины таза, деформации костей таза, укорочению бед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ЛОМЕ  КОСТЕЙ ТА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Скругленный прямоугольник 4"/>
          <p:cNvSpPr/>
          <p:nvPr/>
        </p:nvSpPr>
        <p:spPr>
          <a:xfrm>
            <a:off x="214200" y="1500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ожить  пострадавшего на спину, на твердый щит (доски, фанеру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Скругленный прямоугольник 5"/>
          <p:cNvSpPr/>
          <p:nvPr/>
        </p:nvSpPr>
        <p:spPr>
          <a:xfrm>
            <a:off x="214200" y="2643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колени положить скатанное одеяло или пальто так, чтобы нижние конечности были согнуты в колен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кругленный прямоугольник 6"/>
          <p:cNvSpPr/>
          <p:nvPr/>
        </p:nvSpPr>
        <p:spPr>
          <a:xfrm>
            <a:off x="214200" y="3786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обезболивающее сред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кругленный прямоугольник 7"/>
          <p:cNvSpPr/>
          <p:nvPr/>
        </p:nvSpPr>
        <p:spPr>
          <a:xfrm>
            <a:off x="214200" y="514368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очно вызвать скорую помощ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725400" y="0"/>
            <a:ext cx="8332920" cy="27129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E:\Учебник ОБЖ 11 кл\ПМП при ранениях\Perelom1[1].jpg"/>
          <p:cNvPicPr/>
          <p:nvPr/>
        </p:nvPicPr>
        <p:blipFill>
          <a:blip r:embed="rId2"/>
          <a:stretch/>
        </p:blipFill>
        <p:spPr>
          <a:xfrm>
            <a:off x="5429160" y="2500200"/>
            <a:ext cx="3119400" cy="2059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E:\Учебник ОБЖ 11 кл\ПМП\84158.jpg"/>
          <p:cNvPicPr/>
          <p:nvPr/>
        </p:nvPicPr>
        <p:blipFill>
          <a:blip r:embed="rId3"/>
          <a:stretch/>
        </p:blipFill>
        <p:spPr>
          <a:xfrm>
            <a:off x="928800" y="2500200"/>
            <a:ext cx="29289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Первая медицинская помощь при травмах опорно-двигательного аппара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равмы опорно-двигательного аппарата являются наиболее распространенными (от обычных синяков до тяжелых переломов и вывихов). Первая помощь при подобных травмах направлена на уменьшение боли и предотвращение дальнейших поврежден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х можно получить при различных обстоятельствах: падении, неловком или неожиданном движении либо при автомобильной авар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уществует четыре основных вида травм опорно-двигательной системы: переломы, вывихи, разрывы и растяжения связок, мышц и сухожилий, ушиб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Перелом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— это нарушение целостности кост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результате механического воздействия. Переломы бывают открытыми и закрыты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Вывих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— это смещение кости по отношению к ее нормальному положению в суставе. Вывихи обычно происходят при воздействии большой сил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1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10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зры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ое механическое воздействие на мягкие ткани с большой силой может вызвать разрывы связок, мышц, сосудов и нервов. Наиболее часто наблюдаются разрывы тканей на руках и н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стяж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ханическое воздействие на мягкие ткани не очень большой силы в виде продольной тяги. Наиболее распространенными являются растяжения мышц шеи, спины, бедра или гол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шиб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ытые повреждения тканей возникающие при ударе твердым тупым предметом или падении на твердую поверхность. При этом могут быть повреждены не только кожные покровы, но и глубоко расположенные органы грудной клетки и полости жив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3"/>
          <p:cNvSpPr/>
          <p:nvPr/>
        </p:nvSpPr>
        <p:spPr>
          <a:xfrm>
            <a:off x="14292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ШИБАХ, РАСТЯЖЕНИЯХ И РАЗРЫВАХ СВЯЗОК И МЫШ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4"/>
          <p:cNvSpPr/>
          <p:nvPr/>
        </p:nvSpPr>
        <p:spPr>
          <a:xfrm>
            <a:off x="142920" y="1357200"/>
            <a:ext cx="8786880" cy="64296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жить холод на поврежденное мес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5"/>
          <p:cNvSpPr/>
          <p:nvPr/>
        </p:nvSpPr>
        <p:spPr>
          <a:xfrm>
            <a:off x="142920" y="214308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жить  на поврежденное место тугую повязк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кругленный прямоугольник 6"/>
          <p:cNvSpPr/>
          <p:nvPr/>
        </p:nvSpPr>
        <p:spPr>
          <a:xfrm>
            <a:off x="142920" y="335772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обезболивающее средств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кругленный прямоугольник 7"/>
          <p:cNvSpPr/>
          <p:nvPr/>
        </p:nvSpPr>
        <p:spPr>
          <a:xfrm>
            <a:off x="142920" y="457200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ть поврежденной конечности покой и придать ей возвышенное полож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кругленный прямоугольник 8"/>
          <p:cNvSpPr/>
          <p:nvPr/>
        </p:nvSpPr>
        <p:spPr>
          <a:xfrm>
            <a:off x="142920" y="571500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авить пострадавшего в медицинское учрежд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Скругленный прямоугольник 3"/>
          <p:cNvSpPr/>
          <p:nvPr/>
        </p:nvSpPr>
        <p:spPr>
          <a:xfrm>
            <a:off x="14292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ИХА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кругленный прямоугольник 4"/>
          <p:cNvSpPr/>
          <p:nvPr/>
        </p:nvSpPr>
        <p:spPr>
          <a:xfrm>
            <a:off x="214200" y="1500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ть поврежденной конечности пок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кругленный прямоугольник 5"/>
          <p:cNvSpPr/>
          <p:nvPr/>
        </p:nvSpPr>
        <p:spPr>
          <a:xfrm>
            <a:off x="214200" y="26431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жить  на поврежденное место тугую повязк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кругленный прямоугольник 6"/>
          <p:cNvSpPr/>
          <p:nvPr/>
        </p:nvSpPr>
        <p:spPr>
          <a:xfrm>
            <a:off x="214200" y="400068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обезболивающее средств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кругленный прямоугольник 7"/>
          <p:cNvSpPr/>
          <p:nvPr/>
        </p:nvSpPr>
        <p:spPr>
          <a:xfrm>
            <a:off x="214200" y="528624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авить пострадавшего в медицинское учрежд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РЫТЫХ ПЕРЕЛОМА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кругленный прямоугольник 4"/>
          <p:cNvSpPr/>
          <p:nvPr/>
        </p:nvSpPr>
        <p:spPr>
          <a:xfrm>
            <a:off x="214200" y="135720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новить кровотечение и обработать края раны антисептик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кругленный прямоугольник 5"/>
          <p:cNvSpPr/>
          <p:nvPr/>
        </p:nvSpPr>
        <p:spPr>
          <a:xfrm>
            <a:off x="214200" y="242892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ану в области перелома наложить стерильную повязк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кругленный прямоугольник 6"/>
          <p:cNvSpPr/>
          <p:nvPr/>
        </p:nvSpPr>
        <p:spPr>
          <a:xfrm>
            <a:off x="214200" y="350028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обезболивающее средств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ый прямоугольник 7"/>
          <p:cNvSpPr/>
          <p:nvPr/>
        </p:nvSpPr>
        <p:spPr>
          <a:xfrm>
            <a:off x="214200" y="464328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 иммобилизацию (обездвиживание) конечности в том положении, в котором она оказалась в момент поврежд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Скругленный прямоугольник 8"/>
          <p:cNvSpPr/>
          <p:nvPr/>
        </p:nvSpPr>
        <p:spPr>
          <a:xfrm>
            <a:off x="214200" y="571500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авить пострадавшего в медицинское учрежд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Скругленный прямоугольник 3"/>
          <p:cNvSpPr/>
          <p:nvPr/>
        </p:nvSpPr>
        <p:spPr>
          <a:xfrm>
            <a:off x="214200" y="28584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 ПЕРВОЙ  МЕДИЦИНСКОЙ ПОМОЩИ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ЫТЫХ ПЕРЕЛОМА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кругленный прямоугольник 4"/>
          <p:cNvSpPr/>
          <p:nvPr/>
        </p:nvSpPr>
        <p:spPr>
          <a:xfrm>
            <a:off x="214200" y="550080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авить пострадавшего в медицинское учрежд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кругленный прямоугольник 5"/>
          <p:cNvSpPr/>
          <p:nvPr/>
        </p:nvSpPr>
        <p:spPr>
          <a:xfrm>
            <a:off x="214200" y="1714680"/>
            <a:ext cx="8786880" cy="92844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 иммобилизацию (обездвижить место перелома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кругленный прямоугольник 6"/>
          <p:cNvSpPr/>
          <p:nvPr/>
        </p:nvSpPr>
        <p:spPr>
          <a:xfrm>
            <a:off x="214200" y="3500280"/>
            <a:ext cx="8786880" cy="928800"/>
          </a:xfrm>
          <a:prstGeom prst="roundRect">
            <a:avLst>
              <a:gd name="adj" fmla="val 16667"/>
            </a:avLst>
          </a:prstGeom>
          <a:solidFill>
            <a:srgbClr val="fb798c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обезболивающее средство и положить на место травмы хол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8:14:33Z</dcterms:created>
  <dc:creator>Nik</dc:creator>
  <dc:description/>
  <dc:language>en-US</dc:language>
  <cp:lastModifiedBy>user</cp:lastModifiedBy>
  <dcterms:modified xsi:type="dcterms:W3CDTF">2015-01-23T18:37:40Z</dcterms:modified>
  <cp:revision>48</cp:revision>
  <dc:subject/>
  <dc:title>2.3. Первая медицинская помощь при травмах</dc:title>
</cp:coreProperties>
</file>