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D4D3-D70B-441B-A0A8-A7740F45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C37E-11CD-4D45-AE45-A46BC7DF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8E47-FD9A-4D13-AD2C-9C10174C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94E-1114-48D0-82FF-DBCA15F0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E416-8B67-4D9F-8284-83DB9339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BF33-D3FB-49E5-A08B-DA6EB313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511D-306A-4448-9ADD-0B1853F1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3D0D-BBC5-4A60-B058-B6CBA105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23E3-7155-4337-9673-E4CE6CE5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A2DE-C418-4E4D-A5BF-93430471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867F-DB1A-4D2F-A601-723D8201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E3E-EFE6-4E3C-AEE3-197AE55D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46A9-092C-483F-943B-4EE0C79906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Book Antiqua"/>
              </a:rPr>
              <a:t>Океани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0920" y="1517760"/>
            <a:ext cx="50421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 Antiqua"/>
              </a:rPr>
              <a:t>Древесные кенгур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08040" y="1981080"/>
            <a:ext cx="216540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92840" y="1981080"/>
            <a:ext cx="1320840" cy="1981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280" y="1916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Древесные кенгур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3647880" cy="5472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400720" y="1268280"/>
            <a:ext cx="29433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 Antiqua"/>
              </a:rPr>
              <a:t>Папуас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07880" y="1052640"/>
            <a:ext cx="3605400" cy="525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71840" y="1125360"/>
            <a:ext cx="43578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139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42920" y="236520"/>
            <a:ext cx="7129440" cy="66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 Antiqua"/>
              </a:rPr>
              <a:t>Океания 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крупное скопление островов в Тихом океан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569080" cy="57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 Antiqua"/>
              </a:rPr>
              <a:t>Гавай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 Antiqua"/>
              </a:rPr>
              <a:t>Атол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81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692280"/>
            <a:ext cx="7772400" cy="54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Атолл - коралловый остров в Океан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Лагуна – водоем, отделенный от моря атолло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 Antiqua"/>
              </a:rPr>
              <a:t>Новая Гвине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1417680"/>
            <a:ext cx="813600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6000" y="692280"/>
            <a:ext cx="5019480" cy="5392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376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Райская   птиц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Венценосные голуб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9200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76360" y="1214280"/>
            <a:ext cx="61200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09-11-29T10:40:10Z</dcterms:modified>
  <cp:revision>7</cp:revision>
  <dc:subject/>
  <dc:title>PowerPoint Presentation</dc:title>
</cp:coreProperties>
</file>