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B2-5DFC-4198-86A7-B282EC20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214-23B3-430D-BF83-C49B45B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5CB-2F9C-4840-B93A-22ED703F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0B8-AD46-4148-939D-2AF27AA0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0B4-5861-4BC2-86B3-2E488E6C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9B3-B117-4FFD-9C98-262872EF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E223-90C0-412F-955E-645850B8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4894-4642-4B85-B2F8-4CB99ED0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531D-DF07-4E7A-8B26-6AC1AFF2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9761-8128-468F-B952-4F7519D3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FA4A-102C-4DDC-8EBB-B7ED9864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1D-5AC9-4AA3-9A04-362D11C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B6D8-15CE-4402-B45C-ED754C4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D7B9-37AC-4787-92A5-749B91E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50FD-8EA4-445F-AA0A-295B297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3258-D270-42EA-BCE3-6EBAA354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9F2D-31A2-462A-ADE7-CEB6EA45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27A-0F41-4E7F-B6CD-0FA2DE2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2DD-356A-4338-8DEA-1096472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144-681F-4FF3-ABAC-3A4021E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0A6-BFE6-4EE2-A4B7-F7E8589C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F39-A04F-4B7B-B74B-C69658A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F11-E2C7-48DD-8CEF-8CCF9A35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CA0-92D7-4D44-B926-1035D1E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4BF-4688-4845-9896-6A3F4370D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064-75C8-4C15-A4F9-CED5D51C46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6" descr="снежинка.bmp"/>
          <p:cNvPicPr/>
          <p:nvPr/>
        </p:nvPicPr>
        <p:blipFill>
          <a:blip r:embed="rId1"/>
          <a:stretch/>
        </p:blipFill>
        <p:spPr>
          <a:xfrm>
            <a:off x="237960" y="549360"/>
            <a:ext cx="1273320" cy="217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Бытовые холодильники и физ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Cambria"/>
              </a:rPr>
              <a:t>Применение законов физики при изучении специальности «Монтаж и техническая эксплуатация холодильно-компрессорных машин и установок (по отраслям)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втор Чулков А., Евдокимов Н. -  студенты колледж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оводитель проекта Евдокимов П.Е., преподаватель физ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Снежинка 1.bmp"/>
          <p:cNvPicPr/>
          <p:nvPr/>
        </p:nvPicPr>
        <p:blipFill>
          <a:blip r:embed="rId2"/>
          <a:stretch/>
        </p:blipFill>
        <p:spPr>
          <a:xfrm>
            <a:off x="7010280" y="1219320"/>
            <a:ext cx="1662120" cy="17715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нежинка 1.bmp"/>
          <p:cNvPicPr/>
          <p:nvPr/>
        </p:nvPicPr>
        <p:blipFill>
          <a:blip r:embed="rId3"/>
          <a:stretch/>
        </p:blipFill>
        <p:spPr>
          <a:xfrm>
            <a:off x="7643880" y="4638600"/>
            <a:ext cx="1341360" cy="7812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8" descr="снежинка.bmp"/>
          <p:cNvPicPr/>
          <p:nvPr/>
        </p:nvPicPr>
        <p:blipFill>
          <a:blip r:embed="rId4"/>
          <a:stretch/>
        </p:blipFill>
        <p:spPr>
          <a:xfrm>
            <a:off x="5711760" y="1822320"/>
            <a:ext cx="1006560" cy="9273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9" descr="Снежинка 1.bmp"/>
          <p:cNvPicPr/>
          <p:nvPr/>
        </p:nvPicPr>
        <p:blipFill>
          <a:blip r:embed="rId5"/>
          <a:stretch/>
        </p:blipFill>
        <p:spPr>
          <a:xfrm>
            <a:off x="1670040" y="1139760"/>
            <a:ext cx="10429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7. конденсаторы – электротехнические устройства,  в данной схеме служат для сглаживания пульсаций напряжения и как искрогасящие, в цепи питания электродвигателя компрессор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img"/>
          <p:cNvPicPr/>
          <p:nvPr/>
        </p:nvPicPr>
        <p:blipFill>
          <a:blip r:embed="rId1"/>
          <a:stretch/>
        </p:blipFill>
        <p:spPr>
          <a:xfrm>
            <a:off x="533520" y="2590920"/>
            <a:ext cx="7619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8. компрессор – сердце холодильника – обеспечивает необходимое давление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системе охлажд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34324243243241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344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ompressor001"/>
          <p:cNvPicPr/>
          <p:nvPr/>
        </p:nvPicPr>
        <p:blipFill>
          <a:blip r:embed="rId2"/>
          <a:stretch/>
        </p:blipFill>
        <p:spPr>
          <a:xfrm>
            <a:off x="3956040" y="1828800"/>
            <a:ext cx="4959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9. термометр – прибор контролирующий температуру внутри самого холодильного шкафа в пассивном режим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02168big"/>
          <p:cNvPicPr/>
          <p:nvPr/>
        </p:nvPicPr>
        <p:blipFill>
          <a:blip r:embed="rId1"/>
          <a:stretch/>
        </p:blipFill>
        <p:spPr>
          <a:xfrm>
            <a:off x="228600" y="2209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10_6520_28_00_mid"/>
          <p:cNvPicPr/>
          <p:nvPr/>
        </p:nvPicPr>
        <p:blipFill>
          <a:blip r:embed="rId2"/>
          <a:stretch/>
        </p:blipFill>
        <p:spPr>
          <a:xfrm>
            <a:off x="3181320" y="3276720"/>
            <a:ext cx="5962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0.уплотнители позволяют сделать холодильный шкаф герметичным и резко снизить потери холод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10_228651236"/>
          <p:cNvPicPr/>
          <p:nvPr/>
        </p:nvPicPr>
        <p:blipFill>
          <a:blip r:embed="rId1"/>
          <a:stretch/>
        </p:blipFill>
        <p:spPr>
          <a:xfrm>
            <a:off x="304920" y="1676520"/>
            <a:ext cx="3533760" cy="3333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uplotnit_p1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319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uplotnit_lg"/>
          <p:cNvPicPr/>
          <p:nvPr/>
        </p:nvPicPr>
        <p:blipFill>
          <a:blip r:embed="rId3"/>
          <a:stretch/>
        </p:blipFill>
        <p:spPr>
          <a:xfrm>
            <a:off x="3352680" y="4532400"/>
            <a:ext cx="2895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726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1.крыльчатка вентилятора создающего необходимую циркуляцию охлаждённого воздуха внутри  холодильного шкафа.   Создавая равномерное распределение охлаждённого воздуха по всему внутреннему объёму шкаф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7701036724"/>
          <p:cNvPicPr/>
          <p:nvPr/>
        </p:nvPicPr>
        <p:blipFill>
          <a:blip r:embed="rId1"/>
          <a:stretch/>
        </p:blipFill>
        <p:spPr>
          <a:xfrm>
            <a:off x="304920" y="24382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149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2.испаритель  служит для теплообмена, т.е. именно испаритель охлаждает внутреннее пространство холодильного шкаф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4" descr="ref2"/>
          <p:cNvPicPr/>
          <p:nvPr/>
        </p:nvPicPr>
        <p:blipFill>
          <a:blip r:embed="rId1"/>
          <a:stretch/>
        </p:blipFill>
        <p:spPr>
          <a:xfrm>
            <a:off x="1600200" y="2209680"/>
            <a:ext cx="6200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3.лампа – простая лампа накаливания освещает внутреннее пространство холодильника при открывании двер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311471907"/>
          <p:cNvPicPr/>
          <p:nvPr/>
        </p:nvPicPr>
        <p:blipFill>
          <a:blip r:embed="rId1"/>
          <a:stretch/>
        </p:blipFill>
        <p:spPr>
          <a:xfrm>
            <a:off x="304920" y="1752480"/>
            <a:ext cx="2381040" cy="4848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ampImport_lonrn"/>
          <p:cNvPicPr/>
          <p:nvPr/>
        </p:nvPicPr>
        <p:blipFill>
          <a:blip r:embed="rId2"/>
          <a:stretch/>
        </p:blipFill>
        <p:spPr>
          <a:xfrm>
            <a:off x="4572000" y="2255760"/>
            <a:ext cx="36939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6490_001"/>
          <p:cNvPicPr/>
          <p:nvPr/>
        </p:nvPicPr>
        <p:blipFill>
          <a:blip r:embed="rId1"/>
          <a:stretch/>
        </p:blipFill>
        <p:spPr>
          <a:xfrm>
            <a:off x="1066680" y="380880"/>
            <a:ext cx="6782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иведённая схема позволит более чётко представить процессы, происходящие в холодильник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4" descr="Untitled-1_clip_image003"/>
          <p:cNvPicPr/>
          <p:nvPr/>
        </p:nvPicPr>
        <p:blipFill>
          <a:blip r:embed="rId1"/>
          <a:stretch/>
        </p:blipFill>
        <p:spPr>
          <a:xfrm>
            <a:off x="609480" y="1828800"/>
            <a:ext cx="71629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27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3300"/>
                </a:solidFill>
                <a:latin typeface="Arial"/>
              </a:rPr>
              <a:t>Компрессор</a:t>
            </a:r>
            <a:r>
              <a:rPr b="1" lang="ru-RU" sz="23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 какие же физические законы и процессы применимы в данном устройстве:</a:t>
            </a:r>
            <a:br>
              <a:rPr sz="2300"/>
            </a:b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 Вынужденные колебания поршня – тема «Механические колебания»</a:t>
            </a:r>
            <a:br>
              <a:rPr sz="2300"/>
            </a:b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Поступательное и вращательное движение, равномерное о равноускоренное движение – поршень, коленчатый вал, шатун.</a:t>
            </a:r>
            <a:br>
              <a:rPr sz="2300"/>
            </a:b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Сжатие и расширение жидкости, парообразование и конденсация , агрегатное состояние вещества, давление газа и жидкости вот сколько тем из изучаемого предмета используется только в одном компрессоре. Кроме  того здесь необходимо учитывать такие понятия, я как сила трения, возникающая в подшипниках электродвигателя и самого компрессора, трение поршня о стенки цилиндра, понятие прочности материала, линейного расширения, текучесть жидкости т.к. хладагент должен находится в замкнутой герметичной системе, а он обладает высокой текучестью.</a:t>
            </a:r>
            <a:br>
              <a:rPr sz="2300"/>
            </a:b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Обозначим темы из курса </a:t>
            </a:r>
            <a:r>
              <a:rPr b="1" lang="ru-RU" sz="2300" spc="-1" strike="noStrike">
                <a:solidFill>
                  <a:srgbClr val="ccecff"/>
                </a:solidFill>
                <a:latin typeface="Arial"/>
              </a:rPr>
              <a:t>физика,</a:t>
            </a: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 которые применимы в данном устройстве:</a:t>
            </a:r>
            <a:endParaRPr b="0" lang="en-US" sz="2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LG_GR-409GLQA"/>
          <p:cNvPicPr/>
          <p:nvPr/>
        </p:nvPicPr>
        <p:blipFill>
          <a:blip r:embed="rId1"/>
          <a:stretch/>
        </p:blipFill>
        <p:spPr>
          <a:xfrm>
            <a:off x="152280" y="685800"/>
            <a:ext cx="4267440" cy="41450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4648320" y="0"/>
            <a:ext cx="4495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бытовой холодильник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бщего между бытовым электроприбором (как официально его называют) и самым интересным предметом, изучаемым в колледже </a:t>
            </a: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ФИЗИ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Давайте рассмотрим эту связь. Прежде всего для начала вспомним для чего предназначен этот красивый белый шкаф. Главная задача, которую он должен выполнить  -  это сохранение в пригодном для употребления виде продуктов питания. Добиться выполнения поставленной задачи поможет  холод, т.е. необходимо в относительно небольшом объёме в любое время года иметь низкую, а иногда и довольно низкую температ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этого достичь  ? Вот тут и приходят на помощь знания законов физики и физических процессов. Посмотрим как устроен бытовой холоди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Движение тел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Кинематика, Относительность движения и поко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Траектория движени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.  Поступательное и вращательное движения тел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5.  Движение точк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6.  Равномерное и прямолинейное  движение и его скорость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7.  Неравномерное прямолинейное движение и его скорость 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8.  Ускорение при прямолинейном движен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9.  Криволинейное движени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0. Скорость криволинейного движе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2666880" y="685800"/>
            <a:ext cx="3886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.КИНЕМАТИК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597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Закон инерц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Силы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Уравновешивающиеся силы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.  Точка приложения силы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5.  Равнодействующая сил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6.  Связь между силой и ускорением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7.  Все три закона Ньютон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8.  Закон сохранения импульс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9.  Деформация тела , виды деформац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0.Силы тре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3429000" y="6094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I.ДИНАМИК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91120" y="7617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СТАТИК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Разложение сил на составляющие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Пара сил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Центр тяжест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.  Условия равновесия те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4" descr="19af70ce91080d815be80ba2d0e1078c"/>
          <p:cNvPicPr/>
          <p:nvPr/>
        </p:nvPicPr>
        <p:blipFill>
          <a:blip r:embed="rId1"/>
          <a:stretch/>
        </p:blipFill>
        <p:spPr>
          <a:xfrm>
            <a:off x="228600" y="685800"/>
            <a:ext cx="381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Работа и энерги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Работа силы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Потенциальная энерги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Кинетическая энерги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.  Закон сохранения энерг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5. Мощность. Расчёт мощности механизмов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6.  Коэффициент полезного действия механизмов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КРИВОЛИНЕЙНОЕ  ДВИЖЕНИ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Ускорение при криволинейном движен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Силы при равномерном движении по окружност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Угловая скорость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ГИДРОСТАТИК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 Силы давления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Закон Паскаля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АЭРОСТАТТИК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Механические свойства газов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Разрежающие насос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VIII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ГИДРОДИНАМИКА И АЭРОДИНАМИК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Давление в движущейся жидкост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Течение жидкости по трубам. Трение жидкост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 Закон Бернулли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X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ЕПЛОВОЕ РАСШИРЕНИЕ ТВЁРДЫХ И ЖИДКИХ ТЕЛ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Формула линейного расширения тел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Формула объёмного расширения тел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СВОЙСТВА ГАЗОВ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Изотермические процесс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XI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УПРУГОСТЬ И ПРОЧНОСТЬ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 Упругие и пластичные деформации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 Закон Г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от только часть тех явлений и физических законов, о  которых может идти речь  при рассмотрении работы только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дного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из составляющих холодильную систему устройств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ли рассматривать работу электродвигателя то обнаружим следующие законы и явления, без которых невозможно ни сконструировать , ни эксплуатировать электрооборудование. Расчёт предохранителей напрямую связан с законом Ома. Наладка и ремонт оборудования – закон Кирхгофа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бота электромагнитного реле – явление самоиндукции, магнитные свойства вещества (металлический якорь), электрическое активное сопротивление, индуктивное сопротивление катушки. Понятие о разности потенциалов и напряжении, ЭДС и силе тока. Электрический конденсатор – способность накопления и разделения зарядов. Понятие о диэлектриках  и их свойствах. Диэлектрики применяются как изоляторы для изготовления проводов, используемых в конструкции холодильника. Поэтому можно смело утверждать, что без знания  ФИЗИКИ невозможно осваивать выбранную специальность. Физические явления и процессы лежат в основе любого явления, происходящего в нашей жизн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нной презентации подробно рассмотрен бытовой холоди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устройство, монтаж, эксплуатацию и ремонт мы изучаем, постигая свою специальность «Монтаж и техническая эксплуатация холодильно-компрессорных машин и установок (по отраслям)», но это только азы и здесь нужна физика. А вот дальш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ва, 2013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f_4906acbfd8f71"/>
          <p:cNvPicPr/>
          <p:nvPr/>
        </p:nvPicPr>
        <p:blipFill>
          <a:blip r:embed="rId1"/>
          <a:stretch/>
        </p:blipFill>
        <p:spPr>
          <a:xfrm>
            <a:off x="2057400" y="304920"/>
            <a:ext cx="4896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43434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металлический шкаф внутри которого смонтировано оборудование, обеспечивающее согласованную работу всего комплекс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holodilynik"/>
          <p:cNvPicPr/>
          <p:nvPr/>
        </p:nvPicPr>
        <p:blipFill>
          <a:blip r:embed="rId1"/>
          <a:stretch/>
        </p:blipFill>
        <p:spPr>
          <a:xfrm>
            <a:off x="0" y="0"/>
            <a:ext cx="6934320" cy="42861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124080" y="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й  холодильник состоит из следующих основных ча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81934"/>
          <p:cNvPicPr/>
          <p:nvPr/>
        </p:nvPicPr>
        <p:blipFill>
          <a:blip r:embed="rId1"/>
          <a:stretch/>
        </p:blipFill>
        <p:spPr>
          <a:xfrm>
            <a:off x="0" y="190440"/>
            <a:ext cx="5281560" cy="59054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2880" y="-36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орозильная камера, в которой поддерживается более низкая температу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в холодильной камере. Имеет небольшие размеры и предназначена для глубокой заморозки продукт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343400" cy="612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холодильная камера, предназначенная для хранения продуктов,при  относительно невысокой степени заморозки 4-8°С. Имеет довольно большой объём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b0519090059__Liebherr-SBSes-7263-xl1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37335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4. предохранители, как и в любом электротехническом изделии  служат для обеспечения безопасной работы схемы электропитания при превышении допустимого напряжения питающей сет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SITOR_img_0"/>
          <p:cNvPicPr/>
          <p:nvPr/>
        </p:nvPicPr>
        <p:blipFill>
          <a:blip r:embed="rId1"/>
          <a:stretch/>
        </p:blipFill>
        <p:spPr>
          <a:xfrm>
            <a:off x="5181480" y="228600"/>
            <a:ext cx="3535560" cy="257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fuser_25"/>
          <p:cNvPicPr/>
          <p:nvPr/>
        </p:nvPicPr>
        <p:blipFill>
          <a:blip r:embed="rId2"/>
          <a:stretch/>
        </p:blipFill>
        <p:spPr>
          <a:xfrm>
            <a:off x="304920" y="3049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5. термостаты в автоматическом режиме обеспечивают поддержание температуры в заданном диапазон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4" descr="TER-6"/>
          <p:cNvPicPr/>
          <p:nvPr/>
        </p:nvPicPr>
        <p:blipFill>
          <a:blip r:embed="rId1"/>
          <a:stretch/>
        </p:blipFill>
        <p:spPr>
          <a:xfrm>
            <a:off x="0" y="1523880"/>
            <a:ext cx="4432320" cy="4915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17359251"/>
          <p:cNvPicPr/>
          <p:nvPr/>
        </p:nvPicPr>
        <p:blipFill>
          <a:blip r:embed="rId2"/>
          <a:stretch/>
        </p:blipFill>
        <p:spPr>
          <a:xfrm>
            <a:off x="4952880" y="1905120"/>
            <a:ext cx="3971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6. реле является исполнительным устройством, обеспечивающим включение и выключение электродвигателя компрессора по команде , идущей от задающего устройства (термостат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5"/>
          <p:cNvPicPr/>
          <p:nvPr/>
        </p:nvPicPr>
        <p:blipFill>
          <a:blip r:embed="rId1"/>
          <a:stretch/>
        </p:blipFill>
        <p:spPr>
          <a:xfrm>
            <a:off x="457200" y="170172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freeze1"/>
          <p:cNvPicPr/>
          <p:nvPr/>
        </p:nvPicPr>
        <p:blipFill>
          <a:blip r:embed="rId2"/>
          <a:stretch/>
        </p:blipFill>
        <p:spPr>
          <a:xfrm>
            <a:off x="0" y="3581280"/>
            <a:ext cx="655308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0003"/>
          <p:cNvPicPr/>
          <p:nvPr/>
        </p:nvPicPr>
        <p:blipFill>
          <a:blip r:embed="rId3"/>
          <a:stretch/>
        </p:blipFill>
        <p:spPr>
          <a:xfrm>
            <a:off x="4952880" y="1676520"/>
            <a:ext cx="392436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19T09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