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19.jpeg" ContentType="image/jpeg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448-618A-461B-A3FF-0E155194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21E-6656-43B9-8506-694682DE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2A4-CC31-49CB-8EE9-602D4C49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1B4-CB10-47D7-A00A-5908B352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5D4C-A13B-42D4-8D65-CFF49204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B2A2-096D-4E85-9849-1A7DEC9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9E47-D80D-472B-B77F-E9AF025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737F-0194-4984-BE72-EDE83741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5169-3ABA-49E5-8A4C-95931FDC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76D-CA1B-4DD2-8D08-53DB1ADF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E02-A231-46A1-BD1B-F113CCB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C13-8D4F-471B-B64B-30C7D4B6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0BE-38EC-4D0C-9550-ADB30E8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128-4AB1-4898-8F22-D3F9860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B410-1D93-41F2-A461-938D470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1F6A-22C6-4169-88CE-1A475A76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8F2-BECE-4D22-81DF-238628B0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D2A-F49E-4385-B9E2-782C2AE7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528-073A-4168-8402-2D0706A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0B9-2BEC-4CF2-8667-D856914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B5C-00C5-4ABC-9608-DBE268D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4B2-DCC1-4FAB-B1D2-148CFC7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B52-1FE1-47A7-88D0-2766D16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04F-E553-49B8-9CC6-2FDC80CD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2FD-F1D4-4A8D-A83B-CB47FD105D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34A-6A0E-4CA4-9BFD-70230E79B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32000" y="333360"/>
            <a:ext cx="6696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р глазами астронома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3280" y="2133720"/>
            <a:ext cx="58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ленная. Солнце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84360" y="4005360"/>
            <a:ext cx="2806560" cy="21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ёзд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9528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45164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70836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340000" y="299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10108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493236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78850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6408720" cy="3780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40464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уществует несколько гипотез о том, как родилась Солнечная система. Одни учёные считают, что это произошло в результате космической катастрофы, когда с Солнцем столкнулась комета, и тогда из раскалённого солнечного вещества образовались сгустки, которые постепенно сформировались в шары и стали плане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1280" y="3014640"/>
            <a:ext cx="2232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11280" y="404640"/>
            <a:ext cx="4228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Голубой плато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Алый клуб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По платку катаетс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Людям улыбает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565360"/>
            <a:ext cx="4105080" cy="3527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2076480" cy="180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35640" y="3716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Солнце имеет форму ша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43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Солнце - небесное т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5373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Солнце даёт нам тепло и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549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Пословицы, поговор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268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олнце встаёт, так и день настаё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9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олнце не померкнет, народ не слом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637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олнце светит, солнце сияет – вся природа воскрес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284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олнце, как родная матушка, никогда не обид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2602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лните пропуски в перфокарт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160" y="1125720"/>
            <a:ext cx="929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олнце – ближайшая к Земле ______________.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огромное __________________  космическое тело.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олнце имеет форму ____________________.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иаметр Солнца в _____________ раз больше диаметра Земли.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асса Солнца в _______________ тысяч  раз больше массы Земли.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асстояние от Земли до Солнца - __________________  тысяч кило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емпература на поверхности Солнца – _____________________ градусов ,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в его   центре _______________________ градусов.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звез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65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раскалё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ш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149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551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429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6 тыс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544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5-20 милл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0.01618 L 0.30312 -0.4252 E">
                                      <p:cBhvr>
                                        <p:cTn id="21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01596 L 0.09844 -0.47746 E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0751E-006 L 0.20069 -0.51954 E">
                                      <p:cBhvr>
                                        <p:cTn id="23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65896E-006 L -0.13385 -0.32023 E">
                                      <p:cBhvr>
                                        <p:cTn id="24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185E-006 L -0.11423 -0.39376 E">
                                      <p:cBhvr>
                                        <p:cTn id="25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19653E-006 L 0.09844 -0.44601 E">
                                      <p:cBhvr>
                                        <p:cTn id="26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90751E-006 L -0.07466 -0.22589 E">
                                      <p:cBhvr>
                                        <p:cTn id="27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618 L -0.42135 -0.35167 E">
                                      <p:cBhvr>
                                        <p:cTn id="28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7037640" cy="5278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736560" cy="79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5084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олнце – раскалённая зв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Диаметр Солнца в 109 раз больше диаметр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Масса Солнца в 330 тысяч раз больше массы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260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Что такое астроном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765000"/>
            <a:ext cx="799308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Астрономия это наука о звёздах, космических телах, 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628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Что такое вселенна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205000"/>
            <a:ext cx="842508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Вселенная – это необъятное пространство со звёздами, планетами и другими небесными те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1417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Что такое солнечная систе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3716280"/>
            <a:ext cx="853272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Солнечная система – это солнце и движущиеся вокруг  него небесны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ланеты солнечной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084640"/>
            <a:ext cx="835164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Меркурий, Венера, Земля, Марс, Юпитер, Сатурн, Уран, Нептун, Плут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6021360"/>
            <a:ext cx="28080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Всего 9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6920" y="765000"/>
            <a:ext cx="597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Что такое Вселен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Что такое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Что такое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32000" y="981000"/>
            <a:ext cx="49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Над презентацией работ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ОУ Лесогорская СО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Бухвалова Г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956720" y="620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62728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15636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740720" y="2924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211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333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Ребята, сегодня я предлагаю вам посмотреть на мир глазами астрономов. Но сначала мы должны выяснить, кто такие астрономы и что такое астрономия. Готова выслушать ваши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62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Астрономия - наука о космических телах, образуемых ими системах и о Вселенной в целом – такое пояснение даёт в своём «Толковом словаре» С.И.Оже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Астроном – специалист по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42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Мы с вами выяснили, что такое астрономия и кого называют астрономами. Астрономия – самая древняя из наук. Первых астрономов называли звездочё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47628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выглядят современные телеско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image"/>
          <p:cNvPicPr/>
          <p:nvPr/>
        </p:nvPicPr>
        <p:blipFill>
          <a:blip r:embed="rId1"/>
          <a:stretch/>
        </p:blipFill>
        <p:spPr>
          <a:xfrm>
            <a:off x="5762520" y="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image"/>
          <p:cNvPicPr/>
          <p:nvPr/>
        </p:nvPicPr>
        <p:blipFill>
          <a:blip r:embed="rId2"/>
          <a:stretch/>
        </p:blipFill>
        <p:spPr>
          <a:xfrm>
            <a:off x="0" y="347652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image"/>
          <p:cNvPicPr/>
          <p:nvPr/>
        </p:nvPicPr>
        <p:blipFill>
          <a:blip r:embed="rId3"/>
          <a:stretch/>
        </p:blipFill>
        <p:spPr>
          <a:xfrm>
            <a:off x="4067280" y="3476520"/>
            <a:ext cx="3381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6172" t="0" r="0" b="700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- С точки зрения астрономов мир – это Вселенная или Космос.  Сегодня нам предстоит выяснить, как возникла Всел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54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еты у Солнца танцуют как де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ркурий заводит их хоров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уть дальше Венера в пространстве плыв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дальше встречаем нашу Зем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огненный Марс, что кружит над Землё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ними - Юпитер, из всех велик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ьше Сатурн в кольцах видится 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дние три едва различи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н, и Нептун, и кроха Плу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86064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ту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1783" r="0" b="0"/>
          <a:stretch/>
        </p:blipFill>
        <p:spPr>
          <a:xfrm>
            <a:off x="0" y="235080"/>
            <a:ext cx="9144000" cy="662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45813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оме планет, во Вселенной бесчисленное множество звёзд и других небесных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00720" y="4508640"/>
            <a:ext cx="4030560" cy="18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ет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411280" y="4292640"/>
            <a:ext cx="5329440" cy="23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Спутники плане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в данном случа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спутник Земли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Лу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0" y="0"/>
            <a:ext cx="293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стероид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0:45:52Z</dcterms:created>
  <dc:creator>Галя</dc:creator>
  <dc:description/>
  <dc:language>en-US</dc:language>
  <cp:lastModifiedBy>Галя</cp:lastModifiedBy>
  <dcterms:modified xsi:type="dcterms:W3CDTF">2009-02-09T15:27:26Z</dcterms:modified>
  <cp:revision>20</cp:revision>
  <dc:subject/>
  <dc:title>Слайд 1</dc:title>
</cp:coreProperties>
</file>