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80A-FA60-4864-8193-45A45BB3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2B8-EB5B-4ED9-813B-7D439E06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FAE-E570-4061-9554-052102F3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2F8-C2FA-4D79-8267-D6C6F829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A32-EC89-478C-8EE1-3EA48F9F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28FC-C8B1-48BC-8BD0-4EBE3B2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F77B-F5BF-41A2-A271-9B5CDA1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7591-162C-4469-926B-523C2CEF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938C-36B6-40B3-97C2-4E14FC8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D8C-4901-4410-9DE0-982C85E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A1D4-222E-41A1-A4E5-3C4AFFF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087-D1E1-460E-9A85-0D87A8D9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ADF-F699-4BA4-B397-03DA51B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621D-5100-420C-B0C1-564B0F3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AF09-0B4A-44AA-9745-C759DBD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7D7E-1F86-46D5-90EA-96061A06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E73-6369-4585-B6C8-B22980CD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8BFF-A55C-414B-8A12-CCE1FAED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DFC8-B1E9-4903-B059-B6192CB6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B5F1-539A-4311-A474-41C9793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2548-8340-4B9E-8B58-DC830A2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F6A2-5057-4E0E-92A0-245BC37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46A-283D-417B-8D1B-9BDD5417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FDE8-D84B-4A90-A0A7-DB454FB8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9EFD-4A61-44FD-98CA-75D7913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DA8E-FD19-449F-AFF6-E6C37367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7173-4EFC-4A70-A596-EEB1461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83CD-F3C9-4510-951D-662BA4A8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6AA1-5248-40E2-83C5-666DD479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2706-4D49-4840-A101-D7C199B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BB5-8111-4D73-8622-601FC20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27D-25C0-4B14-B94D-5F941DD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FD8-1D4C-4F5D-A2AB-3D8FB83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416-0A4E-48B4-9895-8B9E4D6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037-2353-48AB-8F4D-76CDED58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862-87E8-498A-88B1-357E73F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C828-D112-4CFB-9DA5-D60346A118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C99-391B-4FBA-A702-AFFC81F6D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EB3-C859-40DE-B129-3BF2761A35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643040" y="928800"/>
            <a:ext cx="6786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аседание МО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облемное обу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:   Василь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19.10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18728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тыре уровня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68360" y="105264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сам ставит проблему и решает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95280" y="1844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создаёт проблемную ситуацию, а учащиеся включаются в её раз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95280" y="29973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ная ситуация создаётся учителем, разрешение её происходит в ходе самостоятельн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95280" y="4869000"/>
            <a:ext cx="83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мотрение проблемы самими учащимися на основе представленных учителем неупорядоченных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ло преподавания есть искусство, поэтому оконченость и совершенство недостижимы, а развитие и совершенствование бесконечны.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214280" y="85716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лохой учитель преподнос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стину, а хоро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 ее нах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559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Технология проблемного обучения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 важнейший путь организации активной деятельности учащихся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на уроках в начальной школе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Анисимова Е.В.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303120" y="423720"/>
            <a:ext cx="85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птуальные положения (по Д. Дью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95280" y="90792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Ребенок в онтогенезе повторяет путь человечества в п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24000" y="162864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Усвоение знаний есть спонтанный, неуправляем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79280" y="22050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Ребенок усваивает материал, не просто слушая или воспринимая органами чувств, а как результат удовлетворения возникшей у него потребности в знаниях, являясь активным субъектом свое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79280" y="3789360"/>
            <a:ext cx="87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Условиями успешности обучения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блематизация учебного материала (знания - «дети» - удивления и любопыт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ктивность ребёнка (знания должны усваиваться с «аппетитом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вязь обучения с жизнью ребенка, игрой, тру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289960" y="18324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проблем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692280"/>
          <a:ext cx="8785440" cy="6218280"/>
        </p:xfrm>
        <a:graphic>
          <a:graphicData uri="http://schemas.openxmlformats.org/drawingml/2006/table">
            <a:tbl>
              <a:tblPr/>
              <a:tblGrid>
                <a:gridCol w="1179720"/>
                <a:gridCol w="3722760"/>
                <a:gridCol w="38829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row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блемн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вопроса: «Почему не полу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учебной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темы урока и его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субъективно нового знания, путем выдвижения и анализа гипот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нового знания в  доступной форме. Моделиров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оду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продукта учителю и класс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00040" y="1890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ные условия использования проблемных ситу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14240" y="1195560"/>
            <a:ext cx="62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о стороны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90680" y="1762200"/>
            <a:ext cx="7983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меть определять наличие или отсутствие у себя общего способа решения тех или иных задач: «это я уже умею и знаю», «этого я еще совсем не знаю, надо узнать», «это я уже немного знаю, но надо еще разобраться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74840" y="3908520"/>
            <a:ext cx="772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мение задавать вопрос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00040" y="454644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 использовать ранее усвоенные знания 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еноси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х в новую ситуа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69960" y="5589720"/>
            <a:ext cx="798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активная поисковая деятельность: умение строит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ипотез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50920" y="189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о стороны уч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8760" y="119700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Умение учить умному незнан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63680" y="2565360"/>
            <a:ext cx="82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Умение учить умному спрашиван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68360" y="3716280"/>
            <a:ext cx="78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Умение учить строить гипотез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3680" y="4653000"/>
            <a:ext cx="821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Умение планировать, создавать на уроке проблемные ситуации и управлять этим процесс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500120" y="428760"/>
            <a:ext cx="6143760" cy="6214680"/>
            <a:chOff x="1500120" y="428760"/>
            <a:chExt cx="6143760" cy="6214680"/>
          </a:xfrm>
        </p:grpSpPr>
        <p:sp>
          <p:nvSpPr>
            <p:cNvPr id="191" name="AutoShape 3"/>
            <p:cNvSpPr/>
            <p:nvPr/>
          </p:nvSpPr>
          <p:spPr>
            <a:xfrm>
              <a:off x="1500120" y="13435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е могу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"/>
            <p:cNvSpPr/>
            <p:nvPr/>
          </p:nvSpPr>
          <p:spPr>
            <a:xfrm>
              <a:off x="1509480" y="213120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есоответ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1509480" y="292644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нфли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6"/>
            <p:cNvSpPr/>
            <p:nvPr/>
          </p:nvSpPr>
          <p:spPr>
            <a:xfrm>
              <a:off x="1509480" y="37213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еожида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1509480" y="451620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еопределё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1509480" y="531144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ыб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9"/>
            <p:cNvSpPr/>
            <p:nvPr/>
          </p:nvSpPr>
          <p:spPr>
            <a:xfrm>
              <a:off x="1500120" y="61063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шибка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>
              <a:off x="4521240" y="1234440"/>
              <a:ext cx="3122640" cy="64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Даётся практическое задание не выполнимое вообщ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4521240" y="200628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Даётся задание, где надо использовать знания в новой ситу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2"/>
            <p:cNvSpPr/>
            <p:nvPr/>
          </p:nvSpPr>
          <p:spPr>
            <a:xfrm>
              <a:off x="4521240" y="28062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итуация рассматривающая противополож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3"/>
            <p:cNvSpPr/>
            <p:nvPr/>
          </p:nvSpPr>
          <p:spPr>
            <a:xfrm>
              <a:off x="4521240" y="360108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ызывает удивление, необычностью, парадоксаль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4521240" y="439632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Неоднозначные решения в виду недостатка (лишних)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4521240" y="51912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Даётся ряд готовых решений. Выбери правильно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4521240" y="59814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Задания с заведомо допущенной ошибк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2682360" y="428760"/>
              <a:ext cx="3122640" cy="64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6"/>
                  </a:solidFill>
                  <a:latin typeface="Calibri"/>
                </a:rPr>
                <a:t>Типы ситуац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AutoShape 18"/>
            <p:cNvCxnSpPr/>
            <p:nvPr/>
          </p:nvCxnSpPr>
          <p:spPr>
            <a:xfrm>
              <a:off x="4258080" y="1078560"/>
              <a:ext cx="1080" cy="530064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</a:ln>
          </p:spPr>
        </p:cxnSp>
        <p:cxnSp>
          <p:nvCxnSpPr>
            <p:cNvPr id="207" name="AutoShape 19"/>
            <p:cNvCxnSpPr/>
            <p:nvPr/>
          </p:nvCxnSpPr>
          <p:spPr>
            <a:xfrm>
              <a:off x="3995280" y="160812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08" name="AutoShape 20"/>
            <p:cNvCxnSpPr/>
            <p:nvPr/>
          </p:nvCxnSpPr>
          <p:spPr>
            <a:xfrm>
              <a:off x="3995280" y="240336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09" name="AutoShape 21"/>
            <p:cNvCxnSpPr/>
            <p:nvPr/>
          </p:nvCxnSpPr>
          <p:spPr>
            <a:xfrm>
              <a:off x="3995280" y="319824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10" name="AutoShape 22"/>
            <p:cNvCxnSpPr/>
            <p:nvPr/>
          </p:nvCxnSpPr>
          <p:spPr>
            <a:xfrm>
              <a:off x="3995280" y="399348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11" name="AutoShape 23"/>
            <p:cNvCxnSpPr/>
            <p:nvPr/>
          </p:nvCxnSpPr>
          <p:spPr>
            <a:xfrm>
              <a:off x="3995280" y="478836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12" name="AutoShape 24"/>
            <p:cNvCxnSpPr/>
            <p:nvPr/>
          </p:nvCxnSpPr>
          <p:spPr>
            <a:xfrm>
              <a:off x="3995280" y="558324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213" name="AutoShape 25"/>
            <p:cNvCxnSpPr/>
            <p:nvPr/>
          </p:nvCxnSpPr>
          <p:spPr>
            <a:xfrm>
              <a:off x="3995280" y="637848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258920" y="669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ая характеристика ди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620640"/>
          <a:ext cx="9144000" cy="6251760"/>
        </p:xfrm>
        <a:graphic>
          <a:graphicData uri="http://schemas.openxmlformats.org/drawingml/2006/table">
            <a:tbl>
              <a:tblPr/>
              <a:tblGrid>
                <a:gridCol w="571680"/>
                <a:gridCol w="4292280"/>
                <a:gridCol w="42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аю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вопросы и побудительные предложения, подталкивающие мысль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посильных ученику вопросов заданий, подводящих его к открытию мыс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ысль ученика делает скачок к неизвестному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реживание учеником чувства риск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зможны неожиданные ответы ученико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кращается с появлением нужной мысл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шаговое, жесткое ведение мысли ученик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реживание учеником удивления от открытия в конце диалог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чти не возможны неожиданные ответы ученико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 может быть прекращен, идет до последнего вопроса на обоб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способ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огического мыш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17:34Z</dcterms:created>
  <dc:creator>COMP</dc:creator>
  <dc:description/>
  <dc:language>en-US</dc:language>
  <cp:lastModifiedBy>FizInform</cp:lastModifiedBy>
  <dcterms:modified xsi:type="dcterms:W3CDTF">2015-01-21T11:11:15Z</dcterms:modified>
  <cp:revision>22</cp:revision>
  <dc:subject/>
  <dc:title>Технология проблемного обучения как важнейший путь организации активной деятельности учащихся на уроках в начальной школе</dc:title>
</cp:coreProperties>
</file>