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D7B-3CD0-4476-B961-0D644EAE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409-2858-48FE-A46A-F01642AC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0D48-9ECB-4F16-97FF-A1B8888A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5548-9236-46DB-8A18-745BD484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282-A641-468F-BA13-F406E1AB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77A7-C540-4D34-BEB3-6BEE535B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556-A05A-4DD1-A1CE-3A1D9B21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2EA-1139-4DDD-A259-66DB8E03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ED5-D782-4268-9274-C0C939DC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DF19-5B58-4036-84FA-78465F1D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D97-00A2-466E-BA87-5E397B75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EEA7-0486-46F2-984E-A574F035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93EF-E1BE-4CF2-8DD8-F1AF686F2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Monotype Corsiva"/>
              </a:rPr>
              <a:t>Растительный и животный мир</a:t>
            </a:r>
            <a:br>
              <a:rPr sz="7200"/>
            </a:br>
            <a:r>
              <a:rPr b="1" i="1" lang="en-US" sz="7200" spc="-1" strike="noStrike">
                <a:solidFill>
                  <a:srgbClr val="000000"/>
                </a:solidFill>
                <a:latin typeface="Monotype Corsiva"/>
              </a:rPr>
              <a:t>арктических пустын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Лежбищ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128000" cy="534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806436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50520" y="0"/>
            <a:ext cx="65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Белый медвед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5483160" cy="4146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038480" cy="4106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4038480" cy="3659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904640" y="981000"/>
            <a:ext cx="264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Кай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60640" y="5084640"/>
            <a:ext cx="311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Чист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960720" cy="253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35640" y="3500280"/>
            <a:ext cx="2879640" cy="2376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24000" y="3500280"/>
            <a:ext cx="3960720" cy="2548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003640" y="189000"/>
            <a:ext cx="3711600" cy="2490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340640" y="2637000"/>
            <a:ext cx="184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Чай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45640" y="2565360"/>
            <a:ext cx="316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Белый гу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97360" y="6021360"/>
            <a:ext cx="235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Каза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2960" y="5950080"/>
            <a:ext cx="194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Гаг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Туп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92000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5699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Птичьи база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392360" cy="5113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Monotype Corsiva"/>
              </a:rPr>
              <a:t>Мхи и лишай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209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907160" cy="3328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067280" y="3429000"/>
            <a:ext cx="4892400" cy="3213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66960" y="907920"/>
            <a:ext cx="320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БЕЛУХ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8320" y="4221000"/>
            <a:ext cx="337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НАРВА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10640" cy="4638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85320" y="189000"/>
            <a:ext cx="350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ТЮЛЕН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4608360" cy="3659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211640" y="3500280"/>
            <a:ext cx="4788000" cy="3102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08720" y="620640"/>
            <a:ext cx="30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Морской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кот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5680" y="4592520"/>
            <a:ext cx="265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Нерп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92360" y="260280"/>
            <a:ext cx="3313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Бел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7272360" cy="54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7632720" cy="6105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062920" y="403920"/>
            <a:ext cx="9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35000" y="1197000"/>
            <a:ext cx="6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23840" y="1928880"/>
            <a:ext cx="66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89560" y="2852640"/>
            <a:ext cx="84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3:08:51Z</dcterms:created>
  <dc:creator>Ksyusha</dc:creator>
  <dc:description/>
  <dc:language>en-US</dc:language>
  <cp:lastModifiedBy>Ksyusha</cp:lastModifiedBy>
  <dcterms:modified xsi:type="dcterms:W3CDTF">2009-10-25T13:55:49Z</dcterms:modified>
  <cp:revision>2</cp:revision>
  <dc:subject/>
  <dc:title>Растительный и животный мир арктических пустынь</dc:title>
</cp:coreProperties>
</file>