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6006-360B-4AD3-B39E-810BF86E0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37C5-80A2-4D4E-9816-A16FB569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D891-DCAA-48A6-BDE6-8091D8C4B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C231-0D23-4E86-9DB3-61B04BBFB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8C7E-81C2-42CB-BA05-829302F9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E490-0191-48E5-B8BC-72E9E7ED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BAFC-75CA-4D46-AC74-FA664A7D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3A0A-B93B-453E-88DD-AB571149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B2AD-1567-4684-AE82-471C53C7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BD42-21CA-4CF6-8C75-B9D5BA05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6DCD-651B-4E32-9312-601ED0C0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7706-EDBE-4165-B561-DB04FE13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9584-3D29-4725-A7D9-60840CD5F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1" lang="en-US" sz="9600" spc="-1" strike="noStrike">
                <a:solidFill>
                  <a:srgbClr val="66ff66"/>
                </a:solidFill>
                <a:latin typeface="Monotype Corsiva"/>
              </a:rPr>
              <a:t>Растительный мир</a:t>
            </a:r>
            <a:br>
              <a:rPr sz="9600"/>
            </a:br>
            <a:r>
              <a:rPr b="1" lang="en-US" sz="9600" spc="-1" strike="noStrike">
                <a:solidFill>
                  <a:srgbClr val="66ff66"/>
                </a:solidFill>
                <a:latin typeface="Monotype Corsiva"/>
              </a:rPr>
              <a:t>Австрали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Австралийская акац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7848360" cy="5616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48720" cy="64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Каусти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763416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Мангровые лес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6696000" cy="4754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26920" y="836640"/>
            <a:ext cx="7561440" cy="56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497800" cy="63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Хлебное дерев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48800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751640" cy="3564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00720" y="836640"/>
            <a:ext cx="42652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СКРЭ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7058160" cy="5294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Эвкалип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417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7619760" cy="50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203640" y="836640"/>
            <a:ext cx="56325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345200" cy="6524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0" y="189000"/>
            <a:ext cx="43131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552840" cy="3960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276720" y="234936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Бутылочное дерев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4537080" cy="3418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788000" y="765000"/>
            <a:ext cx="41940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Казуари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5905440" cy="4429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916360" y="2133720"/>
            <a:ext cx="583236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22:29:08Z</dcterms:created>
  <dc:creator>KMA</dc:creator>
  <dc:description/>
  <dc:language>en-US</dc:language>
  <cp:lastModifiedBy>KMA</cp:lastModifiedBy>
  <dcterms:modified xsi:type="dcterms:W3CDTF">2009-11-22T22:52:41Z</dcterms:modified>
  <cp:revision>3</cp:revision>
  <dc:subject/>
  <dc:title> Растительный мир Австралии</dc:title>
</cp:coreProperties>
</file>