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462-5D5F-48ED-B307-E0E137E0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1DF-FE0C-465F-9513-415D7383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925-6930-4A4A-8158-1ABE492C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D64-E540-48B1-B8D1-B014D0CE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8069-F261-43F2-874E-A2453F44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058-1988-4A1C-B9FC-F178170F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70C-1BF8-4E39-B48B-338FB3ED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625-79F1-4E2A-AB18-A43A2318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1C3-389C-4063-BD2A-845344C1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AC2-A377-4609-857D-37D16502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39E-B371-4093-BBAC-9BC3FBD1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00B-5832-46A0-ACF5-6DF42A4C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C0BF-2609-43B4-8AFD-C205890565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65d9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14400" y="685800"/>
            <a:ext cx="7115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6600"/>
                </a:solidFill>
                <a:latin typeface="Bookman Old Style"/>
              </a:rPr>
              <a:t>Стили 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66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6600"/>
                </a:solidFill>
                <a:latin typeface="Bookman Old Style"/>
              </a:rPr>
              <a:t>педагогического   общения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6600"/>
              </a:solidFill>
              <a:latin typeface="Bookman Old Style"/>
              <a:ea typeface="Bookman Old Style"/>
            </a:endParaRPr>
          </a:p>
        </p:txBody>
      </p:sp>
      <p:pic>
        <p:nvPicPr>
          <p:cNvPr id="42" name="Picture 5" descr="perman"/>
          <p:cNvPicPr/>
          <p:nvPr/>
        </p:nvPicPr>
        <p:blipFill>
          <a:blip r:embed="rId1"/>
          <a:stretch/>
        </p:blipFill>
        <p:spPr>
          <a:xfrm>
            <a:off x="0" y="2209680"/>
            <a:ext cx="4191120" cy="3378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4191120" y="48006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: ученик 13 группы, Меркурьев Дани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5"/>
          <p:cNvSpPr txBox="1"/>
          <p:nvPr/>
        </p:nvSpPr>
        <p:spPr>
          <a:xfrm>
            <a:off x="2362320" y="685800"/>
            <a:ext cx="6105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Модель диктаторская "Монблан"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676520" y="1982880"/>
            <a:ext cx="74674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Учитель отстранен от обучаем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Обучаемые - лишь безликая масса слуша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Нет личностного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Педагогические функции сведены к информационному сообщ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533520" y="4278240"/>
            <a:ext cx="80769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Следств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отсутствие психологического контак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безынициативность и пассивность обучае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5"/>
          <p:cNvSpPr txBox="1"/>
          <p:nvPr/>
        </p:nvSpPr>
        <p:spPr>
          <a:xfrm>
            <a:off x="2895480" y="762120"/>
            <a:ext cx="5886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Bookman Old Style"/>
              </a:rPr>
              <a:t>Модель  неконтактная  "Китайская  стена"</a:t>
            </a:r>
            <a:endParaRPr b="1" lang="en-US" sz="20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Bookman Old Style"/>
              <a:ea typeface="Bookman Old Style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539280" y="2365560"/>
            <a:ext cx="82940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лабая обратная связь между учителем и обучаемыми (барьер общ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тсутствие желания к сотрудничеству с какой-либо 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нформационный, а не диалоговый характер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непроизвольное подчеркивание преподавателем своего стат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нисходительное отношение к обучаем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143000" y="4814280"/>
            <a:ext cx="655308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Georgia"/>
              </a:rPr>
              <a:t>Следстви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Georgia"/>
              </a:rPr>
              <a:t>слабое взаимодействие с обучаемы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Georgia"/>
              </a:rPr>
              <a:t>с их стороны - равнодушное отношение к учите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4242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d9ec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5"/>
          <p:cNvSpPr txBox="1"/>
          <p:nvPr/>
        </p:nvSpPr>
        <p:spPr>
          <a:xfrm>
            <a:off x="2286000" y="457200"/>
            <a:ext cx="6305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Bookman Old Style"/>
              </a:rPr>
              <a:t>Модель  дифференцированного  внимания</a:t>
            </a:r>
            <a:endParaRPr b="1" lang="en-US" sz="20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Bookman Old Style"/>
              </a:rPr>
              <a:t>  </a:t>
            </a:r>
            <a:r>
              <a:rPr b="1" lang="en-US" sz="2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Bookman Old Style"/>
              </a:rPr>
              <a:t>"Локатор"</a:t>
            </a:r>
            <a:endParaRPr b="1" lang="en-US" sz="20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Bookman Old Style"/>
              <a:ea typeface="Bookman Old Style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990720" y="2193840"/>
            <a:ext cx="847728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збирательные отношения с обучаем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концентрация внимания учителя на части аудитории (индикаторы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риентировка на настроение коллект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неумение сочетать индивидуализацию обучения учащих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 фронтальным подход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219320" y="4726800"/>
            <a:ext cx="79246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Следстви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нарушается целостность акта взаимодейств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в системе учитель - коллектив уч-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она подменяется фрагментарностью ситуативных контак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841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e5"/>
            </a:gs>
            <a:gs pos="100000">
              <a:srgbClr val="d9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2743200" y="533520"/>
            <a:ext cx="5715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Модель  гипорефлексная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 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"Тетерев"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440080" y="2328480"/>
            <a:ext cx="5243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читель в общении замкнут на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чь большей частью монолог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ет реакции на слуш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эмоциональная глухота к окружающ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380880" y="4282920"/>
            <a:ext cx="841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Следств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практически отсутствует взаимодей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      </a:t>
            </a: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между учителем и уче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вокруг ученика- поле психологического ваку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стороны процесса общения изолированы друг от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учебно-воспитательное воздействие представлено форм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90512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2514600" y="914400"/>
            <a:ext cx="6095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Bookman Old Style"/>
              </a:rPr>
              <a:t>Модель  гиперрефлексная  "Гамлет"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Bookman Old Style"/>
              <a:ea typeface="Bookman Old Style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533520" y="2594880"/>
            <a:ext cx="82836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учитель озабочен тем, как он воспринимается окружающи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межличностные отношения приобретают для него доминирующее    зна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омнение в действенности своих аргументов, в правильности поступ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страя реакция на нюансы психологической атмосферы обучаем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08600" y="4726800"/>
            <a:ext cx="86983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2a00"/>
                </a:solidFill>
                <a:latin typeface="Georgia"/>
              </a:rPr>
              <a:t>Следстви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2a00"/>
                </a:solidFill>
                <a:latin typeface="Georgia"/>
              </a:rPr>
              <a:t>обостренная социально-психологическая чувствительность учите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2a00"/>
                </a:solidFill>
                <a:latin typeface="Georgia"/>
              </a:rPr>
              <a:t>приводит к его неадекватным реакциям на реплики и действия аудито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2a00"/>
                </a:solidFill>
                <a:latin typeface="Georgia"/>
              </a:rPr>
              <a:t>Для учителя возможно занятие ведомой позиции в отношениях с учащимися</a:t>
            </a: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0480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eaeae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5"/>
          <p:cNvSpPr txBox="1"/>
          <p:nvPr/>
        </p:nvSpPr>
        <p:spPr>
          <a:xfrm>
            <a:off x="2362320" y="838080"/>
            <a:ext cx="6210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Модель  негибкого  реагирования  "Робот"</a:t>
            </a:r>
            <a:endParaRPr b="1" lang="en-US" sz="20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pic>
        <p:nvPicPr>
          <p:cNvPr id="97" name="Picture 7" descr="robot"/>
          <p:cNvPicPr/>
          <p:nvPr/>
        </p:nvPicPr>
        <p:blipFill>
          <a:blip r:embed="rId1"/>
          <a:stretch/>
        </p:blipFill>
        <p:spPr>
          <a:xfrm>
            <a:off x="228600" y="228600"/>
            <a:ext cx="1828800" cy="1752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685800" y="2138760"/>
            <a:ext cx="800100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заимоотношения учителя и уч-ся строятся по жесткой програм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четко выдержаны цели и задачи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дидактически оправданы методические при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безупречная логика изложения и аргументация фа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тшлифованы мимика и жес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учитель не учитывает состав и психическое состояние уч-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х возрастные и этнические 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258200" y="4876200"/>
            <a:ext cx="62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Следств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низкий эффект педагогического взаимодействия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e5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2438280" y="838080"/>
            <a:ext cx="5667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Модель  авторитарная  "Я - сам"</a:t>
            </a:r>
            <a:endParaRPr b="1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101" name="Picture 6" descr="02639549"/>
          <p:cNvPicPr/>
          <p:nvPr/>
        </p:nvPicPr>
        <p:blipFill>
          <a:blip r:embed="rId1"/>
          <a:srcRect l="0" t="0" r="0" b="3543"/>
          <a:stretch/>
        </p:blipFill>
        <p:spPr>
          <a:xfrm>
            <a:off x="304920" y="228600"/>
            <a:ext cx="1763640" cy="15238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838080" y="2061360"/>
            <a:ext cx="849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фокусирование учебно-воспитательного процесса целиком на преподавате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тсутствие творческого взаимодействия между учителем и уч-ся        подавление личной инициативы со стороны уч-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нижение до минимума познавательной и общественной актив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уч-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762120" y="4955040"/>
            <a:ext cx="757692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Следстви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воспитывается безынициативность обучаем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теряется творческий характер обуч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искажается мотивационная сфера познавательной активност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5"/>
          <p:cNvSpPr txBox="1"/>
          <p:nvPr/>
        </p:nvSpPr>
        <p:spPr>
          <a:xfrm>
            <a:off x="2133720" y="914400"/>
            <a:ext cx="6534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Bookman Old Style"/>
              </a:rPr>
              <a:t>Модель  активного  взаимодействия  "Союз"</a:t>
            </a:r>
            <a:endParaRPr b="1" lang="en-US" sz="20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Bookman Old Style"/>
              <a:ea typeface="Bookman Old Style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996840" y="2062440"/>
            <a:ext cx="773928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учитель находится в диалоге с уч-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ддерживает их в мажорном настроен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ощряет инициатив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легко схватывает изменения в психологическом климате группы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гибко реагирует на 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еобладает стиль дружеского взаимодействия   с сохран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ролевой диста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960480" y="4573440"/>
            <a:ext cx="73785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a2100"/>
                </a:solidFill>
                <a:latin typeface="Georgia"/>
              </a:rPr>
              <a:t>Следстви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a2100"/>
                </a:solidFill>
                <a:latin typeface="Georgia"/>
              </a:rPr>
              <a:t>возникающие учебные, организационные и этические пробл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a2100"/>
                </a:solidFill>
                <a:latin typeface="Georgia"/>
              </a:rPr>
              <a:t>творчески решаются совместными усилия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689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b9"/>
            </a:gs>
            <a:gs pos="100000">
              <a:srgbClr val="ccff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5"/>
          <p:cNvSpPr txBox="1"/>
          <p:nvPr/>
        </p:nvSpPr>
        <p:spPr>
          <a:xfrm>
            <a:off x="1447920" y="533520"/>
            <a:ext cx="6248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Негативная  и  позитивная  установка</a:t>
            </a:r>
            <a:endParaRPr b="1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371600"/>
          <a:ext cx="8229600" cy="518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ГАТИВНАЯ УСТАН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ЗИТИВНАЯ УСТАН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еньше времени на отв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ольше ждет ответа на вопро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 использует наводящие вопросы и подсказк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ри затруднении задает наводящие во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ри неверном ответе спешит переадресовать вопрос другому уч-ся или отвечает с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ри неверном ответе не спеши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 оценкой, а старается подкорректировать 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чаще порицает и меньше поощр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опрос поощряет улыбкой, взгля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 реагирует на удачное действие уч-ся и не замечает его успех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чаще обращается к уч-ся взглядом в ходе 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ногда вообще не работает с ним на занят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380880" y="685800"/>
            <a:ext cx="838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Профессионально  важные  качества  педагогического  общения 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62120" y="1643400"/>
            <a:ext cx="76197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нтерес к людям и работе с ними, наличие потребности и умений общ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пособность эмоциональной эмпатии и понимания люд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гибкость, оперативно-творческое мыш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умение ощущать и поддерживать обратную связь в общен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умение управлять соб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пособность к спонтанной коммуник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умение прогнозировать возможные педагогические ситу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хорошие вербальные способн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ладение искусством педагогических пережи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пособность к педагогической импровиз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p53_gu_obraz"/>
          <p:cNvPicPr/>
          <p:nvPr/>
        </p:nvPicPr>
        <p:blipFill>
          <a:blip r:embed="rId1"/>
          <a:srcRect l="36656" t="0" r="0" b="44832"/>
          <a:stretch/>
        </p:blipFill>
        <p:spPr>
          <a:xfrm>
            <a:off x="6553080" y="4572000"/>
            <a:ext cx="22989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914400" y="1828800"/>
            <a:ext cx="4800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cc3300"/>
                </a:solidFill>
                <a:latin typeface="Bookman Old Style"/>
              </a:rPr>
              <a:t>Автократический </a:t>
            </a:r>
            <a:endParaRPr b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cc3300"/>
              </a:solidFill>
              <a:latin typeface="Bookman Old Style"/>
              <a:ea typeface="Bookman Old Style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930960" y="3581280"/>
            <a:ext cx="755172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диноличное управление коллективом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следовательное предъявление требований к учащим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жесткий контроль за их испол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Копия Копия 1204156125_14"/>
          <p:cNvPicPr/>
          <p:nvPr/>
        </p:nvPicPr>
        <p:blipFill>
          <a:blip r:embed="rId1"/>
          <a:stretch/>
        </p:blipFill>
        <p:spPr>
          <a:xfrm>
            <a:off x="6019920" y="609480"/>
            <a:ext cx="2463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1447920" y="1905120"/>
            <a:ext cx="4572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cc3300"/>
                </a:solidFill>
                <a:latin typeface="Bookman Old Style"/>
              </a:rPr>
              <a:t>Авторитарный </a:t>
            </a:r>
            <a:endParaRPr b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cc3300"/>
              </a:solidFill>
              <a:latin typeface="Bookman Old Style"/>
              <a:ea typeface="Bookman Old Style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066680" y="3400560"/>
            <a:ext cx="7010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озможность для уч-ся участвовать в обсуждении вопросов учебной или коллективной жизн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но решение,  в конечном счете, принимает преподаватель  в соответствии со своими установкам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0001h1a7"/>
          <p:cNvPicPr/>
          <p:nvPr/>
        </p:nvPicPr>
        <p:blipFill>
          <a:blip r:embed="rId1"/>
          <a:stretch/>
        </p:blipFill>
        <p:spPr>
          <a:xfrm>
            <a:off x="6705720" y="685800"/>
            <a:ext cx="167616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5"/>
          <p:cNvSpPr txBox="1"/>
          <p:nvPr/>
        </p:nvSpPr>
        <p:spPr>
          <a:xfrm>
            <a:off x="3657600" y="1371600"/>
            <a:ext cx="4838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Демократический 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005560" y="3191400"/>
            <a:ext cx="5873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нимание и учет учителем мнений уч-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тремление понять их, убедить, а не приказыва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едение диалогического общения на рав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24386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>
            <a:off x="3276720" y="1295280"/>
            <a:ext cx="4390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Bookman Old Style"/>
              </a:rPr>
              <a:t>Игнорирующий </a:t>
            </a:r>
            <a:endParaRPr b="1" i="1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Bookman Old Style"/>
              <a:ea typeface="Bookman Old Style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71120" y="3354480"/>
            <a:ext cx="722412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тремление  меньше вмешиваться в жизнедеятельность уч-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устранение от руководства и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граничение формальным выполнением обязанностей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ередачи учебной и административной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2100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5"/>
          <p:cNvSpPr txBox="1"/>
          <p:nvPr/>
        </p:nvSpPr>
        <p:spPr>
          <a:xfrm>
            <a:off x="3657600" y="1676520"/>
            <a:ext cx="4210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Bookman Old Style"/>
              </a:rPr>
              <a:t>Конформный </a:t>
            </a:r>
            <a:endParaRPr b="1" i="1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Bookman Old Style"/>
              <a:ea typeface="Bookman Old Style"/>
            </a:endParaRPr>
          </a:p>
        </p:txBody>
      </p:sp>
      <p:pic>
        <p:nvPicPr>
          <p:cNvPr id="57" name="Picture 7" descr="Копия 0000257743-preview"/>
          <p:cNvPicPr/>
          <p:nvPr/>
        </p:nvPicPr>
        <p:blipFill>
          <a:blip r:embed="rId1"/>
          <a:stretch/>
        </p:blipFill>
        <p:spPr>
          <a:xfrm>
            <a:off x="304920" y="457200"/>
            <a:ext cx="2666880" cy="3352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2666880" y="3600720"/>
            <a:ext cx="632484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страняется от руководства группой уч-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дет на поводу их жел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3429000" y="1447920"/>
            <a:ext cx="4419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990000"/>
                </a:solidFill>
                <a:latin typeface="Bookman Old Style"/>
              </a:rPr>
              <a:t>Алогичный </a:t>
            </a:r>
            <a:endParaRPr b="1" i="1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990000"/>
              </a:solidFill>
              <a:latin typeface="Bookman Old Style"/>
              <a:ea typeface="Bookman Old Style"/>
            </a:endParaRPr>
          </a:p>
        </p:txBody>
      </p:sp>
      <p:pic>
        <p:nvPicPr>
          <p:cNvPr id="60" name="Picture 6" descr="previewimg"/>
          <p:cNvPicPr/>
          <p:nvPr/>
        </p:nvPicPr>
        <p:blipFill>
          <a:blip r:embed="rId1"/>
          <a:stretch/>
        </p:blipFill>
        <p:spPr>
          <a:xfrm>
            <a:off x="380880" y="609480"/>
            <a:ext cx="2438640" cy="2457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1066680" y="3364560"/>
            <a:ext cx="75438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существление в зависимости от внешних обстоятельств и собственного эмоционального состояния любого стиля руко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дезорганизация и ситуативность системы взаимоотношений «учитель – учени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явление конфликтных ситуа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1295280" y="457200"/>
            <a:ext cx="6467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cc3300"/>
                </a:solidFill>
                <a:latin typeface="Bookman Old Style"/>
              </a:rPr>
              <a:t>Стили педагогического общения </a:t>
            </a:r>
            <a:endParaRPr b="1" i="1" lang="en-US" sz="2800" spc="1" strike="noStrike">
              <a:ln w="9360">
                <a:solidFill>
                  <a:srgbClr val="990000"/>
                </a:solidFill>
                <a:miter/>
              </a:ln>
              <a:solidFill>
                <a:srgbClr val="cc33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cc3300"/>
                </a:solidFill>
                <a:latin typeface="Bookman Old Style"/>
              </a:rPr>
              <a:t>(по В.А. Кан-Калику)</a:t>
            </a:r>
            <a:endParaRPr b="1" i="1" lang="en-US" sz="2800" spc="1" strike="noStrike">
              <a:ln w="9360">
                <a:solidFill>
                  <a:srgbClr val="990000"/>
                </a:solidFill>
                <a:miter/>
              </a:ln>
              <a:solidFill>
                <a:srgbClr val="cc3300"/>
              </a:solidFill>
              <a:latin typeface="Bookman Old Style"/>
              <a:ea typeface="Bookman Old Styl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бщение на основе высоких профессиональных установок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бщение на основе дружеского рас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бщение-дистан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бщение-устраш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бщение-заигрывание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298403"/>
          <p:cNvPicPr/>
          <p:nvPr/>
        </p:nvPicPr>
        <p:blipFill>
          <a:blip r:embed="rId1"/>
          <a:stretch/>
        </p:blipFill>
        <p:spPr>
          <a:xfrm>
            <a:off x="4724280" y="3352680"/>
            <a:ext cx="38624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8600" y="762120"/>
          <a:ext cx="8763120" cy="5792760"/>
        </p:xfrm>
        <a:graphic>
          <a:graphicData uri="http://schemas.openxmlformats.org/drawingml/2006/table">
            <a:tbl>
              <a:tblPr/>
              <a:tblGrid>
                <a:gridCol w="1952640"/>
                <a:gridCol w="681048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юбитель дискуссий, провоцирует их на занятиях; индивидуализм, несистематичность в уч. процессе из-за постоянной конфронтации; уч-ся усиливают защиту собственных позиций, учатся их отстаивать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лавное в учебно-воспитательном процессе - достижение соглас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 установление сотрудничества между уч-ся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ль посредника, поиск демократического соглас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ажнее результата дискусси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разец для подражания, подлежащий безусловному копированию не столько в учебном процессе, сколько в отношении к жизни вообщ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дчеркнуто требователен, жестко добивается послушания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читает, что всегда и во всем прав, а ученик должен беспрекословно подчиняться отдаваемым приказ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тмосфера эффективной деятельности класс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ощрение инициативы и самостоятельност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тремление к обсуждению с каждым учащимся смысла решаемой задач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чественный контроль и оценка конечного результ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ух корпоративности  (уч-ся не важен как индивидуальность, но все вместе они могут многое);  роль вдохновителя групповых усили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лавное - конечный результат, блестящий успе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аконичный, точный, сдержанный стиль общения; предсказуемость вопросов и ответов; технически безупречен и именно поэтому скуч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49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cc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WordArt 30"/>
          <p:cNvSpPr txBox="1"/>
          <p:nvPr/>
        </p:nvSpPr>
        <p:spPr>
          <a:xfrm>
            <a:off x="1143000" y="15228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Bookman Old Style"/>
              </a:rPr>
              <a:t>Типология  профессиональных  позиций  учителей 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Bookman Old Style"/>
              </a:rPr>
              <a:t>(по М. Талену)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Bookman Old Style"/>
              <a:ea typeface="Bookman Old Style"/>
            </a:endParaRPr>
          </a:p>
        </p:txBody>
      </p:sp>
      <p:sp>
        <p:nvSpPr>
          <p:cNvPr id="67" name="Text Box 56"/>
          <p:cNvSpPr/>
          <p:nvPr/>
        </p:nvSpPr>
        <p:spPr>
          <a:xfrm>
            <a:off x="822240" y="102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7"/>
          <p:cNvSpPr/>
          <p:nvPr/>
        </p:nvSpPr>
        <p:spPr>
          <a:xfrm>
            <a:off x="380880" y="990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Georgia"/>
              </a:rPr>
              <a:t>С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8"/>
          <p:cNvSpPr/>
          <p:nvPr/>
        </p:nvSpPr>
        <p:spPr>
          <a:xfrm>
            <a:off x="380880" y="1676520"/>
            <a:ext cx="1676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Georgia"/>
              </a:rPr>
              <a:t>Руково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Georgia"/>
              </a:rPr>
              <a:t>групповой диску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0"/>
          <p:cNvSpPr/>
          <p:nvPr/>
        </p:nvSpPr>
        <p:spPr>
          <a:xfrm>
            <a:off x="533520" y="243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Georgia"/>
              </a:rPr>
              <a:t>Мас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1"/>
          <p:cNvSpPr/>
          <p:nvPr/>
        </p:nvSpPr>
        <p:spPr>
          <a:xfrm>
            <a:off x="609480" y="3200400"/>
            <a:ext cx="11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Georgia"/>
              </a:rPr>
              <a:t>Генер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2"/>
          <p:cNvSpPr/>
          <p:nvPr/>
        </p:nvSpPr>
        <p:spPr>
          <a:xfrm>
            <a:off x="541800" y="39625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Georgia"/>
              </a:rPr>
              <a:t>Менедж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3"/>
          <p:cNvSpPr/>
          <p:nvPr/>
        </p:nvSpPr>
        <p:spPr>
          <a:xfrm>
            <a:off x="543240" y="472428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Georgia"/>
              </a:rPr>
              <a:t>Трен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4"/>
          <p:cNvSpPr/>
          <p:nvPr/>
        </p:nvSpPr>
        <p:spPr>
          <a:xfrm>
            <a:off x="685800" y="5257800"/>
            <a:ext cx="85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Georgia"/>
              </a:rPr>
              <a:t>Г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72"/>
          <p:cNvSpPr txBox="1"/>
          <p:nvPr/>
        </p:nvSpPr>
        <p:spPr>
          <a:xfrm>
            <a:off x="533520" y="6095880"/>
            <a:ext cx="8153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240">
                  <a:solidFill>
                    <a:srgbClr val="0033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Сократ  -  Руководитель групповой дискуссии  -  Мастер  - Генерал  -  Менеджер  -  Тренер  -  Гид</a:t>
            </a:r>
            <a:endParaRPr b="0" lang="en-US" sz="1200" spc="1" strike="noStrike">
              <a:ln w="3240">
                <a:solidFill>
                  <a:srgbClr val="0033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1</cp:lastModifiedBy>
  <dcterms:modified xsi:type="dcterms:W3CDTF">2014-04-21T16:42:5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