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9FCB-333B-4318-9E95-FE03DC41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FB1A-B417-4A96-90D3-4F4F0F9F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1723-5EB0-4462-B453-7D12997C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A066-8C67-467C-834E-2F462AC0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A1B9-9425-4418-9482-D34CFCA1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C1DF-4EAD-486C-9907-8B644A8E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F3A3-A985-4A2E-B5A3-D4FAD138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16F1-EE31-4B37-804F-491FB839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F466-E3BF-4721-A988-B44E56BA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61B8-971C-4C6C-957A-3B64253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8EEA-981D-46CE-8A09-BB2CA35B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1518-21D9-4F40-A84E-2516504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4619-E6C9-4BED-8BD4-0CF2A39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F234-C798-4316-9072-57A32BD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F4AD-911E-4E2E-9D5E-42E75D9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7C46-E345-41D1-B479-32958823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ACEC-9BF1-432F-8FA5-D5F5751D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3CA0-1CAE-4F85-97FF-3C88B02C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39F2-502C-4D64-AC3C-113650F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6228-4BB3-4C09-BC4A-24E53A1D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E9C8-7844-4DFF-BE4F-48D92A3D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1474-1565-4171-8146-214A933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A213-D57E-4F2D-AA8B-15CEF66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37B0-D2B7-4FBC-B6F0-C608E07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B45-4A2C-4674-B08D-C5A1E3547D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F55-04EE-42C6-AFB6-006CF86681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United Kingd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32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presentation student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 class: Kozhokar Dani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ed Kingdom is the island, where there fourth country: England, Scotland, Wales and Northern Ire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occupies the British Isles, which lie off the north-west coast of Europe. The total area of the country is Eng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 borders: Ireland, France, the Netherlands, Belgium, Scandinavian countries(sea borders). The capital of England- London. The largest cities are Birmingham, Glasgow, Liverpool, Manchester, Leeds, Edinburgh, Sheffield, Bealfast, Newcastle, Cardif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ghest peak is Ben Nevis, in the Highland of Scotland 1,343 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ngest river is the Severn 354 kilo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lke is Lough Neagh in Northern Ireland, 382 square kilo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ank you for atten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05:37Z</dcterms:created>
  <dc:creator>Даниил</dc:creator>
  <dc:description/>
  <dc:language>en-US</dc:language>
  <cp:lastModifiedBy>Даниил</cp:lastModifiedBy>
  <dcterms:modified xsi:type="dcterms:W3CDTF">2013-12-09T10:39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