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6EC2-C3FB-4138-994D-2B42DDE6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648-510F-4771-8D7B-30A36C3F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472-E6FB-48E8-8EAC-263741C8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662-4D15-4E15-AEFB-557C8324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56F28-5AC0-4ED3-9B9F-19F8DCAD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1D270-4536-459E-AAE8-BF8ADE4F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DE4CF-7CAA-46ED-87B1-8576E6BA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E691B-32D9-4802-9B0E-B23F2A78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D46DD-689C-4BE1-B63B-2A753700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E5A1A-251C-43C4-A9EF-E4E9D2AA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1E915-7F94-423C-AB2B-0D51F1A6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D6A-738A-4037-BB98-4AC3F318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08D39-5DB9-41E6-A5D7-0061393B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4A959-DBF8-404C-BFB1-5B97DC15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6CDE4-11B7-4D83-8518-42B4051A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FB737-59EB-4047-B119-2611F69A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FA6CF-5CAD-4344-BA26-EB518AD5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0B66-DF46-475D-AC78-8F37287B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502D-21F2-4FAA-9F6A-E7ACCF47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0EDB-79B6-45C8-A1F9-7165EC25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81B-034A-4DEB-9AC1-2E9AE911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9DD-9644-4C87-BEB4-F987FE73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A18E-8547-443C-826A-6FEE71AB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78FF-AFE0-4E5F-A60E-0D6B183A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8207-BE78-4208-9E10-BDB647F907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3E31-FC9C-4707-821B-18C730FD4A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Водоёмы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Океан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                            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Водохранилищ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Р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                                    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Озер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Болото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                                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Канал                                                     Ручей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                           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Пру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                                               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Мо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Водоемы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6840" y="1905120"/>
            <a:ext cx="404028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6461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Искусствен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Пру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Водохранилищ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Кан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41054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Естествен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Оке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Море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Река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Руч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Болот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Озер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Кар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321440" cy="3914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646520" y="1844640"/>
            <a:ext cx="4318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Правила пользования водоёма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741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Части реки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39640" y="1341360"/>
            <a:ext cx="813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Части ре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Исто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Усть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Русл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Берег (правый, левый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Приток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(правый, левый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Дополни предлож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Река, ручей, _____, ______, _____, _______ - это водоё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Начало реки – это _______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Место, где река впадает в другую реку (озеро или море) – это _______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Другие реки и ручьи впадающие в реку называются _______________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12:25:01Z</dcterms:created>
  <dc:creator>КомStar Service</dc:creator>
  <dc:description/>
  <dc:language>en-US</dc:language>
  <cp:lastModifiedBy>секретарь</cp:lastModifiedBy>
  <dcterms:modified xsi:type="dcterms:W3CDTF">2007-04-02T02:55:05Z</dcterms:modified>
  <cp:revision>23</cp:revision>
  <dc:subject/>
  <dc:title>Слайд 1</dc:title>
</cp:coreProperties>
</file>