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E6C-88C6-40A5-9662-1B64E427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3E9-BE80-4F36-B304-10FF921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2C0-5147-4498-9FEE-8202D252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8DF-9C67-4959-B845-CFB54D5A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14A-0BD0-4DE3-A044-1F5D8F9D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232-5234-4233-9F90-1C1F37C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D5E-A286-46F7-8092-40D60A9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EE5-7C0D-4C2B-BF49-4C6FA76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43A-5925-415D-AEF4-9FAE4D9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38B-B082-4516-9DEC-C947CC27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98F-4F71-43C7-A122-EC5EC70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4BE-2C98-40B8-8D3B-55B169A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4281-72AF-496E-B0E0-128E0C84A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. Невинномысск @ Киктенко Н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927000" y="1189080"/>
            <a:ext cx="7577280" cy="3548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71500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b23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1690560" cy="169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2500200" y="4572000"/>
            <a:ext cx="2000520" cy="1884240"/>
          </a:xfrm>
          <a:prstGeom prst="rect">
            <a:avLst/>
          </a:prstGeom>
          <a:ln w="0">
            <a:noFill/>
          </a:ln>
        </p:spPr>
      </p:pic>
      <p:sp>
        <p:nvSpPr>
          <p:cNvPr id="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233-8EF0-485F-A7A3-0638A481BEA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. Невинномысск @ Киктенко Н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20617800">
            <a:off x="56880" y="340920"/>
            <a:ext cx="4314600" cy="254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4"/>
          <a:stretch/>
        </p:blipFill>
        <p:spPr>
          <a:xfrm>
            <a:off x="6215040" y="857160"/>
            <a:ext cx="1482840" cy="149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5"/>
          <a:stretch/>
        </p:blipFill>
        <p:spPr>
          <a:xfrm>
            <a:off x="5072040" y="928800"/>
            <a:ext cx="1000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6"/>
          <a:stretch/>
        </p:blipFill>
        <p:spPr>
          <a:xfrm>
            <a:off x="6858000" y="2357280"/>
            <a:ext cx="1785960" cy="177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7"/>
          <a:stretch/>
        </p:blipFill>
        <p:spPr>
          <a:xfrm>
            <a:off x="564372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8"/>
          <a:stretch/>
        </p:blipFill>
        <p:spPr>
          <a:xfrm>
            <a:off x="214200" y="5138640"/>
            <a:ext cx="1357560" cy="137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"/>
          <p:cNvPicPr/>
          <p:nvPr/>
        </p:nvPicPr>
        <p:blipFill>
          <a:blip r:embed="rId9"/>
          <a:srcRect l="2786" t="9557" r="8329" b="14011"/>
          <a:stretch/>
        </p:blipFill>
        <p:spPr>
          <a:xfrm>
            <a:off x="4643280" y="4143240"/>
            <a:ext cx="42865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867280" y="11592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КУПЮ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066589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icture"/>
          <p:cNvPicPr/>
          <p:nvPr/>
        </p:nvPicPr>
        <p:blipFill>
          <a:blip r:embed="rId2"/>
          <a:stretch/>
        </p:blipFill>
        <p:spPr>
          <a:xfrm>
            <a:off x="5796000" y="1484280"/>
            <a:ext cx="334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0" y="4287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4429080" y="2357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435780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14324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67150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57120" y="1143000"/>
          <a:ext cx="8358120" cy="493236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13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тетра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каранда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ру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435780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44290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442908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1718280" y="214200"/>
            <a:ext cx="58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наклейка стоит 5 рублей. Сколько  стоят 3 таких наклей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5 рублей стоят накл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19200" y="3738600"/>
            <a:ext cx="134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веча  стоит 3 рубля. Сколько  стоят 8 таких свеч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24 рубля стоят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31:36Z</dcterms:created>
  <dc:creator>соо</dc:creator>
  <dc:description/>
  <dc:language>en-US</dc:language>
  <cp:lastModifiedBy>Елена Анатольевна</cp:lastModifiedBy>
  <dcterms:modified xsi:type="dcterms:W3CDTF">2015-01-24T10:17:39Z</dcterms:modified>
  <cp:revision>8</cp:revision>
  <dc:subject/>
  <dc:title>Слайд 1</dc:title>
</cp:coreProperties>
</file>