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gif" ContentType="image/gif"/>
  <Override PartName="/ppt/media/image20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24F1-7D56-4886-BF7B-7D739E0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4C7F-365B-4CBC-A94F-053036F6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49AC-0A60-4BB7-BEA1-88B6DE93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DA6D-7C19-45A5-9AD1-B62396E5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3F2-C09F-49ED-AE4D-74634436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D2CE-0782-4426-860D-BF318C9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80D-8A42-4275-9035-8B267B93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A21-3B70-4FD4-BB2B-716527B5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126-3D1E-4B1F-9B4C-DD0B2102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A3E0-BF7B-4DA9-89FF-B90EF6DE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BEE2-1F32-453F-A7E8-AD04C9D5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EDD5-430F-4CF8-910E-BCEDB82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7B00-E7A5-4F01-83A7-33F17EB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5639-705E-4B8C-BC3A-39F3D95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17DF-C827-4E1C-9269-D0CBF0B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273-85F7-4A16-81A8-ACA828E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1D74-2B14-4D10-AF49-1C0EE086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381C-D87B-4536-9298-DD8B005A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DD0C-B82A-45AF-904F-D9DF01C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112A-82F2-4693-8DCE-9FEA642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3DEF-2592-41B9-A097-EBA2FD48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7DE3-D0E1-40D6-BB2D-DBA61AD5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6100-A00A-464B-B68B-D84EA9A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F488-2773-41A0-9AAF-91F3C2A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AE9E-5355-4F9E-B1D3-CAB13B33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8600"/>
              <a:chOff x="1125720" y="1219320"/>
              <a:chExt cx="86472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5680"/>
              <a:ext cx="7314840" cy="4096080"/>
              <a:chOff x="915120" y="1435680"/>
              <a:chExt cx="7314840" cy="40960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5680"/>
                <a:ext cx="7294680" cy="820440"/>
                <a:chOff x="915120" y="143568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5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61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5280" y="2520000"/>
                <a:ext cx="7294680" cy="820440"/>
                <a:chOff x="935280" y="2520000"/>
                <a:chExt cx="729468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5280" y="2520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10160" y="2794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120" y="3065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520" y="3340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7000"/>
                <a:ext cx="7294680" cy="820440"/>
                <a:chOff x="915120" y="362700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7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9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5280" y="4710240"/>
                <a:ext cx="7294680" cy="821520"/>
                <a:chOff x="935280" y="4710240"/>
                <a:chExt cx="7294680" cy="82152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5280" y="4710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10160" y="49852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120" y="52567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520" y="5531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000" y="1243080"/>
              <a:ext cx="864720" cy="4547520"/>
              <a:chOff x="229500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0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200" y="1243080"/>
              <a:ext cx="864720" cy="4547520"/>
              <a:chOff x="348120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4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5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040" y="1243080"/>
              <a:ext cx="864720" cy="4547520"/>
              <a:chOff x="466704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0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5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19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17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920" y="1243080"/>
              <a:ext cx="862920" cy="4547520"/>
              <a:chOff x="580392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84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6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3840" y="1243080"/>
              <a:ext cx="864720" cy="4547520"/>
              <a:chOff x="696384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21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87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8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61F-C7C3-40D6-95F5-939E8BD6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униципальное 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3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одительское собр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Поощрение и наказ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бенка в семь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H:\ШШККООЛЛАА\ШШШКККОООЛЛЛААА\анимации Гаряева\1056.gif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Documents and Settings\Вадим\Мои документы\Ребенок.jpeg"/>
          <p:cNvPicPr/>
          <p:nvPr/>
        </p:nvPicPr>
        <p:blipFill>
          <a:blip r:embed="rId3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01_05_00"/>
          <p:cNvPicPr/>
          <p:nvPr/>
        </p:nvPicPr>
        <p:blipFill>
          <a:blip r:embed="rId2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Documents and Settings\Вадим\Мои документы\Родители1.jpeg"/>
          <p:cNvPicPr/>
          <p:nvPr/>
        </p:nvPicPr>
        <p:blipFill>
          <a:blip r:embed="rId2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МНЕНИЕ РОДИТЕЛЕЙ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en-US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Вадим\Мои документы\Дети и родители12.jpeg"/>
          <p:cNvPicPr/>
          <p:nvPr/>
        </p:nvPicPr>
        <p:blipFill>
          <a:blip r:embed="rId2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0" lang="en-US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9588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Вадим\Мои документы\Ученик7.jpeg"/>
          <p:cNvPicPr/>
          <p:nvPr/>
        </p:nvPicPr>
        <p:blipFill>
          <a:blip r:embed="rId2"/>
          <a:stretch/>
        </p:blipFill>
        <p:spPr>
          <a:xfrm>
            <a:off x="3048120" y="2819520"/>
            <a:ext cx="2819160" cy="331920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«ПООЩ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  НАКАЗАНИЕ РЕБЁ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 СЕМ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Вадим\Мои документы\Дети и родители 11.jpeg"/>
          <p:cNvPicPr/>
          <p:nvPr/>
        </p:nvPicPr>
        <p:blipFill>
          <a:blip r:embed="rId2"/>
          <a:stretch/>
        </p:blipFill>
        <p:spPr>
          <a:xfrm>
            <a:off x="6151680" y="3581280"/>
            <a:ext cx="2077920" cy="217980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аказание и поощрение как основные методы воспитания, преследуют конечную цель - благо ребенк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:\Documents and Settings\Вадим\Мои документы\Дети и родители 9.jpeg"/>
          <p:cNvPicPr/>
          <p:nvPr/>
        </p:nvPicPr>
        <p:blipFill>
          <a:blip r:embed="rId2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171" name="Picture 5" descr="C:\Documents and Settings\Вадим\Мои документы\Дети и родители 10.jpeg"/>
          <p:cNvPicPr/>
          <p:nvPr/>
        </p:nvPicPr>
        <p:blipFill>
          <a:blip r:embed="rId3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172" name="Picture 6" descr="C:\Documents and Settings\Вадим\Мои документы\Дети и родители 5.jpeg"/>
          <p:cNvPicPr/>
          <p:nvPr/>
        </p:nvPicPr>
        <p:blipFill>
          <a:blip r:embed="rId4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H:\ШШККООЛЛАА\ШШШКККОООЛЛЛААА\анимации Гаряева\смайлики\cache_343148613.gif"/>
          <p:cNvPicPr/>
          <p:nvPr/>
        </p:nvPicPr>
        <p:blipFill>
          <a:blip r:embed="rId2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Documents and Settings\Вадим\Мои документы\Учащиеся.jpeg"/>
          <p:cNvPicPr/>
          <p:nvPr/>
        </p:nvPicPr>
        <p:blipFill>
          <a:blip r:embed="rId3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C:\Documents and Settings\Вадим\Мои документы\Дети и родители.jpeg"/>
          <p:cNvPicPr/>
          <p:nvPr/>
        </p:nvPicPr>
        <p:blipFill>
          <a:blip r:embed="rId2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Documents and Settings\Вадим\Мои документы\Дети и родители 6.jpeg"/>
          <p:cNvPicPr/>
          <p:nvPr/>
        </p:nvPicPr>
        <p:blipFill>
          <a:blip r:embed="rId3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Вадим\Мои документы\Дети и родители 4.jpeg"/>
          <p:cNvPicPr/>
          <p:nvPr/>
        </p:nvPicPr>
        <p:blipFill>
          <a:blip r:embed="rId4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C:\Documents and Settings\Вадим\Мои документы\Девочка.jpeg"/>
          <p:cNvPicPr/>
          <p:nvPr/>
        </p:nvPicPr>
        <p:blipFill>
          <a:blip r:embed="rId2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H:\ШШККООЛЛАА\ШШШКККОООЛЛЛААА\анимации Гаряева\05.gif"/>
          <p:cNvPicPr/>
          <p:nvPr/>
        </p:nvPicPr>
        <p:blipFill>
          <a:blip r:embed="rId2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Documents and Settings\Вадим\Мои документы\Ученик6.jpeg"/>
          <p:cNvPicPr/>
          <p:nvPr/>
        </p:nvPicPr>
        <p:blipFill>
          <a:blip r:embed="rId2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ШШККООЛЛАА\ШШШКККОООЛЛЛААА\анимации Гаряева\смайлики\6417892.gif"/>
          <p:cNvPicPr/>
          <p:nvPr/>
        </p:nvPicPr>
        <p:blipFill>
          <a:blip r:embed="rId3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Documents and Settings\Вадим\Мои документы\Ученик3.jpeg"/>
          <p:cNvPicPr/>
          <p:nvPr/>
        </p:nvPicPr>
        <p:blipFill>
          <a:blip r:embed="rId4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:\Documents and Settings\Вадим\Мои документы\Дети и родители2.jpeg"/>
          <p:cNvPicPr/>
          <p:nvPr/>
        </p:nvPicPr>
        <p:blipFill>
          <a:blip r:embed="rId2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Елена Валерьевна</cp:lastModifiedBy>
  <dcterms:modified xsi:type="dcterms:W3CDTF">2011-04-13T09:14:39Z</dcterms:modified>
  <cp:revision>6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