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07A8-C137-414F-91E3-18C528FAD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6295-53B1-4FD7-B740-E71BC6F6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E2FF-CD81-4A3E-A62B-8C8FD0673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4A8B-E010-4574-B908-9EFA81E39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937C-0C3D-49B9-B178-87D7D98E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7BE4-B73E-4090-A869-71F893C7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8203-C898-4CB1-A0F6-80012CC4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FECD-5F5D-4F98-A1E7-574E55B3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96EB-F628-4AB0-9009-D2B575F7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C895-52C4-4F41-9BA9-D7372DF0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AC22-24C5-4224-B833-33D0E93A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939D-EE6E-4246-A5A1-8BA1411A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DA00-2F01-455E-B910-1EE9000DC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95640" y="549360"/>
            <a:ext cx="48765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одительское собра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08000" y="2852640"/>
            <a:ext cx="540072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чему мы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бываем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093080" y="4797360"/>
            <a:ext cx="1834920" cy="1835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36600" y="4653000"/>
            <a:ext cx="161136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Причин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достаточная концентрация вним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соблюдение основных законов памя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ложность самой информации для запоминания и её плохая организ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лабо развития природная пам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218360" y="549360"/>
            <a:ext cx="16192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Что может помешать сконцентрировать внимани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вы спеш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вас отвлек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нешние помех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вы прерываете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вы уст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лохое самочув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вы очень возбужд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ходитесь под воздействием какого-нибудь чув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12000" y="1628640"/>
            <a:ext cx="233208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5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5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85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5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25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45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2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Что может помешать сконцентрировать внимани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расстро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испытываете волнение, страх, трево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то-то оказывает на вас д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карственные препар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торонние мыс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сутствие интереса к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понимание смысла этой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сутствие навыка сознательно концентрировать в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972480" y="4437000"/>
            <a:ext cx="179208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65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85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2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Законы памя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кон интере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кон мотив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кон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кон понимания и осмыс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кон настроек и устано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кон предшествующих 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кон взаимовлияния следов памя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кон временного сло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кон тематического сло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552320" cy="1863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224840" y="4581360"/>
            <a:ext cx="1612800" cy="19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650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50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2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4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2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65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20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332000" y="907920"/>
            <a:ext cx="6624720" cy="315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 внимани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419640" y="4149720"/>
            <a:ext cx="26636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06:29:49Z</dcterms:created>
  <dc:creator>Светлана</dc:creator>
  <dc:description/>
  <dc:language>en-US</dc:language>
  <cp:lastModifiedBy>Светлана</cp:lastModifiedBy>
  <dcterms:modified xsi:type="dcterms:W3CDTF">2010-10-20T06:58:34Z</dcterms:modified>
  <cp:revision>3</cp:revision>
  <dc:subject/>
  <dc:title>Слайд 1</dc:title>
</cp:coreProperties>
</file>