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8944-606E-4717-AB23-9309251F0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3154-0E38-49EA-A34D-E36F196A3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706F-CD33-42DB-8686-864E6C08C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056E-51FF-496B-B99C-B23688F94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4CF17-F12A-4026-8E37-63C74C5C2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8AF15-6743-4936-9797-760C28166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7E57E-A47D-4781-B0DD-072D88036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ECC89-4E26-4098-8BEC-A41F3C34B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44014-266C-4D43-920F-91E9196A7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DC375-FBDD-4418-B05B-347FC4C04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E50CB-CF4C-4C81-847D-B2FA665E6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BED4-0673-43F7-AA21-981745B71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CE77D-582C-47FD-86B2-C106528BE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32932-4219-4985-8BC1-C0EA1722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8B960-FB23-49A8-ACFD-A93C670CC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4182D-D790-496D-8359-07B9DD459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4063F-B6DA-4AB4-B73D-C9CA88BCF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CFCE-37C8-42F4-A03C-3FF4C0D89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2648-B482-474D-A465-7D99D6936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5564-2971-4E30-94D9-F9DC09730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851B-99B5-4E36-9967-3B2033ED2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70F8-ED5E-43EB-A142-9595B4D3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69BA-D5E6-482C-89C2-39C13CECA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5489-8078-449C-B043-C0AC97E8E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1acfe8598629.png"/>
          <p:cNvPicPr/>
          <p:nvPr/>
        </p:nvPicPr>
        <p:blipFill>
          <a:blip r:embed="rId3"/>
          <a:srcRect l="59381" t="3123" r="5207" b="64588"/>
          <a:stretch/>
        </p:blipFill>
        <p:spPr>
          <a:xfrm>
            <a:off x="6500880" y="4643280"/>
            <a:ext cx="2428920" cy="2214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A533A-88E0-4850-B9DF-512E064EEDF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B8A0C-EF5C-446D-B870-82C9BF0C4AA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1T15:03:37Z</dcterms:created>
  <dc:creator>Helen</dc:creator>
  <dc:description/>
  <dc:language>en-US</dc:language>
  <cp:lastModifiedBy>Helen</cp:lastModifiedBy>
  <dcterms:modified xsi:type="dcterms:W3CDTF">2011-10-11T15:16:04Z</dcterms:modified>
  <cp:revision>2</cp:revision>
  <dc:subject/>
  <dc:title>Слайд 1</dc:title>
</cp:coreProperties>
</file>