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4DE-58E9-44BA-AF8A-7F99C5A3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727-7D37-47C1-AD3D-8BCCA2E8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456-C4FE-48D1-A14D-35F4870F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7BF-DBB8-4642-9FC3-4FD8EE6B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AD28-ABC9-4D3B-B629-9EFB800D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A012-F1E6-4D12-BF3D-A7970191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9B6E-F971-4B51-A9EC-7BFDE9E4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CEFD-8B25-4405-80AC-C75A97C0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D105-17B3-4966-A7AA-D2970D0A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42FD-78A2-4593-8E34-1E79240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C8F9-0274-474C-A194-F5A5DA3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134-7D71-4E4E-AC17-6CC0FE0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A8E5-83AD-4600-B293-B67188E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D95-2E5D-4368-9A74-5C6A725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D16-F771-4212-B3A9-B58F6D91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F1A-7EBF-4626-9415-023605CB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2871-D121-462D-AA1E-7C1CD3A7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BC8-CD61-4AC8-9E27-AAB4D4C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E83-F815-490C-A26A-2C134B7A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2DB-FE0D-48F4-97D3-976C818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99B-0A5C-4070-9A57-60A53840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0CE-EE02-46E7-AF2E-9DCD5E4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A7C-A3D5-4EFC-9E35-9798CFB2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95D-3E73-41FC-B9F5-6FAE52A4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A778-5FB9-4204-B91B-6C77301E09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D:\фоны и шаблоны\1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D:\фоны и шаблоны\6285d6e6b2da.jpg"/>
          <p:cNvPicPr/>
          <p:nvPr/>
        </p:nvPicPr>
        <p:blipFill>
          <a:blip r:embed="rId3"/>
          <a:srcRect l="0" t="0" r="90630" b="0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D:\фоны и шаблоны\1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D:\фоны и шаблоны\6285d6e6b2da.jpg"/>
          <p:cNvPicPr/>
          <p:nvPr/>
        </p:nvPicPr>
        <p:blipFill>
          <a:blip r:embed="rId3"/>
          <a:srcRect l="0" t="0" r="90630" b="0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фоны и шаблоны\6285d6e6b2d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82A1-86D9-4C6A-8FB3-376987947F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6:40:25Z</dcterms:created>
  <dc:creator>Helen</dc:creator>
  <dc:description/>
  <dc:language>en-US</dc:language>
  <cp:lastModifiedBy>Helen</cp:lastModifiedBy>
  <dcterms:modified xsi:type="dcterms:W3CDTF">2012-04-18T16:52:55Z</dcterms:modified>
  <cp:revision>4</cp:revision>
  <dc:subject/>
  <dc:title>Слайд 1</dc:title>
</cp:coreProperties>
</file>