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DE3A-CCB1-4E35-A10A-58CB0067B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358D-2CD1-4AA5-A2AB-42ACEBAFD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E141-C8D0-495F-926A-A07836D2C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2E4-9D08-4EEC-952A-B67B0D42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333-29C8-404D-8A40-E42785AE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371-E9DA-4628-A88E-4E74202E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22D-74DB-49D7-A6C9-589D3DF4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566-8D6C-4F63-862C-A430F4ED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9F7-0788-4406-8105-E1C0D918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073-AE7F-4AEC-A213-3B8D2F08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B11-3FEA-4A3C-AACC-6D4E2F5E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1A5-4416-44DD-95BC-72CAB486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A7A-F200-4BB8-9EDB-2344FA2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C11-A86A-46CD-B05F-46956D0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456-353B-470A-B9F0-18D9AEDD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2DF4-2849-464B-88CA-CDFEDF76E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990720"/>
            <a:ext cx="7848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лгебра 7 клас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457200" y="2133720"/>
            <a:ext cx="833112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енефис линейной функц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763640" y="5373720"/>
            <a:ext cx="5678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урок-игра 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оставьте уравнения прямых, изображенных на этих рисунка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81160" y="4508640"/>
            <a:ext cx="2203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1.у = 2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slide0093_image192"/>
          <p:cNvPicPr/>
          <p:nvPr/>
        </p:nvPicPr>
        <p:blipFill>
          <a:blip r:embed="rId1"/>
          <a:stretch/>
        </p:blipFill>
        <p:spPr>
          <a:xfrm>
            <a:off x="3728880" y="3141720"/>
            <a:ext cx="1684440" cy="2089080"/>
          </a:xfrm>
          <a:prstGeom prst="rect">
            <a:avLst/>
          </a:prstGeom>
          <a:ln w="0">
            <a:noFill/>
          </a:ln>
        </p:spPr>
      </p:pic>
      <p:sp>
        <p:nvSpPr>
          <p:cNvPr id="189" name="WordArt 5"/>
          <p:cNvSpPr txBox="1"/>
          <p:nvPr/>
        </p:nvSpPr>
        <p:spPr>
          <a:xfrm>
            <a:off x="1908000" y="115920"/>
            <a:ext cx="51818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0" name="Group 6"/>
          <p:cNvGrpSpPr/>
          <p:nvPr/>
        </p:nvGrpSpPr>
        <p:grpSpPr>
          <a:xfrm>
            <a:off x="324000" y="1760400"/>
            <a:ext cx="3244680" cy="2467080"/>
            <a:chOff x="324000" y="1760400"/>
            <a:chExt cx="3244680" cy="2467080"/>
          </a:xfrm>
        </p:grpSpPr>
        <p:sp>
          <p:nvSpPr>
            <p:cNvPr id="191" name="Line 7"/>
            <p:cNvSpPr/>
            <p:nvPr/>
          </p:nvSpPr>
          <p:spPr>
            <a:xfrm>
              <a:off x="324000" y="3402000"/>
              <a:ext cx="3168360" cy="2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1674720" y="1887480"/>
              <a:ext cx="0" cy="23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>
              <a:off x="730080" y="324000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2895480" y="3408480"/>
              <a:ext cx="4525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2651040" y="3397320"/>
              <a:ext cx="281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2370240" y="3395520"/>
              <a:ext cx="2826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2068560" y="3384720"/>
              <a:ext cx="2826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4"/>
            <p:cNvSpPr/>
            <p:nvPr/>
          </p:nvSpPr>
          <p:spPr>
            <a:xfrm>
              <a:off x="1812960" y="3395520"/>
              <a:ext cx="2808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5"/>
            <p:cNvSpPr/>
            <p:nvPr/>
          </p:nvSpPr>
          <p:spPr>
            <a:xfrm>
              <a:off x="1406520" y="176040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6"/>
            <p:cNvSpPr/>
            <p:nvPr/>
          </p:nvSpPr>
          <p:spPr>
            <a:xfrm>
              <a:off x="3287880" y="336708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7"/>
            <p:cNvSpPr/>
            <p:nvPr/>
          </p:nvSpPr>
          <p:spPr>
            <a:xfrm>
              <a:off x="896760" y="3384720"/>
              <a:ext cx="4194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8"/>
            <p:cNvSpPr/>
            <p:nvPr/>
          </p:nvSpPr>
          <p:spPr>
            <a:xfrm>
              <a:off x="1198440" y="3384720"/>
              <a:ext cx="4194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9"/>
            <p:cNvSpPr/>
            <p:nvPr/>
          </p:nvSpPr>
          <p:spPr>
            <a:xfrm>
              <a:off x="1614600" y="212724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0"/>
            <p:cNvSpPr/>
            <p:nvPr/>
          </p:nvSpPr>
          <p:spPr>
            <a:xfrm>
              <a:off x="1614600" y="240336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1"/>
            <p:cNvSpPr/>
            <p:nvPr/>
          </p:nvSpPr>
          <p:spPr>
            <a:xfrm>
              <a:off x="1616040" y="2689200"/>
              <a:ext cx="281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2"/>
            <p:cNvSpPr/>
            <p:nvPr/>
          </p:nvSpPr>
          <p:spPr>
            <a:xfrm>
              <a:off x="1627200" y="295416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3"/>
            <p:cNvSpPr/>
            <p:nvPr/>
          </p:nvSpPr>
          <p:spPr>
            <a:xfrm>
              <a:off x="1276200" y="3251160"/>
              <a:ext cx="281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4"/>
            <p:cNvSpPr/>
            <p:nvPr/>
          </p:nvSpPr>
          <p:spPr>
            <a:xfrm>
              <a:off x="998640" y="324000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5"/>
            <p:cNvSpPr/>
            <p:nvPr/>
          </p:nvSpPr>
          <p:spPr>
            <a:xfrm>
              <a:off x="439560" y="3252960"/>
              <a:ext cx="2811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6"/>
            <p:cNvSpPr/>
            <p:nvPr/>
          </p:nvSpPr>
          <p:spPr>
            <a:xfrm>
              <a:off x="2117880" y="3240000"/>
              <a:ext cx="2808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7"/>
            <p:cNvSpPr/>
            <p:nvPr/>
          </p:nvSpPr>
          <p:spPr>
            <a:xfrm>
              <a:off x="1592280" y="3755880"/>
              <a:ext cx="420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8"/>
            <p:cNvSpPr/>
            <p:nvPr/>
          </p:nvSpPr>
          <p:spPr>
            <a:xfrm>
              <a:off x="1603440" y="3481560"/>
              <a:ext cx="420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9"/>
            <p:cNvSpPr/>
            <p:nvPr/>
          </p:nvSpPr>
          <p:spPr>
            <a:xfrm>
              <a:off x="361800" y="3397320"/>
              <a:ext cx="420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8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0"/>
            <p:cNvSpPr/>
            <p:nvPr/>
          </p:nvSpPr>
          <p:spPr>
            <a:xfrm>
              <a:off x="628560" y="3395520"/>
              <a:ext cx="420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1"/>
            <p:cNvSpPr/>
            <p:nvPr/>
          </p:nvSpPr>
          <p:spPr>
            <a:xfrm>
              <a:off x="2417760" y="3287880"/>
              <a:ext cx="281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2"/>
            <p:cNvSpPr/>
            <p:nvPr/>
          </p:nvSpPr>
          <p:spPr>
            <a:xfrm>
              <a:off x="2697120" y="3265560"/>
              <a:ext cx="281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3"/>
            <p:cNvSpPr/>
            <p:nvPr/>
          </p:nvSpPr>
          <p:spPr>
            <a:xfrm>
              <a:off x="2954160" y="3240000"/>
              <a:ext cx="177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34"/>
            <p:cNvSpPr/>
            <p:nvPr/>
          </p:nvSpPr>
          <p:spPr>
            <a:xfrm>
              <a:off x="1535040" y="3492360"/>
              <a:ext cx="2811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35"/>
            <p:cNvSpPr/>
            <p:nvPr/>
          </p:nvSpPr>
          <p:spPr>
            <a:xfrm>
              <a:off x="1535040" y="376884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6"/>
            <p:cNvSpPr/>
            <p:nvPr/>
          </p:nvSpPr>
          <p:spPr>
            <a:xfrm>
              <a:off x="1535040" y="210492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7"/>
            <p:cNvSpPr/>
            <p:nvPr/>
          </p:nvSpPr>
          <p:spPr>
            <a:xfrm>
              <a:off x="1849320" y="3267000"/>
              <a:ext cx="2016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8"/>
            <p:cNvSpPr/>
            <p:nvPr/>
          </p:nvSpPr>
          <p:spPr>
            <a:xfrm>
              <a:off x="1535040" y="240336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9"/>
            <p:cNvSpPr/>
            <p:nvPr/>
          </p:nvSpPr>
          <p:spPr>
            <a:xfrm>
              <a:off x="1535040" y="267804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0"/>
            <p:cNvSpPr/>
            <p:nvPr/>
          </p:nvSpPr>
          <p:spPr>
            <a:xfrm>
              <a:off x="1535040" y="295416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1"/>
            <p:cNvSpPr/>
            <p:nvPr/>
          </p:nvSpPr>
          <p:spPr>
            <a:xfrm flipH="1">
              <a:off x="884160" y="2293920"/>
              <a:ext cx="1527120" cy="160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42"/>
          <p:cNvGrpSpPr/>
          <p:nvPr/>
        </p:nvGrpSpPr>
        <p:grpSpPr>
          <a:xfrm>
            <a:off x="5567400" y="1770120"/>
            <a:ext cx="3244680" cy="2467080"/>
            <a:chOff x="5567400" y="1770120"/>
            <a:chExt cx="3244680" cy="2467080"/>
          </a:xfrm>
        </p:grpSpPr>
        <p:sp>
          <p:nvSpPr>
            <p:cNvPr id="227" name="Line 43"/>
            <p:cNvSpPr/>
            <p:nvPr/>
          </p:nvSpPr>
          <p:spPr>
            <a:xfrm>
              <a:off x="5567400" y="3411360"/>
              <a:ext cx="3168720" cy="2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4"/>
            <p:cNvSpPr/>
            <p:nvPr/>
          </p:nvSpPr>
          <p:spPr>
            <a:xfrm flipV="1">
              <a:off x="6918480" y="1897200"/>
              <a:ext cx="0" cy="23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45"/>
            <p:cNvSpPr/>
            <p:nvPr/>
          </p:nvSpPr>
          <p:spPr>
            <a:xfrm>
              <a:off x="5973840" y="324972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8139240" y="3417840"/>
              <a:ext cx="452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7"/>
            <p:cNvSpPr/>
            <p:nvPr/>
          </p:nvSpPr>
          <p:spPr>
            <a:xfrm>
              <a:off x="7894800" y="3406680"/>
              <a:ext cx="2808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8"/>
            <p:cNvSpPr/>
            <p:nvPr/>
          </p:nvSpPr>
          <p:spPr>
            <a:xfrm>
              <a:off x="7613640" y="3405240"/>
              <a:ext cx="2826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9"/>
            <p:cNvSpPr/>
            <p:nvPr/>
          </p:nvSpPr>
          <p:spPr>
            <a:xfrm>
              <a:off x="7311960" y="3394080"/>
              <a:ext cx="2826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50"/>
            <p:cNvSpPr/>
            <p:nvPr/>
          </p:nvSpPr>
          <p:spPr>
            <a:xfrm>
              <a:off x="7056360" y="3405240"/>
              <a:ext cx="281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1"/>
            <p:cNvSpPr/>
            <p:nvPr/>
          </p:nvSpPr>
          <p:spPr>
            <a:xfrm>
              <a:off x="6649920" y="177012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52"/>
            <p:cNvSpPr/>
            <p:nvPr/>
          </p:nvSpPr>
          <p:spPr>
            <a:xfrm>
              <a:off x="8531280" y="337644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3"/>
            <p:cNvSpPr/>
            <p:nvPr/>
          </p:nvSpPr>
          <p:spPr>
            <a:xfrm>
              <a:off x="6140520" y="3394080"/>
              <a:ext cx="4190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4"/>
            <p:cNvSpPr/>
            <p:nvPr/>
          </p:nvSpPr>
          <p:spPr>
            <a:xfrm>
              <a:off x="6442200" y="3394080"/>
              <a:ext cx="4190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5"/>
            <p:cNvSpPr/>
            <p:nvPr/>
          </p:nvSpPr>
          <p:spPr>
            <a:xfrm>
              <a:off x="6858000" y="213660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6"/>
            <p:cNvSpPr/>
            <p:nvPr/>
          </p:nvSpPr>
          <p:spPr>
            <a:xfrm>
              <a:off x="6858000" y="241308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7"/>
            <p:cNvSpPr/>
            <p:nvPr/>
          </p:nvSpPr>
          <p:spPr>
            <a:xfrm>
              <a:off x="6859440" y="2698920"/>
              <a:ext cx="281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58"/>
            <p:cNvSpPr/>
            <p:nvPr/>
          </p:nvSpPr>
          <p:spPr>
            <a:xfrm>
              <a:off x="6870600" y="296388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59"/>
            <p:cNvSpPr/>
            <p:nvPr/>
          </p:nvSpPr>
          <p:spPr>
            <a:xfrm>
              <a:off x="6519960" y="3260880"/>
              <a:ext cx="2808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0"/>
            <p:cNvSpPr/>
            <p:nvPr/>
          </p:nvSpPr>
          <p:spPr>
            <a:xfrm>
              <a:off x="6242040" y="324972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1"/>
            <p:cNvSpPr/>
            <p:nvPr/>
          </p:nvSpPr>
          <p:spPr>
            <a:xfrm>
              <a:off x="5683320" y="326232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62"/>
            <p:cNvSpPr/>
            <p:nvPr/>
          </p:nvSpPr>
          <p:spPr>
            <a:xfrm>
              <a:off x="7361280" y="3249720"/>
              <a:ext cx="2808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63"/>
            <p:cNvSpPr/>
            <p:nvPr/>
          </p:nvSpPr>
          <p:spPr>
            <a:xfrm>
              <a:off x="6835680" y="3765600"/>
              <a:ext cx="420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4"/>
            <p:cNvSpPr/>
            <p:nvPr/>
          </p:nvSpPr>
          <p:spPr>
            <a:xfrm>
              <a:off x="6846840" y="3490920"/>
              <a:ext cx="420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5"/>
            <p:cNvSpPr/>
            <p:nvPr/>
          </p:nvSpPr>
          <p:spPr>
            <a:xfrm>
              <a:off x="5605560" y="3406680"/>
              <a:ext cx="4204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8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6"/>
            <p:cNvSpPr/>
            <p:nvPr/>
          </p:nvSpPr>
          <p:spPr>
            <a:xfrm>
              <a:off x="5872320" y="3405240"/>
              <a:ext cx="4204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7"/>
            <p:cNvSpPr/>
            <p:nvPr/>
          </p:nvSpPr>
          <p:spPr>
            <a:xfrm>
              <a:off x="7661160" y="3297240"/>
              <a:ext cx="281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68"/>
            <p:cNvSpPr/>
            <p:nvPr/>
          </p:nvSpPr>
          <p:spPr>
            <a:xfrm>
              <a:off x="7940520" y="3274920"/>
              <a:ext cx="2811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9"/>
            <p:cNvSpPr/>
            <p:nvPr/>
          </p:nvSpPr>
          <p:spPr>
            <a:xfrm>
              <a:off x="8197920" y="3249720"/>
              <a:ext cx="177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0"/>
            <p:cNvSpPr/>
            <p:nvPr/>
          </p:nvSpPr>
          <p:spPr>
            <a:xfrm>
              <a:off x="6778800" y="3502080"/>
              <a:ext cx="2808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71"/>
            <p:cNvSpPr/>
            <p:nvPr/>
          </p:nvSpPr>
          <p:spPr>
            <a:xfrm>
              <a:off x="6778800" y="377820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72"/>
            <p:cNvSpPr/>
            <p:nvPr/>
          </p:nvSpPr>
          <p:spPr>
            <a:xfrm>
              <a:off x="6778800" y="211464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73"/>
            <p:cNvSpPr/>
            <p:nvPr/>
          </p:nvSpPr>
          <p:spPr>
            <a:xfrm>
              <a:off x="7093080" y="3276720"/>
              <a:ext cx="201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4"/>
            <p:cNvSpPr/>
            <p:nvPr/>
          </p:nvSpPr>
          <p:spPr>
            <a:xfrm>
              <a:off x="6778800" y="241308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5"/>
            <p:cNvSpPr/>
            <p:nvPr/>
          </p:nvSpPr>
          <p:spPr>
            <a:xfrm>
              <a:off x="6778800" y="268776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76"/>
            <p:cNvSpPr/>
            <p:nvPr/>
          </p:nvSpPr>
          <p:spPr>
            <a:xfrm>
              <a:off x="6778800" y="296388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77"/>
            <p:cNvSpPr/>
            <p:nvPr/>
          </p:nvSpPr>
          <p:spPr>
            <a:xfrm>
              <a:off x="6516720" y="2117880"/>
              <a:ext cx="1727280" cy="1815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78"/>
          <p:cNvSpPr/>
          <p:nvPr/>
        </p:nvSpPr>
        <p:spPr>
          <a:xfrm>
            <a:off x="318960" y="5229360"/>
            <a:ext cx="2237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2. у = х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9"/>
          <p:cNvSpPr/>
          <p:nvPr/>
        </p:nvSpPr>
        <p:spPr>
          <a:xfrm>
            <a:off x="374760" y="6064200"/>
            <a:ext cx="223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3. у = -х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0"/>
          <p:cNvSpPr/>
          <p:nvPr/>
        </p:nvSpPr>
        <p:spPr>
          <a:xfrm>
            <a:off x="5608800" y="4610160"/>
            <a:ext cx="2203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1.у = х +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1"/>
          <p:cNvSpPr/>
          <p:nvPr/>
        </p:nvSpPr>
        <p:spPr>
          <a:xfrm>
            <a:off x="5630760" y="5356080"/>
            <a:ext cx="2237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2. у = -6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2"/>
          <p:cNvSpPr/>
          <p:nvPr/>
        </p:nvSpPr>
        <p:spPr>
          <a:xfrm>
            <a:off x="5653080" y="6046920"/>
            <a:ext cx="223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3. у = -х +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3"/>
          <p:cNvSpPr/>
          <p:nvPr/>
        </p:nvSpPr>
        <p:spPr>
          <a:xfrm>
            <a:off x="5221440" y="1844640"/>
            <a:ext cx="71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4"/>
          <p:cNvSpPr/>
          <p:nvPr/>
        </p:nvSpPr>
        <p:spPr>
          <a:xfrm>
            <a:off x="181080" y="1830240"/>
            <a:ext cx="6458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78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10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46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78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10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ченик допустил ошибку при построении графика одной функции. На каком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1. у = 0,5х + 2             2.  у = 1,5х             3.  у = -х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4"/>
          <p:cNvSpPr txBox="1"/>
          <p:nvPr/>
        </p:nvSpPr>
        <p:spPr>
          <a:xfrm>
            <a:off x="2514600" y="22860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 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1447920" y="29718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457200" y="44956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 flipV="1">
            <a:off x="4267080" y="28195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3352680" y="44956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 flipV="1">
            <a:off x="7620120" y="25905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6629400" y="44956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 flipV="1">
            <a:off x="457200" y="2971800"/>
            <a:ext cx="2057400" cy="17524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 flipV="1">
            <a:off x="3352680" y="3048120"/>
            <a:ext cx="2286000" cy="914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6372360" y="3500280"/>
            <a:ext cx="1828800" cy="198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2825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1457280" y="273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1455840" y="37162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527120" y="4437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599436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4336920" y="265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4211640" y="35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4427640" y="4581360"/>
            <a:ext cx="2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4356000" y="44578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8729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7650000" y="244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7380360" y="364500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6"/>
          <p:cNvSpPr/>
          <p:nvPr/>
        </p:nvSpPr>
        <p:spPr>
          <a:xfrm>
            <a:off x="8224920" y="4508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7" descr="slide0093_image192"/>
          <p:cNvPicPr/>
          <p:nvPr/>
        </p:nvPicPr>
        <p:blipFill>
          <a:blip r:embed="rId1"/>
          <a:stretch/>
        </p:blipFill>
        <p:spPr>
          <a:xfrm>
            <a:off x="4788000" y="4437000"/>
            <a:ext cx="1684080" cy="21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80"/>
                            </p:stCondLst>
                            <p:childTnLst>
                              <p:par>
                                <p:cTn id="3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80"/>
                            </p:stCondLst>
                            <p:childTnLst>
                              <p:par>
                                <p:cTn id="3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80"/>
                            </p:stCondLst>
                            <p:childTnLst>
                              <p:par>
                                <p:cTn id="3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а рисунке изображены графики функций: </a:t>
            </a: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                       у = 3х;     у = - 3х;     у = х - 3. </a:t>
            </a: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Под каким номером изображён график функции   у = -3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4"/>
          <p:cNvSpPr txBox="1"/>
          <p:nvPr/>
        </p:nvSpPr>
        <p:spPr>
          <a:xfrm>
            <a:off x="2514600" y="152280"/>
            <a:ext cx="4648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Line 5"/>
          <p:cNvSpPr/>
          <p:nvPr/>
        </p:nvSpPr>
        <p:spPr>
          <a:xfrm flipV="1">
            <a:off x="4114800" y="220932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2590920" y="40384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7"/>
          <p:cNvSpPr/>
          <p:nvPr/>
        </p:nvSpPr>
        <p:spPr>
          <a:xfrm flipV="1">
            <a:off x="3429000" y="2666520"/>
            <a:ext cx="1495440" cy="25909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3260520" y="2590920"/>
            <a:ext cx="1539720" cy="2666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3429000" y="3228840"/>
            <a:ext cx="2590920" cy="1495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2819520" y="2819520"/>
            <a:ext cx="533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50292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6019920" y="3429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570528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4194000" y="200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5" descr="slide0093_image192"/>
          <p:cNvPicPr/>
          <p:nvPr/>
        </p:nvPicPr>
        <p:blipFill>
          <a:blip r:embed="rId1"/>
          <a:stretch/>
        </p:blipFill>
        <p:spPr>
          <a:xfrm>
            <a:off x="6372360" y="4149720"/>
            <a:ext cx="1684080" cy="21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Какие точки принадлежат графику линейной функции    у = - 0,5х + 1</a:t>
            </a:r>
            <a:br>
              <a:rPr sz="2800"/>
            </a:b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1. А(-1;0)             2. В(-2;2,5)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3. С(-2;0)             4. Е(0;1) ?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slide0093_image192"/>
          <p:cNvPicPr/>
          <p:nvPr/>
        </p:nvPicPr>
        <p:blipFill>
          <a:blip r:embed="rId1"/>
          <a:stretch/>
        </p:blipFill>
        <p:spPr>
          <a:xfrm>
            <a:off x="6372360" y="4149720"/>
            <a:ext cx="1684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537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228600" y="1700280"/>
            <a:ext cx="79437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При каком значении х значени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у = - 0,5х + 1 равно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1. х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2. х = -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3. х = 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slide0093_image192"/>
          <p:cNvPicPr/>
          <p:nvPr/>
        </p:nvPicPr>
        <p:blipFill>
          <a:blip r:embed="rId1"/>
          <a:stretch/>
        </p:blipFill>
        <p:spPr>
          <a:xfrm>
            <a:off x="6477120" y="3200400"/>
            <a:ext cx="1682640" cy="2303640"/>
          </a:xfrm>
          <a:prstGeom prst="rect">
            <a:avLst/>
          </a:prstGeom>
          <a:ln w="0">
            <a:noFill/>
          </a:ln>
        </p:spPr>
      </p:pic>
      <p:sp>
        <p:nvSpPr>
          <p:cNvPr id="316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320"/>
                            </p:stCondLst>
                            <p:childTnLst>
                              <p:par>
                                <p:cTn id="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96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20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48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6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азвать функции, график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а) параллель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б) пересекаются в одной точке; назвать эту т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)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1. у = - 2х - 1;       у = - 2х +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2. у = - 0,5х;          у = 0,5х - 3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3. у = - х - 4;          у = -х - 4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slide0093_image192"/>
          <p:cNvPicPr/>
          <p:nvPr/>
        </p:nvPicPr>
        <p:blipFill>
          <a:blip r:embed="rId1"/>
          <a:stretch/>
        </p:blipFill>
        <p:spPr>
          <a:xfrm>
            <a:off x="6156360" y="3789360"/>
            <a:ext cx="2016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2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800"/>
                            </p:stCondLst>
                            <p:childTnLst>
                              <p:par>
                                <p:cTn id="5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52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4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80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60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Задать формулой функцию, граф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которой параллелен прямой у = -8х + 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и проходит через начало коорди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 = -8х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 = -8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 = 8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 = 11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4"/>
          <p:cNvSpPr txBox="1"/>
          <p:nvPr/>
        </p:nvSpPr>
        <p:spPr>
          <a:xfrm>
            <a:off x="1905120" y="228600"/>
            <a:ext cx="57909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 7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3" name="Picture 5" descr="0d7bfbb42edcbbc148491e5164e3ef67[1]"/>
          <p:cNvPicPr/>
          <p:nvPr/>
        </p:nvPicPr>
        <p:blipFill>
          <a:blip r:embed="rId1"/>
          <a:stretch/>
        </p:blipFill>
        <p:spPr>
          <a:xfrm>
            <a:off x="4572000" y="393372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16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44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640"/>
                            </p:stCondLst>
                            <p:childTnLst>
                              <p:par>
                                <p:cTn id="5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960"/>
                            </p:stCondLst>
                            <p:childTnLst>
                              <p:par>
                                <p:cTn id="5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200"/>
                            </p:stCondLst>
                            <p:childTnLst>
                              <p:par>
                                <p:cTn id="5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40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4"/>
          <p:cNvSpPr txBox="1"/>
          <p:nvPr/>
        </p:nvSpPr>
        <p:spPr>
          <a:xfrm>
            <a:off x="1752480" y="2362320"/>
            <a:ext cx="68580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игру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5" name="Picture 5" descr="18m5"/>
          <p:cNvPicPr/>
          <p:nvPr/>
        </p:nvPicPr>
        <p:blipFill>
          <a:blip r:embed="rId1"/>
          <a:stretch/>
        </p:blipFill>
        <p:spPr>
          <a:xfrm>
            <a:off x="1143000" y="228600"/>
            <a:ext cx="27432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150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1" dur="150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2" dur="150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делится на три коман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чая на вопрос, участник поднимает таблицу с номером правильного отв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правильный ответ команда получает 5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116000" y="692280"/>
            <a:ext cx="7010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вый ту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413080" y="3745080"/>
                <a:ext cx="12204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6608880" y="3745080"/>
                <a:ext cx="12204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6" name="Picture 5" descr="18m5"/>
          <p:cNvPicPr/>
          <p:nvPr/>
        </p:nvPicPr>
        <p:blipFill>
          <a:blip r:embed="rId1"/>
          <a:stretch/>
        </p:blipFill>
        <p:spPr>
          <a:xfrm>
            <a:off x="2987640" y="3716280"/>
            <a:ext cx="2808360" cy="273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График какой функции лишний?</a:t>
            </a:r>
            <a:r>
              <a:rPr b="0" lang="ru-RU" sz="2800" spc="-1" strike="noStrike">
                <a:solidFill>
                  <a:srgbClr val="4415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       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3132000" y="152280"/>
            <a:ext cx="2829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 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7238880" y="28954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6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8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9"/>
          <p:cNvSpPr/>
          <p:nvPr/>
        </p:nvSpPr>
        <p:spPr>
          <a:xfrm>
            <a:off x="7620120" y="1523880"/>
            <a:ext cx="1143000" cy="13845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1744200" y="1627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2825280" y="2635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5201640" y="1482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6281280" y="2490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8297280" y="1266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8802360" y="2490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1817280" y="414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3041280" y="5011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7505280" y="36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8657640" y="4867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0" descr="slide0093_image192"/>
          <p:cNvPicPr/>
          <p:nvPr/>
        </p:nvPicPr>
        <p:blipFill>
          <a:blip r:embed="rId1"/>
          <a:stretch/>
        </p:blipFill>
        <p:spPr>
          <a:xfrm>
            <a:off x="3851280" y="3860640"/>
            <a:ext cx="1797120" cy="230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а каком рисунке изображён график линейной функции у =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kx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? Ответ объяс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                              2                  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7238880" y="28954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18"/>
          <p:cNvSpPr txBox="1"/>
          <p:nvPr/>
        </p:nvSpPr>
        <p:spPr>
          <a:xfrm>
            <a:off x="2362320" y="228600"/>
            <a:ext cx="3962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Freeform 19"/>
          <p:cNvSpPr/>
          <p:nvPr/>
        </p:nvSpPr>
        <p:spPr>
          <a:xfrm>
            <a:off x="7696080" y="1600200"/>
            <a:ext cx="1067040" cy="129528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0" descr="slide0093_image192"/>
          <p:cNvPicPr/>
          <p:nvPr/>
        </p:nvPicPr>
        <p:blipFill>
          <a:blip r:embed="rId1"/>
          <a:stretch/>
        </p:blipFill>
        <p:spPr>
          <a:xfrm>
            <a:off x="3851280" y="3933720"/>
            <a:ext cx="1963800" cy="2519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1"/>
          <p:cNvSpPr/>
          <p:nvPr/>
        </p:nvSpPr>
        <p:spPr>
          <a:xfrm>
            <a:off x="2752560" y="25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1744560" y="1577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6281640" y="23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5202000" y="143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8802720" y="244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8226360" y="121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304164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74456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8584920" y="4818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7505640" y="373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3962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1                              2                     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4                         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7238880" y="28954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8"/>
          <p:cNvSpPr txBox="1"/>
          <p:nvPr/>
        </p:nvSpPr>
        <p:spPr>
          <a:xfrm>
            <a:off x="2590920" y="15228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 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Freeform 19"/>
          <p:cNvSpPr/>
          <p:nvPr/>
        </p:nvSpPr>
        <p:spPr>
          <a:xfrm>
            <a:off x="7620120" y="1371600"/>
            <a:ext cx="1218960" cy="152388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2752560" y="25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744560" y="1577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6281640" y="23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5149800" y="14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8874000" y="23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8226360" y="129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304164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1744560" y="409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872964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7576920" y="373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0" descr="slide0093_image192"/>
          <p:cNvPicPr/>
          <p:nvPr/>
        </p:nvPicPr>
        <p:blipFill>
          <a:blip r:embed="rId1"/>
          <a:stretch/>
        </p:blipFill>
        <p:spPr>
          <a:xfrm>
            <a:off x="3924360" y="3933720"/>
            <a:ext cx="1965240" cy="2521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1"/>
          <p:cNvSpPr/>
          <p:nvPr/>
        </p:nvSpPr>
        <p:spPr>
          <a:xfrm>
            <a:off x="1517400" y="762120"/>
            <a:ext cx="686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а каком рисунке коэффициент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в уравн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линейной функции отрицателе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а каком рисунке свободный член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в уравнении линейной функции отрицателе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                              2                  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7164360" y="299736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18"/>
          <p:cNvSpPr txBox="1"/>
          <p:nvPr/>
        </p:nvSpPr>
        <p:spPr>
          <a:xfrm>
            <a:off x="2514600" y="22860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Freeform 19"/>
          <p:cNvSpPr/>
          <p:nvPr/>
        </p:nvSpPr>
        <p:spPr>
          <a:xfrm>
            <a:off x="7696080" y="1371600"/>
            <a:ext cx="1067040" cy="16128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825640" y="258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672920" y="164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6352920" y="244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5128920" y="143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8729640" y="25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8297640" y="129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311292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174456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8729640" y="4818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7576920" y="373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0" descr="slide0093_image192"/>
          <p:cNvPicPr/>
          <p:nvPr/>
        </p:nvPicPr>
        <p:blipFill>
          <a:blip r:embed="rId1"/>
          <a:stretch/>
        </p:blipFill>
        <p:spPr>
          <a:xfrm>
            <a:off x="3995640" y="3933720"/>
            <a:ext cx="1852560" cy="237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Из указанных букв составить   слово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по теме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2362320" y="45720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торой ту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62120" y="2743200"/>
            <a:ext cx="99036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590920" y="3657600"/>
            <a:ext cx="99036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572000" y="2514600"/>
            <a:ext cx="99072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467480" y="1905120"/>
            <a:ext cx="99072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7315200" y="4267080"/>
            <a:ext cx="91440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410080" y="4343400"/>
            <a:ext cx="91440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838080" y="4572000"/>
            <a:ext cx="91440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276720" y="5084640"/>
            <a:ext cx="99036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18m5"/>
          <p:cNvPicPr/>
          <p:nvPr/>
        </p:nvPicPr>
        <p:blipFill>
          <a:blip r:embed="rId1"/>
          <a:stretch/>
        </p:blipFill>
        <p:spPr>
          <a:xfrm>
            <a:off x="0" y="304920"/>
            <a:ext cx="2087640" cy="203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7" dur="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3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9" dur="50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5" dur="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6" dur="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7" dur="50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8" dur="50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3" dur="50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9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0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755640" y="549360"/>
            <a:ext cx="7010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тий ту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5" name="Picture 3" descr="18m5"/>
          <p:cNvPicPr/>
          <p:nvPr/>
        </p:nvPicPr>
        <p:blipFill>
          <a:blip r:embed="rId1"/>
          <a:stretch/>
        </p:blipFill>
        <p:spPr>
          <a:xfrm>
            <a:off x="2987640" y="2565360"/>
            <a:ext cx="2592360" cy="252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M911</cp:lastModifiedBy>
  <dcterms:modified xsi:type="dcterms:W3CDTF">2009-11-18T06:34:4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