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D37-A1D1-4183-9630-995312310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B43-73C5-4DC7-9424-7866A8A3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4FE-0EA3-4483-8576-CCE9295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73-73D8-4B46-975E-257573A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D59-6952-4E63-8CA7-C9CE2CA8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9EE-C1E8-4340-9710-CF0B6DDD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D97-05F2-4739-9C3B-9262BAD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FF2-E671-4938-9482-A6F4309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EAE-0278-4DC6-8E8D-1AAB324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D12-C23E-4394-AC1A-3CCC760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47E-8FB0-4450-B525-DE85B33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402-0016-44E0-B0E3-F92E01F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2B4-CA0F-4F6B-8661-7268B6B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AD4-6687-4414-A083-BF8E49834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90;&#1072;&#1085;&#1094;&#1091;&#1102;&#1097;&#1080;&#1093;%20&#1076;&#1077;&#1090;&#1077;&#1081;&amp;fp=0&amp;img_url=http%3A%2F%2Fimg.inforico.com.ua%2Fa%2FDVM-dance-Studio-tancy-dlya-detey-s-4h-let--f2a3-1322335969203057-2-big.jpg&amp;pos=6&amp;uinfo=ww-1007-wh-404-fw-782-fh-448-pd-1&amp;rpt=simage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yandex.ru/yandsearch?text=&#1082;&#1072;&#1088;&#1090;&#1080;&#1085;&#1082;&#1080;%20&#1090;&#1072;&#1085;&#1094;&#1091;&#1102;&#1097;&#1080;&#1093;%20&#1076;&#1077;&#1090;&#1077;&#1081;&amp;fp=0&amp;img_url=http%3A%2F%2Fboard.ecity.cn.ua%2Fupload%2Fnormal%2Fzanyatiya_balnymi_vostochnymi_tancami_i_fitneso_v_centre_viktoriya-dens_95.jpeg&amp;pos=27&amp;uinfo=ww-1007-wh-404-fw-782-fh-448-pd-1&amp;rpt=simage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yandex.ru/yandsearch?p=4&amp;text=&#1082;&#1072;&#1088;&#1090;&#1080;&#1085;&#1082;&#1080;%20&#1090;&#1072;&#1085;&#1094;&#1091;&#1102;&#1097;&#1080;&#1093;%20&#1076;&#1077;&#1090;&#1077;&#1081;&amp;fp=4&amp;img_url=http%3A%2F%2Fdg53.odnoklassniki.ru%2FgetImage%3FphotoId%3D390172557589%26photoType%3D6&amp;pos=123&amp;uinfo=ww-1007-wh-404-fw-782-fh-448-pd-1&amp;rpt=simage" TargetMode="External"/><Relationship Id="rId6" Type="http://schemas.openxmlformats.org/officeDocument/2006/relationships/image" Target="../media/image31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82;&#1072;&#1088;&#1090;&#1080;&#1085;&#1082;&#1080;%20&#1091;&#1083;&#1099;&#1073;&#1086;&#1082;&amp;fp=3&amp;pos=105&amp;uinfo=ww-1007-wh-404-fw-782-fh-448-pd-1&amp;rpt=simage&amp;img_url=http%3A%2F%2Fwww.stihi.ru%2Fpics%2F2010%2F03%2F07%2F1964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fp=0&amp;img_url=http://samarskieizvestia.ru/ckfinder/userfiles/images/2013/02_13/32%20_8.jpg&amp;text=&#1082;&#1072;&#1088;&#1090;&#1080;&#1085;&#1082;&#1080;%20&#1076;&#1080;&#1088;&#1080;&#1078;&#1105;&#1088;&#1072;&amp;noreask=1&amp;pos=28&amp;lr=213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source=wiz&amp;fp=0&amp;img_url=http%3A%2F%2Fafisha.yuga.ru%2Fmedia%2Fponkin.jpg&amp;text=&#1082;&#1072;&#1088;&#1090;&#1080;&#1085;&#1082;&#1080;%20&#1076;&#1080;&#1088;&#1080;&#1078;&#1105;&#1088;&#1072;&amp;noreask=1&amp;pos=23&amp;lr=213&amp;rpt=simage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&amp;text=&#1080;&#1079;&#1086;&#1073;&#1088;&#1072;&#1078;&#1077;&#1085;&#1080;&#1077;%20&#1085;&#1086;&#1090;%20&#1085;&#1072;%20&#1085;&#1086;&#1090;&#1085;&#1086;&#1084;%20&#1089;&#1090;&#1072;&#1085;&#1077;&amp;fp=5&amp;img_url=http%3A%2F%2Fwww.pedsovet.su%2F_ld%2F140%2F69558810.jpg&amp;pos=150&amp;uinfo=ww-1007-wh-404-fw-782-fh-448-pd-1&amp;rpt=simage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search?source=wiz&amp;fp=0&amp;img_url=http%3A%2F%2Fwww.tulartcollege.ru%2Fupload%2Fnews%2FZtUJXUKU62Qf3wcSXfVHoX51RM90a4np1IR1GzIQ-file-upload.jpg&amp;text=&#1080;&#1079;&#1086;&#1073;&#1088;&#1072;&#1078;&#1077;&#1085;&#1080;&#1077;%20&#1085;&#1086;&#1090;&#1085;&#1086;&#1075;&#1086;%20&#1089;&#1090;&#1072;&#1085;&#1072;%20&#1080;%20&#1089;&#1082;&#1088;&#1080;&#1087;&#1080;&#1095;&#1085;&#1086;&#1075;&#1086;%20&#1082;&#1083;&#1102;&#1095;&#1072;&amp;noreask=1&amp;pos=16&amp;lr=213&amp;rpt=simage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yandex.ru/yandsearch?source=wiz&amp;fp=2&amp;img_url=http%3A%2F%2Fwww.muz-urok.ru%2Fmuz%2Fnotyi%2520.gif&amp;uinfo=ww-1007-wh-404-fw-782-fh-448-pd-1&amp;p=2&amp;text=&#1080;&#1079;&#1086;&#1073;&#1088;&#1072;&#1078;&#1077;&#1085;&#1080;&#1077;%20&#1085;&#1086;&#1090;&#1085;&#1086;&#1075;&#1086;%20&#1089;&#1090;&#1072;&#1085;&#1072;%20&#1080;%20&#1089;&#1082;&#1088;&#1080;&#1087;&#1080;&#1095;&#1085;&#1086;&#1075;&#1086;%20&#1082;&#1083;&#1102;&#1095;&#1072;&amp;noreask=1&amp;pos=67&amp;rpt=simage&amp;lr=213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&amp;text=&#1082;&#1072;&#1088;&#1090;&#1080;&#1085;&#1082;&#1080;%20&#1082;&#1086;&#1084;&#1087;&#1086;&#1079;&#1080;&#1090;&#1086;&#1088;&#1072;&amp;fp=7&amp;img_url=http%3A%2F%2Fchtoby-pomnili.com%2Fpreview.php%3Fwidth%3Dmax%26dir%3D534%26id%3D169258831.jpg&amp;pos=211&amp;uinfo=ww-1007-wh-404-fw-782-fh-448-pd-1&amp;rpt=s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p=7&amp;text=&#1082;&#1072;&#1088;&#1090;&#1080;&#1085;&#1082;&#1080;%20&#1082;&#1086;&#1084;&#1087;&#1086;&#1079;&#1080;&#1090;&#1086;&#1088;&#1072;&amp;fp=7&amp;img_url=http%3A%2F%2Fwww.newizv.ru%2Fimages%2Fphotos%2Fbig%2F20110912190856_3b.jpg&amp;pos=215&amp;uinfo=ww-1007-wh-404-fw-782-fh-448-pd-1&amp;rpt=simage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yandex.ru/yandsearch?p=7&amp;text=&#1082;&#1072;&#1088;&#1090;&#1080;&#1085;&#1082;&#1080;%20&#1082;&#1086;&#1084;&#1087;&#1086;&#1079;&#1080;&#1090;&#1086;&#1088;&#1072;&amp;fp=7&amp;img_url=http%3A%2F%2Fwww.calend.ru%2Fimg%2Fcontent_events%2Fi1%2F1744.jpg&amp;pos=214&amp;uinfo=ww-1007-wh-404-fw-782-fh-448-pd-1&amp;rpt=simage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yandex.ru/yandsearch?p=10&amp;text=&#1082;&#1072;&#1088;&#1090;&#1080;&#1085;&#1082;&#1080;%20&#1082;&#1086;&#1084;&#1087;&#1086;&#1079;&#1080;&#1090;&#1086;&#1088;&#1072;&amp;fp=10&amp;img_url=http%3A%2F%2Fuserserve-ak.last.fm%2Fserve%2F126s%2F281376.jpg&amp;pos=304&amp;uinfo=ww-1007-wh-404-fw-782-fh-448-pd-1&amp;rpt=simage" TargetMode="External"/><Relationship Id="rId8" Type="http://schemas.openxmlformats.org/officeDocument/2006/relationships/image" Target="../media/image12.jpe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7;&#1086;&#1102;&#1097;&#1080;&#1093;%20&#1076;&#1077;&#1090;&#1077;&#1081;&amp;fp=0&amp;img_url=http%3A%2F%2Fimg.nr2.ru%2Fpict%2Farts1%2F38%2F90%2F389004.jpg&amp;pos=21&amp;uinfo=ww-1007-wh-404-fw-782-fh-448-pd-1&amp;rpt=simage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p=1&amp;text=&#1082;&#1072;&#1088;&#1090;&#1080;&#1085;&#1082;&#1080;%20&#1087;&#1086;&#1102;&#1097;&#1080;&#1093;%20&#1076;&#1077;&#1090;&#1077;&#1081;&amp;fp=1&amp;img_url=http%3A%2F%2Furalpress.ru%2Fsites%2Fdefault%2Ffiles%2Fimagecache%2Flarge%2Fphoto%2Fdeti_poyut_18.jpg&amp;pos=46&amp;uinfo=ww-1007-wh-404-fw-782-fh-448-pd-1&amp;rpt=simag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p=1&amp;text=&#1082;&#1072;&#1088;&#1090;&#1080;&#1085;&#1082;&#1080;%20&#1087;&#1086;&#1102;&#1097;&#1080;&#1093;%20&#1076;&#1077;&#1090;&#1077;&#1081;&amp;fp=1&amp;img_url=http%3A%2F%2Fduma.tomsk.ru%2Fimages2%2F10211_deti_poiut.jpg&amp;pos=54&amp;uinfo=ww-1007-wh-404-fw-782-fh-448-pd-1&amp;rpt=simag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yandex.ru/yandsearch?p=10&amp;text=&#1082;&#1072;&#1088;&#1090;&#1080;&#1085;&#1082;&#1080;%20&#1087;&#1086;&#1102;&#1097;&#1080;&#1093;%20&#1076;&#1077;&#1090;&#1077;&#1081;&amp;fp=10&amp;img_url=http%3A%2F%2Fdetyvradost.ru%2Fwp-content%2Fuploads%2F2012%2F02%2Fblog-shakespeare-school-ro-300x300.jpg&amp;pos=318&amp;uinfo=ww-1007-wh-404-fw-782-fh-448-pd-1&amp;rpt=simage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yandex.ru/yandsearch?p=10&amp;text=&#1082;&#1072;&#1088;&#1090;&#1080;&#1085;&#1082;&#1080;%20&#1087;&#1086;&#1102;&#1097;&#1080;&#1093;%20&#1076;&#1077;&#1090;&#1077;&#1081;&amp;fp=10&amp;img_url=http%3A%2F%2Fwww.kopilochka.net.ru%2FSCRIPTS%2FRAZNOE%2Fvozvrashenie%2F2.jpg&amp;pos=316&amp;uinfo=ww-1007-wh-404-fw-782-fh-448-pd-1&amp;rpt=simage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6;&#1088;&#1082;&#1077;&#1089;&#1090;&#1088;&#1072;&amp;fp=0&amp;img_url=http%3A%2F%2Fuserserve-ak.last.fm%2Fserve%2F126s%2F12558121.jpg&amp;pos=11&amp;uinfo=ww-1007-wh-404-fw-782-fh-448-pd-1&amp;rpt=simage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p=1&amp;text=&#1082;&#1072;&#1088;&#1090;&#1080;&#1085;&#1082;&#1080;%20&#1086;&#1088;&#1082;&#1077;&#1089;&#1090;&#1088;&#1072;&amp;fp=1&amp;img_url=http%3A%2F%2Fwww.proza.ru%2Fpics%2F2010%2F11%2F11%2F318.jpg&amp;pos=46&amp;uinfo=ww-1007-wh-404-fw-782-fh-448-pd-1&amp;rpt=simage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yandex.ru/yandsearch?p=2&amp;text=&#1082;&#1072;&#1088;&#1090;&#1080;&#1085;&#1082;&#1080;%20&#1086;&#1088;&#1082;&#1077;&#1089;&#1090;&#1088;&#1072;&amp;fp=2&amp;img_url=http%3A%2F%2Fart.1september.ru%2F2009%2F08%2F5-2.jpg&amp;pos=75&amp;uinfo=ww-1007-wh-404-fw-782-fh-448-pd-1&amp;rpt=simage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80;%20&#1089;&#1086;&#1083;&#1080;&#1089;&#1090;&#1072;%20&#1093;&#1086;&#1088;&#1072;&amp;fp=1&amp;img_url=http%3A%2F%2Fphoto.guzei.com%2Fimg%2F60%2F4954.jpg&amp;pos=31&amp;uinfo=ww-1007-wh-404-fw-782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yandex.ru/yandsearch?p=8&amp;text=&#1082;&#1072;&#1088;&#1090;&#1080;&#1085;&#1082;&#1080;%20&#1089;&#1086;&#1083;&#1080;&#1089;&#1090;&#1072;%20&#1076;&#1077;&#1090;&#1089;&#1082;&#1086;&#1075;&#1086;%20&#1093;&#1086;&#1088;&#1072;&amp;fp=8&amp;img_url=http%3A%2F%2Fcs4325.userapi.com%2Fu1576795%2F93913443%2Fx_73682e6c.jpg&amp;pos=245&amp;uinfo=ww-1007-wh-404-fw-782-fh-448-pd-1&amp;rpt=simage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9;&#1087;&#1103;&#1097;&#1077;&#1075;&#1086;%20&#1088;&#1077;&#1073;&#1105;&#1085;&#1082;&#1072;&amp;fp=0&amp;img_url=http%3A%2F%2Fwww.beautifullife.info%2Fwp-content%2Fuploads%2F2011%2F04%2F02%2F10.jpg&amp;pos=5&amp;uinfo=ww-1007-wh-404-fw-782-fh-448-pd-1&amp;rpt=simage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yandex.ru/yandsearch?p=1&amp;text=&#1082;&#1072;&#1088;&#1090;&#1080;&#1085;&#1082;&#1080;%20&#1089;&#1087;&#1103;&#1097;&#1077;&#1075;&#1086;%20&#1088;&#1077;&#1073;&#1105;&#1085;&#1082;&#1072;&amp;fp=1&amp;img_url=http%3A%2F%2Fshopgiare.com.vn%2FUploads%2Fimages%2FProducts%2Fgrapgiuong6.jpg&amp;pos=52&amp;uinfo=ww-1007-wh-404-fw-782-fh-448-pd-1&amp;rpt=simage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p=1&amp;text=&#1082;&#1072;&#1088;&#1090;&#1080;&#1085;&#1082;&#1080;%20&#1089;&#1087;&#1103;&#1097;&#1077;&#1075;&#1086;%20&#1088;&#1077;&#1073;&#1105;&#1085;&#1082;&#1072;&amp;fp=1&amp;img_url=http%3A%2F%2Fimages2.alphacoders.com%2F146%2Fthumbbig-146210.jpg&amp;pos=54&amp;uinfo=ww-1007-wh-404-fw-782-fh-448-pd-1&amp;rpt=simage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4;&#1072;&#1088;&#1096;&#1080;&#1088;&#1091;&#1102;&#1097;&#1080;&#1093;%20djtyys%5B&amp;fp=0&amp;img_url=http%3A%2F%2Fnewsimg.bbc.co.uk%2Fmedia%2Fimages%2F40725000%2Fjpg%2F_40725866_soldiers_b_203.jpg&amp;pos=0&amp;uinfo=ww-1007-wh-404-fw-782-fh-448-pd-1&amp;rpt=simage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yandex.ru/yandsearch?p=1&amp;text=&#1082;&#1072;&#1088;&#1090;&#1080;&#1085;&#1082;&#1072;%20&#1084;&#1072;&#1088;&#1096;&#1080;&#1088;&#1091;&#1102;&#1097;&#1080;&#1093;%20&#1074;&#1086;&#1077;&#1085;&#1085;&#1099;&#1093;&amp;fp=1&amp;img_url=http%3A%2F%2Fwww.dg-yug.ru%2Fimages%2Fpicturegallery%2F2013%2F02%2Fb3c308a0-6ffe-4a1e-affa-b1facbb34410%2Fb77371c1-fed8-49b5-8219-714ad30861de_T.jpg&amp;pos=58&amp;uinfo=ww-1007-wh-404-fw-782-fh-448-pd-1&amp;rpt=simage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yandex.ru/yandsearch?p=4&amp;text=&#1082;&#1072;&#1088;&#1090;&#1080;&#1085;&#1082;&#1072;%20&#1084;&#1072;&#1088;&#1096;%20&#1084;&#1091;&#1079;&#1099;&#1082;&#1072;&#1085;&#1090;&#1086;&#1074;&amp;fp=4&amp;img_url=http%3A%2F%2Fwww.ekburg.ru%2FUserFiles%2FStorage%2FContentPhoto%2F0%2F0%2F76%2F7606_preview_150.jpg&amp;pos=122&amp;uinfo=ww-1007-wh-404-fw-782-fh-448-pd-1&amp;rpt=simage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2366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ИНТЕРАКТИВН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232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ru-RU" sz="4800" spc="-1" strike="noStrike">
                <a:solidFill>
                  <a:srgbClr val="7575d1"/>
                </a:solidFill>
                <a:latin typeface="Arial"/>
              </a:rPr>
              <a:t>Ы</a:t>
            </a:r>
            <a:r>
              <a:rPr b="1" lang="ru-RU" sz="4800" spc="-1" strike="noStrike">
                <a:solidFill>
                  <a:srgbClr val="3366ff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5d4878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Ы</a:t>
            </a:r>
            <a:r>
              <a:rPr b="1" lang="ru-RU" sz="4800" spc="-1" strike="noStrike">
                <a:solidFill>
                  <a:srgbClr val="cc0066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d4878"/>
                </a:solidFill>
                <a:latin typeface="Arial"/>
              </a:rPr>
              <a:t>З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92d05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9"/>
          <p:cNvSpPr/>
          <p:nvPr/>
        </p:nvSpPr>
        <p:spPr>
          <a:xfrm>
            <a:off x="714240" y="4286160"/>
            <a:ext cx="7715520" cy="221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haroni"/>
              </a:rPr>
              <a:t>Презентация по музыкальному воспитанию до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  <a:ea typeface="Aharoni"/>
              </a:rPr>
              <a:t>Подготовила музыкальный руководитель Власова Татья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Лишь музыка начнёт зву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е могу я усто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а щеках моих румя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Когда  я исполняю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619280" y="189000"/>
            <a:ext cx="5688000" cy="1944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340000" y="22766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im2-tub-ru.yandex.net/i?id=435429549-1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8960" y="3357720"/>
            <a:ext cx="4000320" cy="32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http://im2-tub-ru.yandex.net/i?id=407710159-5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42148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http://im5-tub-ru.yandex.net/i?id=100926023-2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15120" y="3714840"/>
            <a:ext cx="1643040" cy="2071440"/>
          </a:xfrm>
          <a:prstGeom prst="rect">
            <a:avLst/>
          </a:prstGeom>
          <a:ln w="0">
            <a:noFill/>
          </a:ln>
        </p:spPr>
      </p:pic>
      <p:pic>
        <p:nvPicPr>
          <p:cNvPr id="115" name="кукарена.mp3" descr=""/>
          <p:cNvPicPr/>
          <p:nvPr/>
        </p:nvPicPr>
        <p:blipFill>
          <a:blip r:embed="rId7"/>
          <a:stretch/>
        </p:blipFill>
        <p:spPr>
          <a:xfrm>
            <a:off x="5715000" y="264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7738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www.lawofattraction.ru/_fr/1/3521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3357720"/>
            <a:ext cx="4019760" cy="320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www.lawofattraction.ru/_fr/1/3521007.jpg"/>
          <p:cNvPicPr/>
          <p:nvPr/>
        </p:nvPicPr>
        <p:blipFill>
          <a:blip r:embed="rId3"/>
          <a:stretch/>
        </p:blipFill>
        <p:spPr>
          <a:xfrm>
            <a:off x="357120" y="0"/>
            <a:ext cx="4019760" cy="320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http://www.lawofattraction.ru/_fr/1/3521007.jpg"/>
          <p:cNvPicPr/>
          <p:nvPr/>
        </p:nvPicPr>
        <p:blipFill>
          <a:blip r:embed="rId4"/>
          <a:stretch/>
        </p:blipFill>
        <p:spPr>
          <a:xfrm>
            <a:off x="4857840" y="1143000"/>
            <a:ext cx="4019400" cy="3209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ПАСИБО 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топает малыш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55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оркестром управ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Радость людям д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Только палочкой взмахнёт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узыка играть нач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не врач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 не шоф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Кто  же это?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3357720" y="4143240"/>
            <a:ext cx="42480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РИ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1763640" y="260280"/>
            <a:ext cx="6120000" cy="36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6" descr="http://im4-tub-ru.yandex.net/i?id=235821592-23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400068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7-tub-ru.yandex.net/i?id=387956876-43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78588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Д.Шостакович - Вальс №2 к 9 мая.mp3" descr=""/>
          <p:cNvPicPr/>
          <p:nvPr/>
        </p:nvPicPr>
        <p:blipFill>
          <a:blip r:embed="rId6"/>
          <a:stretch/>
        </p:blipFill>
        <p:spPr>
          <a:xfrm>
            <a:off x="7072200" y="442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68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ёрные крюч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сни петь нам вел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908000" y="404640"/>
            <a:ext cx="5328000" cy="266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428920" y="328608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http://im8-tub-ru.yandex.net/i?id=184694213-7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50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2-tub-ru.yandex.net/i?id=134790997-60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920" y="4643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im3-tub-ru.yandex.net/i?id=500032584-2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57920" y="4857840"/>
            <a:ext cx="2857320" cy="1076400"/>
          </a:xfrm>
          <a:prstGeom prst="rect">
            <a:avLst/>
          </a:prstGeom>
          <a:ln w="0">
            <a:noFill/>
          </a:ln>
        </p:spPr>
      </p:pic>
      <p:pic>
        <p:nvPicPr>
          <p:cNvPr id="64" name="Детский сад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7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d1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н не спит, не отдых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 всё нам музыку сочиня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619280" y="333360"/>
            <a:ext cx="6337440" cy="2016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357280" y="2500200"/>
            <a:ext cx="4248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0c0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http://im0-tub-ru.yandex.net/i?id=129353382-1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643200"/>
            <a:ext cx="232380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5-tub-ru.yandex.net/i?id=148292026-0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9120" y="3571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http://im6-tub-ru.yandex.net/i?id=44303525-2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4643280"/>
            <a:ext cx="153324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http://im4-tub-ru.yandex.net/i?id=90008662-5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857840"/>
            <a:ext cx="141948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Вальс Грибоедова.mp3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86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ихи и музыка сольются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называется всё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042920" y="404640"/>
            <a:ext cx="7201080" cy="1729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2411280" y="234936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http://im6-tub-ru.yandex.net/i?id=182987049-4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357280"/>
            <a:ext cx="164772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im8-tub-ru.yandex.net/i?id=113224918-0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6720" y="235728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http://im2-tub-ru.yandex.net/i?id=70732277-3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428616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http://im2-tub-ru.yandex.net/i?id=171602696-3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4500720"/>
            <a:ext cx="143820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http://im7-tub-ru.yandex.net/i?id=88709376-18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14800" y="42861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Королева Наташа - Маленькая страна +.mp3" descr=""/>
          <p:cNvPicPr/>
          <p:nvPr/>
        </p:nvPicPr>
        <p:blipFill>
          <a:blip r:embed="rId11"/>
          <a:stretch/>
        </p:blipFill>
        <p:spPr>
          <a:xfrm>
            <a:off x="5500800" y="2786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3186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нструменты в руки взя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Дружно вместе заиг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ам играть не надо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Что создали 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403280" y="115920"/>
            <a:ext cx="6193080" cy="2305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411280" y="263700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://im8-tub-ru.yandex.net/i?id=103464726-3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8960" y="385776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http://im5-tub-ru.yandex.net/i?id=273185969-3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47862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http://im0-tub-ru.yandex.net/i?id=385114541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240" y="4929120"/>
            <a:ext cx="16192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Хачатурян - Вальс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6604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н красив и голос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ра наше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08720" cy="1773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340000" y="2143080"/>
            <a:ext cx="4248000" cy="9288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im5-tub-ru.yandex.net/i?id=19974655-4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214800"/>
            <a:ext cx="3857400" cy="300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http://im6-tub-ru.yandex.net/i?id=243568968-51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71920"/>
            <a:ext cx="393408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День Победы.mp3" descr=""/>
          <p:cNvPicPr/>
          <p:nvPr/>
        </p:nvPicPr>
        <p:blipFill>
          <a:blip r:embed="rId5"/>
          <a:stretch/>
        </p:blipFill>
        <p:spPr>
          <a:xfrm>
            <a:off x="5572080" y="25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507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здно- поздно до тем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асково звучит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сенка постель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ш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03280" y="115920"/>
            <a:ext cx="6337440" cy="2449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000160" y="2786040"/>
            <a:ext cx="4248360" cy="78588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ЫБ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http://im5-tub-ru.yandex.net/i?id=236001482-2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407196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http://im5-tub-ru.yandex.net/i?id=74685409-71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4000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im3-tub-ru.yandex.net/i?id=12935918-2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71880" y="392904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ЫБ МЕДВЕД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90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84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а эта зовёт на па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Люди шагают за рядом ря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Трубы гудят, барабаны бь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у эту  как назов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92360" y="189000"/>
            <a:ext cx="5832360" cy="23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428920" y="25718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Р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http://im2-tub-ru.yandex.net/i?id=390050320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414324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http://im3-tub-ru.yandex.net/i?id=286483521-1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3714840"/>
            <a:ext cx="271440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ttp://im8-tub-ru.yandex.net/i?id=37825145-7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4143240"/>
            <a:ext cx="2786040" cy="2143440"/>
          </a:xfrm>
          <a:prstGeom prst="rect">
            <a:avLst/>
          </a:prstGeom>
          <a:ln w="0">
            <a:noFill/>
          </a:ln>
        </p:spPr>
      </p:pic>
      <p:pic>
        <p:nvPicPr>
          <p:cNvPr id="108" name="Бравые солдаты минусовка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8395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1:47:30Z</dcterms:created>
  <dc:creator>markwald</dc:creator>
  <dc:description/>
  <dc:language>en-US</dc:language>
  <cp:lastModifiedBy>Admin</cp:lastModifiedBy>
  <dcterms:modified xsi:type="dcterms:W3CDTF">2014-01-23T17:43:53Z</dcterms:modified>
  <cp:revision>77</cp:revision>
  <dc:subject>музыкальные загадки</dc:subject>
  <dc:title>Слайд 1</dc:title>
</cp:coreProperties>
</file>