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0DD3C1-A282-4DEA-B145-CE6A66E7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77EC01-50FA-4A6A-89FA-03E88FC0D9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DA0-6C5D-4947-BAC0-BED77550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A6D-9D65-44B8-8D22-D064E91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9DA-D856-495B-BB8E-8B6AD1C6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45A-E598-44E5-9FA2-4410164B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C6E-F7A4-404E-9922-8211CE9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6520-4196-4C28-A6F9-DF6C100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CA14-EC41-4F44-BB15-29A1B7A7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AE6-AA69-4037-813E-18D1975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204D-F84A-4B09-BE54-4C1C778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8F4-850C-4432-9C32-407A021A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2C7-31F1-4EFD-AA06-8E954EC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631-5771-4356-A279-2C7D99A7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931-CBB6-48B1-ACBD-5D32CE8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8EA-C514-44B1-9557-D8974DDC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9386-33BD-4948-A792-6BCC2DF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B561-3E6E-4A31-A42B-25D2CCFF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2E39-8F6D-4295-A67B-1B6E7B97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930F-FFF1-445F-A6A7-56C37192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8E4A-1C02-4232-9E74-57B48D8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E982-1069-49F1-A630-87E6AC8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C57C-D28C-4DE3-B851-408871D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0847-0A39-4974-905C-6141280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1F7-A42F-44C0-B0E3-452536FA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F1C2-B4A0-4024-9778-35EB23E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4840-63EE-41A2-A3E0-F81831E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36A6-B52A-424E-A55A-1E71D45A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DB90-FB81-4C0B-BEC3-BB182F9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9DD9-A628-463D-B48E-7F32F9B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4F5A-55CD-4789-A10B-1A692C7D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35EF-D3CA-4260-87E4-6A15B1EC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DCB-4407-4C1A-8F26-415A94F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4E7-0F39-484D-96D5-76B514D2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3A8-FED8-48AF-BE97-A960772D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8B0-251D-4643-B681-2A59C44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BBC-BDFB-4D3F-A51B-1EAFE23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1FC-769E-4FBF-824F-A2FB770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85B28-FBE2-4A73-ACC0-800945B223E0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782CC2-2E30-4FD4-939B-6DA68B2984C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522F36-678E-4013-93E9-18BEBF0FA3B3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040" cy="3384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0e0ea"/>
                </a:solidFill>
                <a:latin typeface="Calibri"/>
              </a:rPr>
              <a:t>Презентация на тему:</a:t>
            </a:r>
            <a:br>
              <a:rPr sz="4000"/>
            </a:br>
            <a:r>
              <a:rPr b="1" lang="ru-RU" sz="4000" spc="-1" strike="noStrike">
                <a:solidFill>
                  <a:srgbClr val="50e0ea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50e0ea"/>
                </a:solidFill>
                <a:latin typeface="Calibri"/>
              </a:rPr>
              <a:t>«Объекты неживой природы. </a:t>
            </a:r>
            <a:br>
              <a:rPr sz="4000"/>
            </a:br>
            <a:r>
              <a:rPr b="1" lang="ru-RU" sz="4000" spc="-1" strike="noStrike">
                <a:solidFill>
                  <a:srgbClr val="50e0ea"/>
                </a:solidFill>
                <a:latin typeface="Calibri"/>
              </a:rPr>
              <a:t>Воздух-Невидимка».                    </a:t>
            </a:r>
            <a:br>
              <a:rPr sz="4000"/>
            </a:br>
            <a:r>
              <a:rPr b="1" lang="ru-RU" sz="4000" spc="-1" strike="noStrike">
                <a:solidFill>
                  <a:srgbClr val="50e0ea"/>
                </a:solidFill>
                <a:latin typeface="Calibri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293000"/>
            <a:ext cx="640044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785960" y="3929040"/>
            <a:ext cx="57862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тский сад №10 комбинирова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спитатель старшей группы №6 «Ромашка» Симкина В. 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74680"/>
            <a:ext cx="7488360" cy="14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67640" y="428760"/>
            <a:ext cx="7056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6 (Мыльные пузыри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нутри мыльных пузырей находится воздух, поэтому мыльная пленка может растягиваться до определенного размера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43640" y="1917000"/>
            <a:ext cx="266400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2" descr="C:\Users\Игорь\Desktop\20150112_102545.jpg"/>
          <p:cNvPicPr/>
          <p:nvPr/>
        </p:nvPicPr>
        <p:blipFill>
          <a:blip r:embed="rId1"/>
          <a:stretch/>
        </p:blipFill>
        <p:spPr>
          <a:xfrm rot="5400000">
            <a:off x="-225360" y="2470680"/>
            <a:ext cx="5202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7640" y="274680"/>
            <a:ext cx="684036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3100"/>
            </a:b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м сильнее мы дуем, тем больше становится шарик. Его размер зависит от  силы воздушного потока который попадает внутрь шарика.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642960" y="285840"/>
            <a:ext cx="7857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7 (с воздушным шариком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43640" y="1920240"/>
            <a:ext cx="302400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2" descr="C:\Users\Игорь\Desktop\20150112_102518.jpg"/>
          <p:cNvPicPr/>
          <p:nvPr/>
        </p:nvPicPr>
        <p:blipFill>
          <a:blip r:embed="rId1"/>
          <a:stretch/>
        </p:blipFill>
        <p:spPr>
          <a:xfrm rot="5400000">
            <a:off x="-240840" y="2193480"/>
            <a:ext cx="5544360" cy="31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488360" cy="3528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 rot="10800000">
            <a:off x="4140360" y="3789360"/>
            <a:ext cx="4536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95640" y="302400"/>
            <a:ext cx="8460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ТОГ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здух – часть природы. Он везде вокруг нас, мы им дыши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здух невидим, прозраче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здух может двигат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еще очень важное свойство воздуха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Сам он не имеет запаха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ожет переносить запахи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оздух мы не слышим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огда воздух движется, он может переносить звук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ЗДУХ НЕОБХОДИМ ВСЕМ НАМ, БЕЗ НЕГО ЖИЗНИ НЕТ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76640"/>
            <a:ext cx="7772040" cy="3384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640" y="4005000"/>
            <a:ext cx="6912360" cy="187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борудование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веча, стеклянный стакан, прозрачная емкость с водой, воздушные шарики, соломки для коктейля, мыльные пузыри, пакеты полиэтиленовые, салфетки бум., стаканчики и ложки, бумажный ве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28400" y="476640"/>
            <a:ext cx="8715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рограммное содержание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знакомить с понятием «воздух», его свойствами и ролью в жизни человека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вивать речь, внимание, мышление, умение делать выводы на основе опыта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огащать словарный запас детей новыми словами (лаборатория, планета Земля, невидимка, безвкусный)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спитывать любознательность, любовь к природе, желание узнавать больше нового о ней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редыдущая работа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блюдение за воздухом и ветром на занятии и на прогулк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24640"/>
            <a:ext cx="7772040" cy="2088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3640" y="3429000"/>
            <a:ext cx="77763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Еще одну важную работу выполняет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воздух –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ледит за погодой: перегоняет холодные воздушные потоки на ЮГ, теплые на СЕВЕР; с морей, океанов, рек и озер собирает влагу и отдает ее суше (земле). Летом поливает землю дождями, а зимой укрывает пушистым снегом, чтобы не мерзли растения, не страдали от жестоких морозов звери и 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42960" y="714240"/>
            <a:ext cx="807228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- это бесцветный, прозрачный газ. Он состоит из кислорода и других элементов (азот, углекислый газ).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окружающий Землю, ее удивительная голубая «рубашка», благодаря которой, наша планета не перегревается от солнечных лучей, не стынет от космического холода. Кроме того,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(воздушная оболочка) защищает землю от космических снарядов – МЕТЕОРИТОВ. Когда небесные камни падают на планету, они сначала сталкиваются с ее «броней», замедляют их полет и, не достигнув Земли, сгорают.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4800"/>
            </a:br>
            <a:endParaRPr b="0" lang="ru-RU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Содержимое 8" descr="detsad-22311-1403769889 (1).jpg"/>
          <p:cNvPicPr/>
          <p:nvPr/>
        </p:nvPicPr>
        <p:blipFill>
          <a:blip r:embed="rId1"/>
          <a:stretch/>
        </p:blipFill>
        <p:spPr>
          <a:xfrm>
            <a:off x="1115640" y="2565000"/>
            <a:ext cx="2946600" cy="3928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486360" y="714240"/>
            <a:ext cx="80265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став воздуха» (опыт со свечкой).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воздухе есть кислород, который способен поддерживать г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000" y="2205000"/>
            <a:ext cx="2088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C:\Users\Игорь\Desktop\20150113_164612.jpg"/>
          <p:cNvPicPr/>
          <p:nvPr/>
        </p:nvPicPr>
        <p:blipFill>
          <a:blip r:embed="rId2"/>
          <a:stretch/>
        </p:blipFill>
        <p:spPr>
          <a:xfrm rot="5400000">
            <a:off x="4203000" y="3078000"/>
            <a:ext cx="4482000" cy="25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7640" y="274680"/>
            <a:ext cx="7488360" cy="1857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642960" y="357120"/>
            <a:ext cx="80722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2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с полиэтиленовыми пакетами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здух прозрачный, невидимый, а значит через него все ви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2" descr="http://ruslekar.info/images/original/318.jpg"/>
          <p:cNvPicPr/>
          <p:nvPr/>
        </p:nvPicPr>
        <p:blipFill>
          <a:blip r:embed="rId1"/>
          <a:stretch/>
        </p:blipFill>
        <p:spPr>
          <a:xfrm>
            <a:off x="2500200" y="2768040"/>
            <a:ext cx="4071600" cy="305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128360" cy="1497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br>
              <a:rPr sz="53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640" y="2061000"/>
            <a:ext cx="2592000" cy="42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038120" cy="53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здух выходит из воды с пузырьками. Чем сильнее мы дуем, тем больше волн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гда воздух движется, появляется ветер. Из-за ветра на море бывают волны. Среди них есть большие и маленькие. Их размер зависит от силы ветра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0" y="0"/>
            <a:ext cx="714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3 (вода и пузыри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Игорь\Desktop\20150112_102451.jpg"/>
          <p:cNvPicPr/>
          <p:nvPr/>
        </p:nvPicPr>
        <p:blipFill>
          <a:blip r:embed="rId1"/>
          <a:stretch/>
        </p:blipFill>
        <p:spPr>
          <a:xfrm rot="5400000">
            <a:off x="-45720" y="2070000"/>
            <a:ext cx="5639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27640" y="764640"/>
            <a:ext cx="4104000" cy="2160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7000"/>
            <a:ext cx="5050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2" descr="http://img-fotki.yandex.ru/get/3105/mistina.5/0_1ba94_659ffa18_XL"/>
          <p:cNvPicPr/>
          <p:nvPr/>
        </p:nvPicPr>
        <p:blipFill>
          <a:blip r:embed="rId1"/>
          <a:stretch/>
        </p:blipFill>
        <p:spPr>
          <a:xfrm>
            <a:off x="428760" y="2357280"/>
            <a:ext cx="5047920" cy="3785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5652000" y="2781000"/>
            <a:ext cx="34916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а «Раздувайся пузыр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дувайся пузырь, раздувайся большой, оставайся такой да не лопай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63236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0000"/>
          </a:bodyPr>
          <a:p>
            <a:pPr indent="0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57120" y="571320"/>
            <a:ext cx="82148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4 (с салфеткой и книгой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жду салфеткой и книгой есть воздух, он и привел салфетку в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640" y="2997000"/>
            <a:ext cx="4038120" cy="35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925000"/>
            <a:ext cx="4038120" cy="34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2" descr="http://ladychef.ru/wp-content/uploads/2013/02/salfetka-v-vide-serdechka2.jpg"/>
          <p:cNvPicPr/>
          <p:nvPr/>
        </p:nvPicPr>
        <p:blipFill>
          <a:blip r:embed="rId1"/>
          <a:stretch/>
        </p:blipFill>
        <p:spPr>
          <a:xfrm>
            <a:off x="214200" y="2910960"/>
            <a:ext cx="4857480" cy="3642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s://encrypted-tbn2.gstatic.com/images?q=tbn:ANd9GcSze40qk-S6ZyIo7MLC_QTil4S19TFDnYldWP5Vv3CeTv9pNrRt"/>
          <p:cNvPicPr/>
          <p:nvPr/>
        </p:nvPicPr>
        <p:blipFill>
          <a:blip r:embed="rId2"/>
          <a:stretch/>
        </p:blipFill>
        <p:spPr>
          <a:xfrm>
            <a:off x="4932000" y="2853000"/>
            <a:ext cx="421164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86407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4000"/>
          </a:bodyPr>
          <a:p>
            <a:pPr indent="0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4000"/>
            </a:b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3640" y="1989000"/>
            <a:ext cx="316800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удара ложкой стекло стакана начинает дрожать, мелко и часто, это движется воздух вокруг стакана. Постепенно это дрожание воздуха доходит до наших ушей и мы слышим этот звон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214200" y="214200"/>
            <a:ext cx="745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№ 5 (стакан и ложка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Игорь\Desktop\20150113_164637.jpg"/>
          <p:cNvPicPr/>
          <p:nvPr/>
        </p:nvPicPr>
        <p:blipFill>
          <a:blip r:embed="rId1"/>
          <a:stretch/>
        </p:blipFill>
        <p:spPr>
          <a:xfrm rot="5400000">
            <a:off x="-204480" y="2085120"/>
            <a:ext cx="5708160" cy="32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37</TotalTime>
  <Application>LibreOffice/7.4.7.2$Linux_X86_64 LibreOffice_project/40$Build-2</Application>
  <AppVersion>15.0000</AppVersion>
  <Words>337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7:57:53Z</dcterms:created>
  <dc:creator>1</dc:creator>
  <dc:description/>
  <dc:language>en-US</dc:language>
  <cp:lastModifiedBy>Игорь</cp:lastModifiedBy>
  <dcterms:modified xsi:type="dcterms:W3CDTF">2015-01-24T09:16:51Z</dcterms:modified>
  <cp:revision>29</cp:revision>
  <dc:subject/>
  <dc:title>Открытое занятие по экологии на тему:   «Объекты неживой природы.  Воздух-невидимка».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