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  <p:custShowLst>
    <p:custShow name="Произвольный показ 1" id="0">
      <p:sldLst>
        <p:sld r:id="rId33"/>
      </p:sldLst>
    </p:custShow>
    <p:custShow name="Произвольный показ 2" id="1">
      <p:sldLst>
        <p:sld r:id="rId27"/>
      </p:sldLst>
    </p:custShow>
    <p:custShow name="Произвольный показ 3" id="2">
      <p:sldLst>
        <p:sld r:id="rId18"/>
      </p:sldLst>
    </p:custShow>
    <p:custShow name="Произвольный показ 4" id="3">
      <p:sldLst>
        <p:sld r:id="rId22"/>
      </p:sldLst>
    </p:custShow>
    <p:custShow name="Произвольный показ 5" id="4">
      <p:sldLst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38A6-2DDE-4F05-BC50-7D7B7366B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FCC-612F-4BAE-9814-2D5BB2DA1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13B4-9802-4E75-9C69-A1178972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0D59-73C3-4501-99AB-64B55BA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9A2F0-8EE1-4107-9B8E-43EAEED7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E2164-D51F-4130-9A27-D1C8FA90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4827-4F9A-471A-AE32-183C54B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6F0C1-ECF4-4490-BC2C-158FB17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72FAF-FAD2-4FF3-B0A8-519FB82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5E307-C28F-43D2-B7FA-E223D1B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16F7B-299D-41E7-9547-27A273BD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31CA-5424-4EDD-BDE0-8035E456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E0C91-A97F-4E53-887B-3662D80A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FDBB5-D209-44EB-9681-17514FC8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36A7-8BD1-4505-ABE2-6732E598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DB770-D0D5-4539-9570-E1EEBB6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30EBC-A40D-4DDD-8E0B-EF90F127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031A-2875-41FE-BB4D-34E1593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1E2DD-8FED-4A3E-8E60-90E1367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7A295-34D7-4574-896D-CEAAF153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232B5-DA3D-4A18-80C9-19BBB3DC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D3977-7044-4DDF-97A3-0B411A9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60211-468A-415F-9935-D2B3DCE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8DBED-209E-4DFE-AA6D-AEDC52E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8F1E1-C9A4-434E-A99C-F930B86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5D13-D637-4A2A-96DB-5F05ADDC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89161-7343-4E4D-BE97-64D67B58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53D61-4FC8-481C-AF10-B10A697A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CC359-3121-48ED-8A3C-0D4D049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85766-7033-4379-9150-7B97DBAD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D4507-94C3-48F8-9367-ACCEAC8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B368-B15A-4016-A49C-E56B299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B4491-3C2A-47C0-89D8-F2145E8F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CE6F-843D-4AB2-A25E-D5866AA0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78686-F081-4E31-BC3A-9772139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E8990-F0C2-45E6-A38C-49C26C2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A48E-8450-45EA-AD29-4E9FE5B6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4F2D6-7198-4419-B27C-F81AE38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510C1-2932-4710-A51E-B3B5393C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5DF76-F152-4E8C-A257-9B06A2FF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17477-6058-4781-A912-EF3A94E8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09C9B-7CE1-4E4D-BEC8-303D73E0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F7F1A-792D-410B-9D39-DF446360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B7B0E-B7D5-4F68-8E49-B9FE334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BC3F7-C9D1-4483-8419-87DEF51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A314B-64CC-41C0-A433-3F036781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18663-B2EA-4F3B-BF77-32624FB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DB5-133B-47F5-B85A-64827B7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C1DDA-4615-43AF-AA36-AE0A080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68D79-28C5-4168-99FD-397932D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B008-47C3-4A86-B915-331F577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1554A-85CA-44BE-A530-C8D9BC0A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DFF33-0A1F-49C5-99E8-C9FD5E7F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384-F341-4455-8B64-88F48D9D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72CE-D2FC-4906-8C66-A92B0925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90B1-3AE1-4F22-8068-AC1D737D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E27-D1C2-4480-B57F-02942E1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F23-E607-4B5E-8293-28A6F460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BD82-0427-4537-8AEA-D098DFD1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A0E6-BB91-4377-B059-48CF1E7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D006-78D6-4508-B425-FA3D425D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10A3-AB58-445A-9A46-766778BE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F87-31B7-4B79-A549-81F13290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AF05-BB47-491A-8409-5D89B004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429B-0358-4F7C-8794-EF690A2C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ADB4-9FF2-4A0B-B287-6BA1470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EC4D-F82C-4F57-B7C4-3953D02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B1C4-172B-49A9-921F-8B09F68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D111-8B32-458D-ABCD-38CB386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3FE2-BA2D-4D75-A72E-C50FF70A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2715-EE1C-44A5-921D-B439CF1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F277-D0DA-4F7D-AC8A-A4F79E5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BCD1-5875-4A46-9C76-AE6E2D4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01B1-C2D1-4B28-BF31-839B52A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C472-2FD0-473A-99B1-9452411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0A18-3301-4868-9326-A79B1943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B62E-F547-471B-994E-08642CC6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CC0A-7DEE-4DB4-805D-F53615DE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76D5-18A6-434B-BA01-403E2D9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7C5B-606B-480E-B96F-09D1F3FA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473C-47FC-4582-BC13-D3C2E26B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0002-CD85-4B27-9E03-B7ADC65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C98C-9FBF-47DB-9133-67BEF9EE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4DA7-D077-422D-AFAA-5B959C78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B59D-F85E-4602-BE6F-746E9E4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EB5C-D5FC-4066-A8C9-736DD02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98B2-25F9-4D04-B7F7-D7DEE19E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A4A7-3EC5-4EC2-96ED-0672925B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52DC-3A63-4D03-B771-38F33762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AA6C-86E9-4856-9176-5F8F0D91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E53A-8981-4FDE-BBF8-F7D4383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DC3D-24F6-4FC5-96BD-39100735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23C3-F0E2-441E-A033-2860520F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2B08-4CB0-4B9E-8F19-2A8AF14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6CD6-2788-44CD-9EDC-1C5FA36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CF91-3CBA-4D49-B328-FA8A53C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D2D5-B9EA-44B5-A6DC-6F6304C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D66DC-EF8F-4DE4-8794-88C368A3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D4FB-0F96-4ED4-B4B1-59ED052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2CA5-E426-4AD6-8EF1-966C35F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B8C8F-8863-4879-B2BE-8AA66CA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7F29-84C5-43C8-AE7D-BE48DB88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C07E-8B26-48B6-8150-9B313D88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0069-0FCA-4354-BB47-860A27F9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D585E-C392-4EE4-B74C-698C893B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56D7F-2C59-421A-9A33-2FA332EE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7AA9-8E0E-41E5-9C8E-83B9F7D4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E975-87CD-4DBF-AAE3-0BAD064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319F-DEBA-40E8-B441-0A98725A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074E-8F62-4B4D-AE02-3E865FB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AECB-5A7A-4631-B470-9D291B1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46F2-F715-43A3-8957-721A232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4AEE-D2F1-4F45-9A2C-7C16A10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4D30-A0B3-4F30-9BF9-D5F7EE0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753C-59DA-42A7-9AD7-2FA4D09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54B5-373C-4D54-A2DA-D84440C0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5756-A039-4427-AB26-09ADBED7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CC736-8901-4AE2-8F57-3B93B927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D227-83C7-4A80-B9D7-2818BA9E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9BDAD-1917-413E-B389-D0EF7BF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F68A4-EE55-4F19-84D8-A663C88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3310-E0C5-4158-B2D6-C1E5C02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F90A-2E23-4D61-A716-11E8AAC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44D8F-5CA4-43F9-B0F9-A38F216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544F-9154-4039-823B-A7133F4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05B0-855C-4258-9193-D550A44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3D69-61DC-45C8-84B9-9BC85E3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6156-4201-48F5-A824-1ADE27F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4CFE-77FB-4ABD-A0EA-1C3A9114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ECEC-A2F2-4BE6-94C8-0CBC3F0F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87EE-8B02-4816-A2A8-70C69591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966E-405E-4618-80C0-F70BF8D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2354-BF23-4616-8CA4-5B33C61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95F30-6C3A-435F-8652-6B17C579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74BF9-8561-443A-825F-F6DEE35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DDE6-D124-48D8-81FB-36EE067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9F7B-D3DF-4DF1-BB24-0C508E8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D5AD-541F-4AA0-8CF5-D2DA9D6B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DB331-73C4-4FAF-B0C5-9E00A96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2B95C-6C90-407F-B047-B05FC3D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D991-8C2A-4788-A939-F45509CB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9AA2-3DBA-45FF-872F-BA3A6D63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992B-13DB-4E7D-AE61-391A5B32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7CA18-BF59-4F3C-89B8-09BFBC1A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1F682-28E8-444E-93FE-9693CEDD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106F0-5988-4535-9436-8B2AD603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6855-4F19-4AE5-8406-D4B1BB8709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802-C258-4466-B1B5-F998BD9A55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3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00A9-63B0-4BAB-B45D-69103D7E98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8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8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0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5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06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7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1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1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1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647F-8535-4768-9297-0B2A821F1A6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EBA9-39FD-4144-B617-62F5F59CA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7174-ED8B-4EA4-BBA7-7B30CA983D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97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E98-F978-4DC1-8959-E176DD13A7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FFC5-211F-4C36-90DB-C838DA000C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8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0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0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0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0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1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A5F-2CDF-453F-85AF-B49584302E0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4FAC-682C-4EAA-BC52-85EC72E146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428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7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458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9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460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461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462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3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4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5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66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8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9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0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471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2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3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4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5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6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EA7E-E021-4D0B-B700-3CEDA53861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2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6D97-03E2-428C-BAB6-9EAD81B352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6" name=""/>
          <p:cNvGraphicFramePr/>
          <p:nvPr/>
        </p:nvGraphicFramePr>
        <p:xfrm>
          <a:off x="1657440" y="698400"/>
          <a:ext cx="5829120" cy="5461200"/>
        </p:xfrm>
        <a:graphic>
          <a:graphicData uri="http://schemas.openxmlformats.org/drawingml/2006/table">
            <a:tbl>
              <a:tblPr/>
              <a:tblGrid>
                <a:gridCol w="1939680"/>
                <a:gridCol w="1946520"/>
                <a:gridCol w="1942920"/>
              </a:tblGrid>
              <a:tr h="23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Line 62"/>
          <p:cNvSpPr/>
          <p:nvPr/>
        </p:nvSpPr>
        <p:spPr>
          <a:xfrm>
            <a:off x="2484360" y="1484280"/>
            <a:ext cx="424836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WordArt 70"/>
          <p:cNvSpPr txBox="1"/>
          <p:nvPr/>
        </p:nvSpPr>
        <p:spPr>
          <a:xfrm rot="21072000">
            <a:off x="684360" y="907920"/>
            <a:ext cx="799308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ще простого</a:t>
            </a:r>
            <a:endParaRPr b="0" i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4427640" y="5300640"/>
            <a:ext cx="4486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Wide Lati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Wide Latin"/>
              </a:rPr>
              <a:t>Презентация к уроку  «Второстепенные члены предложения»(8 класс) выполнена учителем русского языка и литературы МОУ «СОШ №21» Балдуевой Е.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7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8" name=""/>
          <p:cNvGraphicFramePr/>
          <p:nvPr/>
        </p:nvGraphicFramePr>
        <p:xfrm>
          <a:off x="1692360" y="711360"/>
          <a:ext cx="5794200" cy="543708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1908000" y="4437000"/>
          <a:ext cx="1562400" cy="1519200"/>
        </p:xfrm>
        <a:graphic>
          <a:graphicData uri="http://schemas.openxmlformats.org/drawingml/2006/table">
            <a:tbl>
              <a:tblPr/>
              <a:tblGrid>
                <a:gridCol w="1562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834920" y="1988640"/>
            <a:ext cx="641988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br>
              <a:rPr sz="24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составьте предложения, в которых слова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рассказ, каток, повесть, гвоздь, сирень, теплоход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были бы в одном случае подлежащими, а в другом – прямыми дополнениями.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Над этими словами укажите падеж и склонение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50920" y="260280"/>
          <a:ext cx="1562040" cy="151920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3" name=""/>
          <p:cNvGraphicFramePr/>
          <p:nvPr/>
        </p:nvGraphicFramePr>
        <p:xfrm>
          <a:off x="1692360" y="711360"/>
          <a:ext cx="5794200" cy="543708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6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5724360" y="836640"/>
          <a:ext cx="1562400" cy="1519200"/>
        </p:xfrm>
        <a:graphic>
          <a:graphicData uri="http://schemas.openxmlformats.org/drawingml/2006/table">
            <a:tbl>
              <a:tblPr/>
              <a:tblGrid>
                <a:gridCol w="1562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2124000" y="691920"/>
            <a:ext cx="65628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и запишите сочетание определяемого слова и приложения. Объясните написание деф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2-3 сочетаниями составьте предложения (устн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179280" y="404640"/>
          <a:ext cx="1633680" cy="1519560"/>
        </p:xfrm>
        <a:graphic>
          <a:graphicData uri="http://schemas.openxmlformats.org/drawingml/2006/table">
            <a:tbl>
              <a:tblPr/>
              <a:tblGrid>
                <a:gridCol w="1633680"/>
              </a:tblGrid>
              <a:tr h="15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250920" y="2349360"/>
          <a:ext cx="3960720" cy="3932280"/>
        </p:xfrm>
        <a:graphic>
          <a:graphicData uri="http://schemas.openxmlformats.org/drawingml/2006/table">
            <a:tbl>
              <a:tblPr/>
              <a:tblGrid>
                <a:gridCol w="203184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сло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лож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вес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г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ьбр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8" name="Rectangle 157"/>
          <p:cNvSpPr/>
          <p:nvPr/>
        </p:nvSpPr>
        <p:spPr>
          <a:xfrm>
            <a:off x="4932360" y="2565360"/>
            <a:ext cx="2879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од-гига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-инду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-рус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словес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ь-пу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 Эльбру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ра Мар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-р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Rectangle 158"/>
          <p:cNvSpPr/>
          <p:nvPr/>
        </p:nvSpPr>
        <p:spPr>
          <a:xfrm>
            <a:off x="5280480" y="24670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Verdana"/>
              </a:rPr>
              <a:t>Проверяе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0" name="Picture 159" descr="ole"/>
          <p:cNvPicPr/>
          <p:nvPr/>
        </p:nvPicPr>
        <p:blipFill>
          <a:blip r:embed="rId1"/>
          <a:stretch/>
        </p:blipFill>
        <p:spPr>
          <a:xfrm>
            <a:off x="3851280" y="5950080"/>
            <a:ext cx="51274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1" name=""/>
          <p:cNvGraphicFramePr/>
          <p:nvPr/>
        </p:nvGraphicFramePr>
        <p:xfrm>
          <a:off x="1692360" y="711360"/>
          <a:ext cx="5794200" cy="543708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6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5724360" y="4292640"/>
          <a:ext cx="1562400" cy="1519200"/>
        </p:xfrm>
        <a:graphic>
          <a:graphicData uri="http://schemas.openxmlformats.org/drawingml/2006/table">
            <a:tbl>
              <a:tblPr/>
              <a:tblGrid>
                <a:gridCol w="1562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10" descr="C:\Users\пользователь\Desktop\В музее Ручьёва\Рисунок1.jpg"/>
          <p:cNvPicPr/>
          <p:nvPr/>
        </p:nvPicPr>
        <p:blipFill>
          <a:blip r:embed="rId1"/>
          <a:stretch/>
        </p:blipFill>
        <p:spPr>
          <a:xfrm>
            <a:off x="3206880" y="2405160"/>
            <a:ext cx="27302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5" descr="C:\Users\пользователь\Desktop\В музее Ручьёва\Рисунок2.jpg"/>
          <p:cNvPicPr/>
          <p:nvPr/>
        </p:nvPicPr>
        <p:blipFill>
          <a:blip r:embed="rId1"/>
          <a:stretch/>
        </p:blipFill>
        <p:spPr>
          <a:xfrm>
            <a:off x="3206880" y="2435400"/>
            <a:ext cx="2730240" cy="19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5" descr="C:\Users\пользователь\Desktop\В музее Ручьёва\Рисунок3.jpg"/>
          <p:cNvPicPr/>
          <p:nvPr/>
        </p:nvPicPr>
        <p:blipFill>
          <a:blip r:embed="rId1"/>
          <a:stretch/>
        </p:blipFill>
        <p:spPr>
          <a:xfrm>
            <a:off x="3206880" y="2435400"/>
            <a:ext cx="2730240" cy="19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6" descr="C:\Users\пользователь\Desktop\В музее Ручьёва\Рисунок4.jpg"/>
          <p:cNvPicPr/>
          <p:nvPr/>
        </p:nvPicPr>
        <p:blipFill>
          <a:blip r:embed="rId1"/>
          <a:stretch/>
        </p:blipFill>
        <p:spPr>
          <a:xfrm>
            <a:off x="3206880" y="2409840"/>
            <a:ext cx="27302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2195640" y="404280"/>
            <a:ext cx="634680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(РР, Н-РК): запишите отрывок из стихотворения, найдите определения, выясните, чем они выраж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эпит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250920" y="549360"/>
          <a:ext cx="1562040" cy="151920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9" name="Picture 20" descr="Рисунок4"/>
          <p:cNvPicPr/>
          <p:nvPr/>
        </p:nvPicPr>
        <p:blipFill>
          <a:blip r:embed="rId1"/>
          <a:stretch/>
        </p:blipFill>
        <p:spPr>
          <a:xfrm>
            <a:off x="324000" y="4365720"/>
            <a:ext cx="3960720" cy="22813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21" descr="Рисунок5"/>
          <p:cNvPicPr/>
          <p:nvPr/>
        </p:nvPicPr>
        <p:blipFill>
          <a:blip r:embed="rId2"/>
          <a:stretch/>
        </p:blipFill>
        <p:spPr>
          <a:xfrm>
            <a:off x="4788000" y="4365720"/>
            <a:ext cx="4032000" cy="2281320"/>
          </a:xfrm>
          <a:prstGeom prst="rect">
            <a:avLst/>
          </a:prstGeom>
          <a:ln w="0">
            <a:noFill/>
          </a:ln>
        </p:spPr>
      </p:pic>
      <p:sp>
        <p:nvSpPr>
          <p:cNvPr id="861" name="Rectangle 22"/>
          <p:cNvSpPr/>
          <p:nvPr/>
        </p:nvSpPr>
        <p:spPr>
          <a:xfrm>
            <a:off x="2987640" y="1989000"/>
            <a:ext cx="545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ы жили в палат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зелёным оконцем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мытой дождями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сушенной солнцем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а жгли у двер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олотые кост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рыжих камень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гнитной горы.               Б.Ручьё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2771640" y="765000"/>
          <a:ext cx="5829480" cy="5437440"/>
        </p:xfrm>
        <a:graphic>
          <a:graphicData uri="http://schemas.openxmlformats.org/drawingml/2006/table">
            <a:tbl>
              <a:tblPr/>
              <a:tblGrid>
                <a:gridCol w="1940040"/>
                <a:gridCol w="1946160"/>
                <a:gridCol w="194328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539640" y="549360"/>
          <a:ext cx="1584360" cy="143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2987640" y="4508640"/>
          <a:ext cx="1562040" cy="151920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2987640" y="2708280"/>
          <a:ext cx="1584360" cy="15192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2916360" y="836640"/>
          <a:ext cx="1584360" cy="15192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7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539640" y="2708280"/>
          <a:ext cx="1584360" cy="1440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539640" y="2708280"/>
          <a:ext cx="1584360" cy="1440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39640" y="2708280"/>
          <a:ext cx="1584360" cy="1440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4932360" y="836640"/>
          <a:ext cx="1584360" cy="1440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Line 180"/>
          <p:cNvSpPr/>
          <p:nvPr/>
        </p:nvSpPr>
        <p:spPr>
          <a:xfrm>
            <a:off x="3780000" y="1197000"/>
            <a:ext cx="71280" cy="460836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Rectangle 192"/>
          <p:cNvSpPr/>
          <p:nvPr/>
        </p:nvSpPr>
        <p:spPr>
          <a:xfrm>
            <a:off x="1042920" y="461016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"/>
                <a:ea typeface="Times New Roman"/>
              </a:rPr>
              <a:t>«5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"/>
          <p:cNvGraphicFramePr/>
          <p:nvPr/>
        </p:nvGraphicFramePr>
        <p:xfrm>
          <a:off x="1692360" y="711360"/>
          <a:ext cx="5794200" cy="543708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1835280" y="2708280"/>
          <a:ext cx="1706400" cy="1519200"/>
        </p:xfrm>
        <a:graphic>
          <a:graphicData uri="http://schemas.openxmlformats.org/drawingml/2006/table">
            <a:tbl>
              <a:tblPr/>
              <a:tblGrid>
                <a:gridCol w="1706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1674720" y="711360"/>
          <a:ext cx="5794560" cy="5437080"/>
        </p:xfrm>
        <a:graphic>
          <a:graphicData uri="http://schemas.openxmlformats.org/drawingml/2006/table">
            <a:tbl>
              <a:tblPr/>
              <a:tblGrid>
                <a:gridCol w="1905120"/>
                <a:gridCol w="1946160"/>
                <a:gridCol w="194328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3708360" y="4508640"/>
          <a:ext cx="1706760" cy="1519200"/>
        </p:xfrm>
        <a:graphic>
          <a:graphicData uri="http://schemas.openxmlformats.org/drawingml/2006/table">
            <a:tbl>
              <a:tblPr/>
              <a:tblGrid>
                <a:gridCol w="170676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497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Wide Latin"/>
              </a:rPr>
              <a:t>Борис Ручьёв: известный и неизвес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рис ручьёв, «певец Магнитки», хорошо известен не только уральцам. Имя поэта стало своеобразной поэтической визитной карточкой Магнитогорска. В его яркой и трагической судьбе, словно в зеркале, отразилась судьба его ровесников-тех, кому довелось жить в переломные времена российской ис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ождённый при царе, крещен в купели»,- пишет Ручьёв о своём появлении на свет в поэме «Прощание с юностью».Он стал третьим ребенком в семье Кривощековых. Его родители были людьми высоко образованными.Любовь к книге, неизбывный интерес к  знаниям привались и детям. По окончании девятилетки Борис Ручьёв делает свой главный выбор-уезжает на строительство Магнитогорска.  Работает плотником,бетонщиком,литсотрудником в комсомольских газетах. Параллельно происходит и основное-стремительный литературный взлет. О жизни и творчестве Бориса Ручьёва написано немало кни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обладал высочайшим литературным мастерством, позволившим ему создать великолепные сти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если и остались загадки в творчестве и судьбе уральского соловья, то это не беда. Ведь поэт, отмеченный  Богом, не должен быть раскрытой, легко читаемой книг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395280" y="404640"/>
          <a:ext cx="1562040" cy="151956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2411280" y="457200"/>
            <a:ext cx="62755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de Latin"/>
              </a:rPr>
              <a:t>Лингвистический анализ текста</a:t>
            </a:r>
            <a:r>
              <a:rPr b="1" lang="ru-RU" sz="4400" spc="-1" strike="noStrike">
                <a:solidFill>
                  <a:srgbClr val="000000"/>
                </a:solidFill>
                <a:latin typeface="Wide Lati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1674720" y="711360"/>
          <a:ext cx="5794560" cy="5437080"/>
        </p:xfrm>
        <a:graphic>
          <a:graphicData uri="http://schemas.openxmlformats.org/drawingml/2006/table">
            <a:tbl>
              <a:tblPr/>
              <a:tblGrid>
                <a:gridCol w="1905120"/>
                <a:gridCol w="1946160"/>
                <a:gridCol w="194328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3780000" y="836640"/>
          <a:ext cx="1706400" cy="1519200"/>
        </p:xfrm>
        <a:graphic>
          <a:graphicData uri="http://schemas.openxmlformats.org/drawingml/2006/table">
            <a:tbl>
              <a:tblPr/>
              <a:tblGrid>
                <a:gridCol w="1706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3080" y="301320"/>
            <a:ext cx="564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интаксическая загадка</a:t>
            </a:r>
            <a:br>
              <a:rPr sz="36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занимательная лингвистика)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73134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дин древний правитель оставил своим сыновьям завещание: «Поставьте на моей могиле статую золотую чашу держащую». Сыновья призадумались: золотая статуя потребовала бы всего оставленного отцом золота. Однако один из наследников нашёл выход, как, не нарушая завета отца, разбогатеть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айдите и вы его решение (кто быстрее?!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179280" y="404640"/>
          <a:ext cx="1633680" cy="1519560"/>
        </p:xfrm>
        <a:graphic>
          <a:graphicData uri="http://schemas.openxmlformats.org/drawingml/2006/table">
            <a:tbl>
              <a:tblPr/>
              <a:tblGrid>
                <a:gridCol w="1633680"/>
              </a:tblGrid>
              <a:tr h="15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ru-RU" sz="6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6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4" name="Picture 18" descr="peo-clock_dude"/>
          <p:cNvPicPr/>
          <p:nvPr/>
        </p:nvPicPr>
        <p:blipFill>
          <a:blip r:embed="rId1"/>
          <a:stretch/>
        </p:blipFill>
        <p:spPr>
          <a:xfrm>
            <a:off x="5076720" y="4365720"/>
            <a:ext cx="2882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роверь себя!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29324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тец забыл поставить запятую. Видимо, он предполагал такое прочтение: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«Поставьте на моей могиле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 статую золотую,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чашу держащую»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Один из сыновей решил, что запятая должна стоять в другом месте: «Поставьте на моей могиле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статую,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золотую чашу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 держащую»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Arial"/>
              </a:rPr>
              <a:t>Золотой в этом случае оказывалась лишь чаща. Таким образом, наследники отдали долг памяти отцу и остались при деньга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7" name="Picture 4" descr="WACKY"/>
          <p:cNvPicPr/>
          <p:nvPr/>
        </p:nvPicPr>
        <p:blipFill>
          <a:blip r:embed="rId1"/>
          <a:stretch/>
        </p:blipFill>
        <p:spPr>
          <a:xfrm>
            <a:off x="4932360" y="4338720"/>
            <a:ext cx="2871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3300"/>
                </a:solidFill>
                <a:latin typeface="Castellar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3300"/>
                </a:solidFill>
                <a:latin typeface="Castellar"/>
              </a:rPr>
              <a:t>Умным быть модно!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059280" y="765000"/>
          <a:ext cx="5794200" cy="543744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3276720" y="907920"/>
          <a:ext cx="1562040" cy="151920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Rectangle 103"/>
          <p:cNvSpPr/>
          <p:nvPr/>
        </p:nvSpPr>
        <p:spPr>
          <a:xfrm>
            <a:off x="395280" y="2689200"/>
            <a:ext cx="4248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ма 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Lucida Handwriting"/>
              </a:rPr>
              <a:t>«</a:t>
            </a:r>
            <a:r>
              <a:rPr b="1" i="1" lang="ru-RU" sz="3600" spc="-1" strike="noStrike">
                <a:solidFill>
                  <a:srgbClr val="ff3300"/>
                </a:solidFill>
                <a:latin typeface="Lucida Handwriting"/>
              </a:rPr>
              <a:t>Второстепенные       член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Lucida Handwriting"/>
              </a:rPr>
              <a:t>предложения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2411280" y="476280"/>
            <a:ext cx="6275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ведите кружочком правильный вариант ответа в каждом из мини-те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179280" y="620640"/>
          <a:ext cx="1562040" cy="151920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Rectangle 9"/>
          <p:cNvSpPr/>
          <p:nvPr/>
        </p:nvSpPr>
        <p:spPr>
          <a:xfrm>
            <a:off x="1835280" y="1387440"/>
            <a:ext cx="2016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Тест №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Укажи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номера слов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 которых н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пропущен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бук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-сверс..н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-истин..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-гостин..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-ровес..н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-искус..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-привил..ег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7-искус..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-ал..е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9-конгрес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0-юн..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10"/>
          <p:cNvSpPr/>
          <p:nvPr/>
        </p:nvSpPr>
        <p:spPr>
          <a:xfrm>
            <a:off x="3708360" y="1341360"/>
            <a:ext cx="172728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ест № 2.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Укажите номера слов, в котор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пропущен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-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-горяч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-доч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-обжеч..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-кулич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-сплош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-свар..щ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7-уж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-задач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9-воз..мёш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0-острич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11"/>
          <p:cNvSpPr/>
          <p:nvPr/>
        </p:nvSpPr>
        <p:spPr>
          <a:xfrm>
            <a:off x="5292720" y="1341360"/>
            <a:ext cx="35812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Тест № 3. Укажите номера слов, в написании или толковании которых есть ошиб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Беллетристика – повествовательная литература, «легкое чтиво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Автобиография – инструкция по ремонту автомоби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Превилегия – преимущественное право, льго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.Библиограф - специалист п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бли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5.Конгресс – съезд, собрание по вопросам международного знач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.Дискуссия –спор, обсуждение какого-нибудь вопрос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7.Эпилог – вступительная часть художественного произвед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8.Дебют – первое или пробное выступ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Picture 12" descr="p_md_wht_2"/>
          <p:cNvPicPr/>
          <p:nvPr/>
        </p:nvPicPr>
        <p:blipFill>
          <a:blip r:embed="rId1"/>
          <a:stretch/>
        </p:blipFill>
        <p:spPr>
          <a:xfrm flipH="1" rot="10800000">
            <a:off x="178560" y="4581000"/>
            <a:ext cx="1613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 к тесту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:  3, 4, 5, 6,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 к тесту №  2:  2, 3, 5, 9,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 к тесту №  3:   2, 3, 4,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4"/>
          <p:cNvSpPr txBox="1"/>
          <p:nvPr/>
        </p:nvSpPr>
        <p:spPr>
          <a:xfrm>
            <a:off x="1547640" y="3357720"/>
            <a:ext cx="655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2556000" y="51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Wide Latin"/>
              </a:rPr>
              <a:t>Так держать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8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4" name=""/>
          <p:cNvGraphicFramePr/>
          <p:nvPr/>
        </p:nvGraphicFramePr>
        <p:xfrm>
          <a:off x="1692360" y="711360"/>
          <a:ext cx="5794200" cy="543708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3780000" y="2637000"/>
          <a:ext cx="1562040" cy="151920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12"/>
          <p:cNvGrpSpPr/>
          <p:nvPr/>
        </p:nvGrpSpPr>
        <p:grpSpPr>
          <a:xfrm>
            <a:off x="2856600" y="-147960"/>
            <a:ext cx="7214400" cy="5415120"/>
            <a:chOff x="2856600" y="-147960"/>
            <a:chExt cx="7214400" cy="5415120"/>
          </a:xfrm>
        </p:grpSpPr>
        <p:sp>
          <p:nvSpPr>
            <p:cNvPr id="807" name="AutoShape 21"/>
            <p:cNvSpPr/>
            <p:nvPr/>
          </p:nvSpPr>
          <p:spPr>
            <a:xfrm>
              <a:off x="2987640" y="333360"/>
              <a:ext cx="708336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Oval 20"/>
            <p:cNvSpPr/>
            <p:nvPr/>
          </p:nvSpPr>
          <p:spPr>
            <a:xfrm>
              <a:off x="4698360" y="1380960"/>
              <a:ext cx="148608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  </a:t>
              </a:r>
              <a:r>
                <a:rPr b="1" i="1" lang="ru-RU" sz="11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главные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лены предложения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торостепенные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19"/>
            <p:cNvSpPr/>
            <p:nvPr/>
          </p:nvSpPr>
          <p:spPr>
            <a:xfrm rot="2152800">
              <a:off x="3211920" y="553680"/>
              <a:ext cx="1828800" cy="1028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лежащее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ТО? ЧТО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щ., мест., СС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 rot="1612200">
              <a:off x="5982480" y="2217960"/>
              <a:ext cx="2437200" cy="1225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стоятельство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де? куда? откуда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чему? зачем? и как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щ. с    предлогом,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, СС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 rot="19820400">
              <a:off x="2987280" y="2209680"/>
              <a:ext cx="1886040" cy="1028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</a:t>
              </a: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полнение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 </a:t>
              </a:r>
              <a:r>
                <a:rPr b="1" i="1" lang="ru-RU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?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косвенных падежей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щ., мест., СС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Line 16"/>
            <p:cNvSpPr/>
            <p:nvPr/>
          </p:nvSpPr>
          <p:spPr>
            <a:xfrm>
              <a:off x="6581880" y="9237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 rot="19225800">
              <a:off x="5782680" y="333000"/>
              <a:ext cx="2045880" cy="1488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14"/>
            <p:cNvSpPr/>
            <p:nvPr/>
          </p:nvSpPr>
          <p:spPr>
            <a:xfrm rot="19124400">
              <a:off x="5888520" y="443160"/>
              <a:ext cx="1828800" cy="126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</a:t>
              </a: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казуемое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то делать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то сделать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то? что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ков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.,сущ., кр.прил.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 rot="16200000">
              <a:off x="4586040" y="2750400"/>
              <a:ext cx="1828800" cy="1604160"/>
            </a:xfrm>
            <a:prstGeom prst="ellipse">
              <a:avLst/>
            </a:prstGeom>
            <a:solidFill>
              <a:srgbClr val="ffffff"/>
            </a:solidFill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ределение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кой? чей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кая? чья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кое? чьё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кие? чьи?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л., прит.м.,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гл.прил.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16" name="Picture 11" descr=""/>
          <p:cNvPicPr/>
          <p:nvPr/>
        </p:nvPicPr>
        <p:blipFill>
          <a:blip r:embed="rId1"/>
          <a:stretch/>
        </p:blipFill>
        <p:spPr>
          <a:xfrm>
            <a:off x="1763640" y="6165720"/>
            <a:ext cx="1057320" cy="162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0" descr=""/>
          <p:cNvPicPr/>
          <p:nvPr/>
        </p:nvPicPr>
        <p:blipFill>
          <a:blip r:embed="rId2"/>
          <a:stretch/>
        </p:blipFill>
        <p:spPr>
          <a:xfrm>
            <a:off x="2771640" y="6237360"/>
            <a:ext cx="609840" cy="171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3"/>
          <a:stretch/>
        </p:blipFill>
        <p:spPr>
          <a:xfrm>
            <a:off x="3348000" y="6308640"/>
            <a:ext cx="1638360" cy="104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" descr=""/>
          <p:cNvPicPr/>
          <p:nvPr/>
        </p:nvPicPr>
        <p:blipFill>
          <a:blip r:embed="rId4"/>
          <a:stretch/>
        </p:blipFill>
        <p:spPr>
          <a:xfrm>
            <a:off x="5003640" y="6237360"/>
            <a:ext cx="466920" cy="1810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"/>
          <p:cNvPicPr/>
          <p:nvPr/>
        </p:nvPicPr>
        <p:blipFill>
          <a:blip r:embed="rId5"/>
          <a:stretch/>
        </p:blipFill>
        <p:spPr>
          <a:xfrm>
            <a:off x="5508720" y="6308640"/>
            <a:ext cx="409320" cy="856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" descr=""/>
          <p:cNvPicPr/>
          <p:nvPr/>
        </p:nvPicPr>
        <p:blipFill>
          <a:blip r:embed="rId6"/>
          <a:stretch/>
        </p:blipFill>
        <p:spPr>
          <a:xfrm>
            <a:off x="0" y="8015400"/>
            <a:ext cx="542880" cy="1141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7"/>
          <a:stretch/>
        </p:blipFill>
        <p:spPr>
          <a:xfrm>
            <a:off x="0" y="8389800"/>
            <a:ext cx="609480" cy="17172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6"/>
          <p:cNvSpPr/>
          <p:nvPr/>
        </p:nvSpPr>
        <p:spPr>
          <a:xfrm>
            <a:off x="38160" y="8055000"/>
            <a:ext cx="1382760" cy="27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Rectangle 22"/>
          <p:cNvSpPr/>
          <p:nvPr/>
        </p:nvSpPr>
        <p:spPr>
          <a:xfrm>
            <a:off x="0" y="622080"/>
            <a:ext cx="503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ОС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</a:t>
            </a:r>
            <a:r>
              <a:rPr b="1" i="1" lang="ru-RU" sz="1600" spc="-1" strike="noStrike">
                <a:solidFill>
                  <a:srgbClr val="000000"/>
                </a:solidFill>
                <a:latin typeface="Blackadder ITC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i="1" lang="ru-RU" sz="1600" spc="-1" strike="noStrike">
                <a:solidFill>
                  <a:srgbClr val="000000"/>
                </a:solidFill>
                <a:latin typeface="Blackadder ITC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степенн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lackadder ITC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лен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ложения</a:t>
            </a:r>
            <a:r>
              <a:rPr b="1" i="1" lang="ru-RU" sz="1600" spc="-1" strike="noStrike">
                <a:solidFill>
                  <a:srgbClr val="000000"/>
                </a:solidFill>
                <a:latin typeface="Blackadder ITC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29"/>
          <p:cNvSpPr/>
          <p:nvPr/>
        </p:nvSpPr>
        <p:spPr>
          <a:xfrm>
            <a:off x="1258920" y="4427640"/>
            <a:ext cx="62118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о наличию главных членов предлож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тое / сложное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 цели высказывания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ствовательное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●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ительное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●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удительное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 интонации: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клицательное и невосклицательное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4. По наличию второстепенных членов предложения: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остранённое и нераспространённое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сс               гл.                           сс                       прил.   сущ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ирика дружбы занимает в творчестве А.С.Пушкина особое место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Rectangle 30"/>
          <p:cNvSpPr/>
          <p:nvPr/>
        </p:nvSpPr>
        <p:spPr>
          <a:xfrm>
            <a:off x="-1800" y="6159240"/>
            <a:ext cx="37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Rectangle 31"/>
          <p:cNvSpPr/>
          <p:nvPr/>
        </p:nvSpPr>
        <p:spPr>
          <a:xfrm>
            <a:off x="720" y="6524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Rectangle 32"/>
          <p:cNvSpPr/>
          <p:nvPr/>
        </p:nvSpPr>
        <p:spPr>
          <a:xfrm>
            <a:off x="685080" y="7100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Rectangle 33"/>
          <p:cNvSpPr/>
          <p:nvPr/>
        </p:nvSpPr>
        <p:spPr>
          <a:xfrm>
            <a:off x="5940360" y="5859360"/>
            <a:ext cx="32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остое, повествовательное,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ОСКЛИЦАТЕЛЬНО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остранённое)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Rectangle 34"/>
          <p:cNvSpPr/>
          <p:nvPr/>
        </p:nvSpPr>
        <p:spPr>
          <a:xfrm>
            <a:off x="720" y="8129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Rectangle 35"/>
          <p:cNvSpPr/>
          <p:nvPr/>
        </p:nvSpPr>
        <p:spPr>
          <a:xfrm>
            <a:off x="0" y="856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1577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Задание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(блиц-опрос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): ответьте на вопросы, подтверждая свои ответы примерами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457200" y="2421000"/>
          <a:ext cx="8229600" cy="3709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Дайте определение второстепенным членам предложения. Какие второстепенные члены предложения вы знает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Что такое дополнение, на какие вопросы отвечает дополнение, чем выражается, как  подчёркивается при синтаксическом разбор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Дайте определение прямого и косвенного дополнений, аргументируйте свой отв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Что такое определение, на какие вопросы отвечает определение, чем выражается, как  подчёркивается при синтаксическом разбор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Что означают  понятия «согласованное» и «несогласованное определения, аргументируйте свой отв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Охарактеризуйте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приложени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к разновидность опреде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Что такое обстоятельство, на какие вопросы отвечает обстоятельство, чем выражается, как  подчёркивается при синтаксическом разбор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 Назовите виды обстоятельств, охарактеризуйте каждый из н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324000" y="476280"/>
          <a:ext cx="1633320" cy="1519200"/>
        </p:xfrm>
        <a:graphic>
          <a:graphicData uri="http://schemas.openxmlformats.org/drawingml/2006/table">
            <a:tbl>
              <a:tblPr/>
              <a:tblGrid>
                <a:gridCol w="163332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5" name="Picture 18" descr="21M2"/>
          <p:cNvPicPr/>
          <p:nvPr/>
        </p:nvPicPr>
        <p:blipFill>
          <a:blip r:embed="rId1"/>
          <a:stretch/>
        </p:blipFill>
        <p:spPr>
          <a:xfrm>
            <a:off x="7380360" y="0"/>
            <a:ext cx="15685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1692360" y="711360"/>
          <a:ext cx="5794200" cy="5437080"/>
        </p:xfrm>
        <a:graphic>
          <a:graphicData uri="http://schemas.openxmlformats.org/drawingml/2006/table">
            <a:tbl>
              <a:tblPr/>
              <a:tblGrid>
                <a:gridCol w="1904760"/>
                <a:gridCol w="1946520"/>
                <a:gridCol w="1942920"/>
              </a:tblGrid>
              <a:tr h="25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724360" y="2708280"/>
          <a:ext cx="1562400" cy="1519200"/>
        </p:xfrm>
        <a:graphic>
          <a:graphicData uri="http://schemas.openxmlformats.org/drawingml/2006/table">
            <a:tbl>
              <a:tblPr/>
              <a:tblGrid>
                <a:gridCol w="1562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3:25:08Z</dcterms:created>
  <dc:creator>NN</dc:creator>
  <dc:description/>
  <dc:language>en-US</dc:language>
  <cp:lastModifiedBy>пользователь</cp:lastModifiedBy>
  <dcterms:modified xsi:type="dcterms:W3CDTF">2015-01-24T05:33:51Z</dcterms:modified>
  <cp:revision>379</cp:revision>
  <dc:subject/>
  <dc:title>Проще простого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