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06A-1340-4F61-8839-EFADB147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7F8-052D-4F38-A658-D550B773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403-A197-4AEB-80AA-0B8EAF49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17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801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17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801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2DF-7CDA-4F03-A820-BF517610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3724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CB4-73D0-4454-A05F-59D0EDE7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7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01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7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01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602-DB9D-4650-86E8-547340B2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3724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17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801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4300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17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7801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9DBB-BA73-49D0-95BC-2577F94C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5D7C-6FEE-42D3-BB97-3D3F3007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4679-1772-4260-AB5D-64B8750E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347-54CE-414B-9D66-ACCD263E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847-5907-40B8-AADF-A869422C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54A2-AEB9-400C-8C9E-41133455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3724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622A-581F-4F5C-BBC7-63112346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620-74BD-4C2E-84EB-89292AC1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392-5B96-43EF-A2E7-26765FD8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E96-46AB-4D31-A5B8-BF21DA9B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CEB-DF87-46E9-82DD-639E4F7F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1986-E29B-44E9-9B86-3AAB767B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617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801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617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801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FD9F-8CB5-478B-819A-59A2CB78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281-2EAD-467C-B8FA-8789807E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3724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3724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544-CFD7-4C79-9C00-9532B2BB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617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801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617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7801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3724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BF9-51B7-4F67-B2E6-B9CDD1A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617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01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4300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617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01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3724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E77-31D1-4484-85A9-3FA05D1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57320" y="364356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617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80160" y="182844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4300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617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780160" y="3643560"/>
            <a:ext cx="220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828440"/>
            <a:ext cx="3346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64356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939-9DC7-4F01-900F-7D2B297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rcRect l="526" t="512" r="526" b="2999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57800" y="6416640"/>
            <a:ext cx="1028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57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8040" y="6416640"/>
            <a:ext cx="6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52F-2C6E-4185-B008-92220F1FDE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"/>
          <p:cNvPicPr/>
          <p:nvPr/>
        </p:nvPicPr>
        <p:blipFill>
          <a:blip r:embed="rId2"/>
          <a:srcRect l="2124" t="0" r="324" b="425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7" descr=""/>
          <p:cNvPicPr/>
          <p:nvPr/>
        </p:nvPicPr>
        <p:blipFill>
          <a:blip r:embed="rId2"/>
          <a:srcRect l="434" t="425" r="0" b="0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rcRect l="526" t="512" r="526" b="2999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олилиния 5"/>
          <p:cNvSpPr/>
          <p:nvPr/>
        </p:nvSpPr>
        <p:spPr>
          <a:xfrm>
            <a:off x="603360" y="1695600"/>
            <a:ext cx="4197240" cy="3295440"/>
          </a:xfrm>
          <a:custGeom>
            <a:avLst/>
            <a:gdLst/>
            <a:ahLst/>
            <a:rect l="l" t="t" r="r" b="b"/>
            <a:pathLst>
              <a:path w="1347" h="986">
                <a:moveTo>
                  <a:pt x="1279" y="919"/>
                </a:moveTo>
                <a:cubicBezTo>
                  <a:pt x="1211" y="986"/>
                  <a:pt x="121" y="974"/>
                  <a:pt x="65" y="919"/>
                </a:cubicBezTo>
                <a:cubicBezTo>
                  <a:pt x="9" y="863"/>
                  <a:pt x="0" y="128"/>
                  <a:pt x="65" y="64"/>
                </a:cubicBezTo>
                <a:cubicBezTo>
                  <a:pt x="130" y="0"/>
                  <a:pt x="1217" y="3"/>
                  <a:pt x="1279" y="64"/>
                </a:cubicBezTo>
                <a:cubicBezTo>
                  <a:pt x="1341" y="125"/>
                  <a:pt x="1347" y="852"/>
                  <a:pt x="1279" y="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257800" y="6416640"/>
            <a:ext cx="1028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1657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458040" y="6416640"/>
            <a:ext cx="6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65FE-C1ED-463D-AF4E-AFEAA2B8B3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7" descr=""/>
          <p:cNvPicPr/>
          <p:nvPr/>
        </p:nvPicPr>
        <p:blipFill>
          <a:blip r:embed="rId2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64" name="Полилиния 5"/>
          <p:cNvSpPr/>
          <p:nvPr/>
        </p:nvSpPr>
        <p:spPr>
          <a:xfrm>
            <a:off x="571680" y="933480"/>
            <a:ext cx="3085920" cy="411012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Полилиния 5"/>
          <p:cNvSpPr/>
          <p:nvPr/>
        </p:nvSpPr>
        <p:spPr>
          <a:xfrm>
            <a:off x="3975120" y="933480"/>
            <a:ext cx="3085920" cy="411012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7" descr=""/>
          <p:cNvPicPr/>
          <p:nvPr/>
        </p:nvPicPr>
        <p:blipFill>
          <a:blip r:embed="rId2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205" name="Полилиния 5"/>
          <p:cNvSpPr/>
          <p:nvPr/>
        </p:nvSpPr>
        <p:spPr>
          <a:xfrm>
            <a:off x="571680" y="933480"/>
            <a:ext cx="4000320" cy="411012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Полилиния 5"/>
          <p:cNvSpPr/>
          <p:nvPr/>
        </p:nvSpPr>
        <p:spPr>
          <a:xfrm>
            <a:off x="4743360" y="966960"/>
            <a:ext cx="2243160" cy="193500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7" name="Полилиния 5"/>
          <p:cNvSpPr/>
          <p:nvPr/>
        </p:nvSpPr>
        <p:spPr>
          <a:xfrm>
            <a:off x="4743360" y="3060720"/>
            <a:ext cx="2243160" cy="193500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7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9440"/>
          </a:xfrm>
          <a:prstGeom prst="rect">
            <a:avLst/>
          </a:prstGeom>
          <a:ln w="0">
            <a:noFill/>
          </a:ln>
        </p:spPr>
      </p:pic>
      <p:sp>
        <p:nvSpPr>
          <p:cNvPr id="247" name="Полилиния 5"/>
          <p:cNvSpPr/>
          <p:nvPr/>
        </p:nvSpPr>
        <p:spPr>
          <a:xfrm>
            <a:off x="3137040" y="264960"/>
            <a:ext cx="3924000" cy="301968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8" name="Полилиния 5"/>
          <p:cNvSpPr/>
          <p:nvPr/>
        </p:nvSpPr>
        <p:spPr>
          <a:xfrm>
            <a:off x="612720" y="384120"/>
            <a:ext cx="2359080" cy="189540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9" name="Полилиния 5"/>
          <p:cNvSpPr/>
          <p:nvPr/>
        </p:nvSpPr>
        <p:spPr>
          <a:xfrm>
            <a:off x="612720" y="2478240"/>
            <a:ext cx="2359080" cy="189540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0" name="Полилиния 5"/>
          <p:cNvSpPr/>
          <p:nvPr/>
        </p:nvSpPr>
        <p:spPr>
          <a:xfrm>
            <a:off x="612720" y="4572000"/>
            <a:ext cx="2359080" cy="189396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1" name="Полилиния 5"/>
          <p:cNvSpPr/>
          <p:nvPr/>
        </p:nvSpPr>
        <p:spPr>
          <a:xfrm>
            <a:off x="3137040" y="3448080"/>
            <a:ext cx="3924000" cy="3021120"/>
          </a:xfrm>
          <a:custGeom>
            <a:avLst/>
            <a:gdLst/>
            <a:ahLst/>
            <a:rect l="l" t="t" r="r" b="b"/>
            <a:pathLst>
              <a:path w="933" h="1275">
                <a:moveTo>
                  <a:pt x="870" y="64"/>
                </a:moveTo>
                <a:cubicBezTo>
                  <a:pt x="933" y="128"/>
                  <a:pt x="922" y="1160"/>
                  <a:pt x="870" y="1213"/>
                </a:cubicBezTo>
                <a:cubicBezTo>
                  <a:pt x="817" y="1266"/>
                  <a:pt x="121" y="1275"/>
                  <a:pt x="61" y="1213"/>
                </a:cubicBezTo>
                <a:cubicBezTo>
                  <a:pt x="0" y="1151"/>
                  <a:pt x="3" y="123"/>
                  <a:pt x="61" y="64"/>
                </a:cubicBezTo>
                <a:cubicBezTo>
                  <a:pt x="118" y="5"/>
                  <a:pt x="806" y="0"/>
                  <a:pt x="87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79;&#1072;&#1080;&#1084;&#1086;&#1076;&#1077;&#1081;&#1089;&#1090;&#1074;&#1080;&#1077;%20&#1084;&#1086;&#1083;&#1077;&#1082;&#1091;&#1083;.ppt#3. &#1057;&#1083;&#1072;&#1081;&#1076; 3" TargetMode="External"/><Relationship Id="rId2" Type="http://schemas.openxmlformats.org/officeDocument/2006/relationships/hyperlink" Target="http://files.school-collection.edu.ru/dlrstore/669b2b54-e921-11dc-95ff-0800200c9a66/2_5.swf" TargetMode="External"/><Relationship Id="rId3" Type="http://schemas.openxmlformats.org/officeDocument/2006/relationships/hyperlink" Target="http://files.school-collection.edu.ru/dlrstore/669b2b54-e921-11dc-95ff-0800200c9a66/2_5.swf" TargetMode="Externa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hyperlink" Target="file:///&#1042;&#1079;&#1072;&#1080;&#1084;&#1086;&#1076;&#1077;&#1081;&#1089;&#1090;&#1074;&#1080;&#1077;%20&#1084;&#1086;&#1083;&#1077;&#1082;&#1091;&#1083;.ppt#7. &#1058;&#1077;&#1089;&#1090;&#1080;&#1088;&#1086;&#1074;&#1072;&#1085;&#1080;&#1077;" TargetMode="External"/><Relationship Id="rId7" Type="http://schemas.openxmlformats.org/officeDocument/2006/relationships/hyperlink" Target="file:///&#1042;&#1079;&#1072;&#1080;&#1084;&#1086;&#1076;&#1077;&#1081;&#1089;&#1090;&#1074;&#1080;&#1077;%20&#1084;&#1086;&#1083;&#1077;&#1082;&#1091;&#1083;.ppt#12. &#1057;&#1084;&#1072;&#1095;&#1080;&#1074;&#1072;&#1085;&#1080;&#1077; - &#1103;&#1074;&#1083;&#1077;&#1085;&#1080;&#1077; &#1087;&#1088;&#1080;&#1090;&#1103;&#1078;&#1077;&#1085;&#1080;&#1103; &#1084;&#1086;&#1083;&#1077;&#1082;&#1091;&#1083; &#1078;&#1080;&#1076;&#1082;&#1086;&#1089;&#1090;&#1080; &#1082; &#1084;&#1086;&#1083;&#1077;&#1082;&#1091;..." TargetMode="External"/><Relationship Id="rId8" Type="http://schemas.openxmlformats.org/officeDocument/2006/relationships/hyperlink" Target="file:///&#1042;&#1079;&#1072;&#1080;&#1084;&#1086;&#1076;&#1077;&#1081;&#1089;&#1090;&#1074;&#1080;&#1077;%20&#1084;&#1086;&#1083;&#1077;&#1082;&#1091;&#1083;.ppt#16. &#1058;&#1077;&#1089;&#1090;&#1080;&#1088;&#1086;&#1074;&#1072;&#1085;&#1080;&#1077;" TargetMode="External"/><Relationship Id="rId9" Type="http://schemas.openxmlformats.org/officeDocument/2006/relationships/hyperlink" Target="file:///&#1042;&#1079;&#1072;&#1080;&#1084;&#1086;&#1076;&#1077;&#1081;&#1089;&#1090;&#1074;&#1080;&#1077;%20&#1084;&#1086;&#1083;&#1077;&#1082;&#1091;&#1083;.ppt#18. &#1044;&#1086;&#1084;&#1072;&#1096;&#1085;&#1077;&#1077; &#1079;&#1072;&#1076;&#1072;&#1085;&#1080;&#1077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iles.school-collection.edu.ru/dlrstore/669b2b54-e921-11dc-95ff-0800200c9a66/2_5.sw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2b54-e921-11dc-95ff-0800200c9a66/2_5.swf" TargetMode="Externa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2b54-e921-11dc-95ff-0800200c9a66/2_5.sw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214280" y="928800"/>
            <a:ext cx="60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Петракова Марина Викторовна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Учитель физики МОУ «СШ № 4» г. Кимры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</a:rPr>
              <a:t>Взаимное притяжение и отталкивание между молекулами.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Физика 7 класс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таль прочнее, чем медь, потому что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1) атомы меди сильнее притягиваются друг к другу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2) атомы стали сильнее притягиваются к атомам меди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3) атомы стали слабее притягиваются друг к другу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4) атомы стали сильнее притягиваются друг к другу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5" name="Прямая соединительная линия 3"/>
          <p:cNvSpPr/>
          <p:nvPr/>
        </p:nvSpPr>
        <p:spPr>
          <a:xfrm>
            <a:off x="1500120" y="4286160"/>
            <a:ext cx="6000840" cy="180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Когда мы ломаем палку, мы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реодолеваем силу притяжения  между молекулами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2) преодолеваем силу отталкивания между молекулами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3) преодолеваем взаимное проникновение молекул одного вещества между молекулами другого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Прямая соединительная линия 3"/>
          <p:cNvSpPr/>
          <p:nvPr/>
        </p:nvSpPr>
        <p:spPr>
          <a:xfrm>
            <a:off x="1714680" y="2714760"/>
            <a:ext cx="5786280" cy="144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9" name="Управляющая кнопка: домой 8"/>
          <p:cNvSpPr/>
          <p:nvPr/>
        </p:nvSpPr>
        <p:spPr>
          <a:xfrm>
            <a:off x="7786800" y="63579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5118" y="3837"/>
                </a:moveTo>
                <a:lnTo>
                  <a:pt x="17694" y="6448"/>
                </a:ln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lnTo>
                  <a:pt x="22081" y="10800"/>
                </a:lnTo>
                <a:lnTo>
                  <a:pt x="20427" y="10800"/>
                </a:lnTo>
                <a:lnTo>
                  <a:pt x="20427" y="17989"/>
                </a:lnTo>
                <a:lnTo>
                  <a:pt x="9809" y="17989"/>
                </a:lnTo>
                <a:lnTo>
                  <a:pt x="9809" y="10800"/>
                </a:lnTo>
                <a:lnTo>
                  <a:pt x="8155" y="10800"/>
                </a:lnTo>
                <a:close/>
              </a:path>
              <a:path fill="darkenLess" w="30236" h="21600">
                <a:moveTo>
                  <a:pt x="17694" y="6448"/>
                </a:move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close/>
              </a:path>
              <a:path fill="darkenLess" w="30236" h="21600">
                <a:moveTo>
                  <a:pt x="14195" y="14299"/>
                </a:moveTo>
                <a:lnTo>
                  <a:pt x="16040" y="14299"/>
                </a:lnTo>
                <a:lnTo>
                  <a:pt x="16040" y="17989"/>
                </a:lnTo>
                <a:lnTo>
                  <a:pt x="20427" y="17989"/>
                </a:lnTo>
                <a:lnTo>
                  <a:pt x="20427" y="10800"/>
                </a:lnTo>
                <a:lnTo>
                  <a:pt x="9809" y="10800"/>
                </a:lnTo>
                <a:lnTo>
                  <a:pt x="9809" y="17989"/>
                </a:lnTo>
                <a:lnTo>
                  <a:pt x="14195" y="17989"/>
                </a:lnTo>
                <a:close/>
              </a:path>
            </a:pathLst>
          </a:custGeom>
          <a:solidFill>
            <a:srgbClr val="a63121"/>
          </a:solidFill>
          <a:ln w="12600">
            <a:solidFill>
              <a:srgbClr val="792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Смачивание - явление притяжения молекул жидкости к молекулам твердого тела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643040" y="2462040"/>
            <a:ext cx="578664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Эксперимент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43000" y="1825200"/>
            <a:ext cx="3292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1.Проверка смачивания твердых тел: свеча из парафина, пластилин, стеклянная пластина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Цель: проверить смачиваемость твердых тел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Оборудование: сосуд с водой, стеклянная пластина , свеча из парафина, кусочек пластилина.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Ход работы: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-опустить по очереди в сосуд с водой кусочек пластилина, стеклянную пластину, пластилин. --проверить остались ли на поверхности твердых тел капельки воды. Сделать вывод.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708440" y="1825200"/>
            <a:ext cx="3292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ru-RU" sz="1300" spc="-1" strike="noStrike">
                <a:solidFill>
                  <a:srgbClr val="404040"/>
                </a:solidFill>
                <a:latin typeface="Times New Roman"/>
              </a:rPr>
              <a:t>Проверка притяжения двух стеклянных пластинок , если их смочить водой. 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</a:rPr>
              <a:t>Цель: проверить и объяснить почему притягиваются две стеклянные пластины друг к другу смоченные водой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</a:rPr>
              <a:t>Ход работы: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</a:rPr>
              <a:t>--опустить в воду  две стеклянные пластины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</a:rPr>
              <a:t>- сделать вывод почему две пластины притянулись к друг другу.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Закрепление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чему опущенное  птичье перо в стакан с нефтью,  покрывается слоем нефти.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чему фундаменты домов при строительстве изолируют от стен рубероидом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Как учитывается  в быту и технике явление смачивания.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1.Нефть смачивает птичьи перья, что ведет к гибели птиц. Вот почему нефть, разлитая по поверхности морских и речных вод, так вредна для фауны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2.Чтобы не происходило постепенное разрушение фундамента дома , так как кирпич хорошо смачивается водой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3.Стирка, склеивание, покраска стен и полов, фитили в лампах и т.д.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9" name="Управляющая кнопка: домой 3"/>
          <p:cNvSpPr/>
          <p:nvPr/>
        </p:nvSpPr>
        <p:spPr>
          <a:xfrm>
            <a:off x="7715160" y="5643720"/>
            <a:ext cx="685800" cy="614160"/>
          </a:xfrm>
          <a:custGeom>
            <a:avLst/>
            <a:gdLst>
              <a:gd name="textAreaLeft" fmla="*/ 39600 w 685800"/>
              <a:gd name="textAreaRight" fmla="*/ 646200 w 6858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4118" h="21600">
                <a:moveTo>
                  <a:pt x="0" y="0"/>
                </a:moveTo>
                <a:lnTo>
                  <a:pt x="24118" y="0"/>
                </a:lnTo>
                <a:lnTo>
                  <a:pt x="24118" y="21600"/>
                </a:lnTo>
                <a:lnTo>
                  <a:pt x="0" y="21600"/>
                </a:lnTo>
                <a:close/>
              </a:path>
              <a:path fill="lightenLess" w="24118" h="21600">
                <a:moveTo>
                  <a:pt x="0" y="0"/>
                </a:moveTo>
                <a:lnTo>
                  <a:pt x="24118" y="0"/>
                </a:lnTo>
                <a:lnTo>
                  <a:pt x="22718" y="1400"/>
                </a:lnTo>
                <a:lnTo>
                  <a:pt x="1400" y="1400"/>
                </a:lnTo>
                <a:close/>
              </a:path>
              <a:path fill="darken" w="24118" h="21600">
                <a:moveTo>
                  <a:pt x="24118" y="0"/>
                </a:moveTo>
                <a:lnTo>
                  <a:pt x="24118" y="21600"/>
                </a:lnTo>
                <a:lnTo>
                  <a:pt x="22718" y="20200"/>
                </a:lnTo>
                <a:lnTo>
                  <a:pt x="22718" y="1400"/>
                </a:lnTo>
                <a:close/>
              </a:path>
              <a:path fill="darkenLess" w="24118" h="21600">
                <a:moveTo>
                  <a:pt x="2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8" y="20200"/>
                </a:lnTo>
                <a:close/>
              </a:path>
              <a:path fill="lighten" w="2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18" h="21600">
                <a:moveTo>
                  <a:pt x="12059" y="3837"/>
                </a:moveTo>
                <a:lnTo>
                  <a:pt x="14635" y="6448"/>
                </a:lnTo>
                <a:lnTo>
                  <a:pt x="14635" y="4707"/>
                </a:lnTo>
                <a:lnTo>
                  <a:pt x="16411" y="4707"/>
                </a:lnTo>
                <a:lnTo>
                  <a:pt x="16411" y="8224"/>
                </a:lnTo>
                <a:lnTo>
                  <a:pt x="19022" y="10800"/>
                </a:lnTo>
                <a:lnTo>
                  <a:pt x="17368" y="10800"/>
                </a:lnTo>
                <a:lnTo>
                  <a:pt x="17368" y="17989"/>
                </a:lnTo>
                <a:lnTo>
                  <a:pt x="6750" y="17989"/>
                </a:lnTo>
                <a:lnTo>
                  <a:pt x="6750" y="10800"/>
                </a:lnTo>
                <a:lnTo>
                  <a:pt x="5096" y="10800"/>
                </a:lnTo>
                <a:close/>
              </a:path>
              <a:path fill="darkenLess" w="24118" h="21600">
                <a:moveTo>
                  <a:pt x="14635" y="6448"/>
                </a:moveTo>
                <a:lnTo>
                  <a:pt x="14635" y="4707"/>
                </a:lnTo>
                <a:lnTo>
                  <a:pt x="16411" y="4707"/>
                </a:lnTo>
                <a:lnTo>
                  <a:pt x="16411" y="8224"/>
                </a:lnTo>
                <a:close/>
              </a:path>
              <a:path fill="darkenLess" w="24118" h="21600">
                <a:moveTo>
                  <a:pt x="11136" y="14299"/>
                </a:moveTo>
                <a:lnTo>
                  <a:pt x="12982" y="14299"/>
                </a:lnTo>
                <a:lnTo>
                  <a:pt x="12982" y="17989"/>
                </a:lnTo>
                <a:lnTo>
                  <a:pt x="17368" y="17989"/>
                </a:lnTo>
                <a:lnTo>
                  <a:pt x="17368" y="10800"/>
                </a:lnTo>
                <a:lnTo>
                  <a:pt x="6750" y="10800"/>
                </a:lnTo>
                <a:lnTo>
                  <a:pt x="6750" y="17989"/>
                </a:lnTo>
                <a:lnTo>
                  <a:pt x="11136" y="17989"/>
                </a:lnTo>
                <a:close/>
              </a:path>
            </a:pathLst>
          </a:custGeom>
          <a:solidFill>
            <a:srgbClr val="a63121"/>
          </a:solidFill>
          <a:ln w="12600">
            <a:solidFill>
              <a:srgbClr val="792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Явление растекания жидкости по поверхности твердого тела называетс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1) капиллярностью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2) смачиванием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3) несмачиванием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4) диффузией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Тест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5"/>
          <p:cNvSpPr/>
          <p:nvPr/>
        </p:nvSpPr>
        <p:spPr>
          <a:xfrm>
            <a:off x="1571760" y="3571920"/>
            <a:ext cx="1785960" cy="144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Явление смачивания происходит, если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1) молекулы жидкости притягиваются к твердому телу сильнее, чем к друг другу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2)молекулы жидкости притягиваются к твердому телу слабее, чем друг другу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3) молекулы твердого тела притягиваются к жидкости сильнее, чем друг к другу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4) молекулы твердого тела притягиваются к жидкости слабее, чем друг к другу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5" name="Прямая соединительная линия 5"/>
          <p:cNvSpPr/>
          <p:nvPr/>
        </p:nvSpPr>
        <p:spPr>
          <a:xfrm>
            <a:off x="1428840" y="2714760"/>
            <a:ext cx="6500880" cy="144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6" name="Прямая соединительная линия 7"/>
          <p:cNvSpPr/>
          <p:nvPr/>
        </p:nvSpPr>
        <p:spPr>
          <a:xfrm>
            <a:off x="1428840" y="3000240"/>
            <a:ext cx="3071880" cy="180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7" name="Управляющая кнопка: домой 9"/>
          <p:cNvSpPr/>
          <p:nvPr/>
        </p:nvSpPr>
        <p:spPr>
          <a:xfrm>
            <a:off x="77151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5118" y="3837"/>
                </a:moveTo>
                <a:lnTo>
                  <a:pt x="17694" y="6448"/>
                </a:ln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lnTo>
                  <a:pt x="22081" y="10800"/>
                </a:lnTo>
                <a:lnTo>
                  <a:pt x="20427" y="10800"/>
                </a:lnTo>
                <a:lnTo>
                  <a:pt x="20427" y="17989"/>
                </a:lnTo>
                <a:lnTo>
                  <a:pt x="9809" y="17989"/>
                </a:lnTo>
                <a:lnTo>
                  <a:pt x="9809" y="10800"/>
                </a:lnTo>
                <a:lnTo>
                  <a:pt x="8155" y="10800"/>
                </a:lnTo>
                <a:close/>
              </a:path>
              <a:path fill="darkenLess" w="30236" h="21600">
                <a:moveTo>
                  <a:pt x="17694" y="6448"/>
                </a:move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close/>
              </a:path>
              <a:path fill="darkenLess" w="30236" h="21600">
                <a:moveTo>
                  <a:pt x="14195" y="14299"/>
                </a:moveTo>
                <a:lnTo>
                  <a:pt x="16040" y="14299"/>
                </a:lnTo>
                <a:lnTo>
                  <a:pt x="16040" y="17989"/>
                </a:lnTo>
                <a:lnTo>
                  <a:pt x="20427" y="17989"/>
                </a:lnTo>
                <a:lnTo>
                  <a:pt x="20427" y="10800"/>
                </a:lnTo>
                <a:lnTo>
                  <a:pt x="9809" y="10800"/>
                </a:lnTo>
                <a:lnTo>
                  <a:pt x="9809" y="17989"/>
                </a:lnTo>
                <a:lnTo>
                  <a:pt x="14195" y="17989"/>
                </a:lnTo>
                <a:close/>
              </a:path>
            </a:pathLst>
          </a:custGeom>
          <a:solidFill>
            <a:srgbClr val="a63121"/>
          </a:solidFill>
          <a:ln w="12600">
            <a:solidFill>
              <a:srgbClr val="792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64268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1. §10 упр.2 (Просмотреть видеофильм на сайте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http://class-fizika.spb.ru/index.php/vu/222-vu7-7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2. Провести эксперимент на выбор, сделать отчет по эксперименту(рекомендации на странице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http://class-fizika.spb.ru/index.php/opit/688-op-nat3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071720" y="71388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53000" indent="-1530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 u="sng">
                <a:solidFill>
                  <a:srgbClr val="f28330"/>
                </a:solidFill>
                <a:uFillTx/>
                <a:latin typeface="Times New Roman"/>
                <a:hlinkClick r:id="rId1"/>
              </a:rPr>
              <a:t>. Взаимное притяжение между молекулами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f28330"/>
                </a:solidFill>
                <a:uFillTx/>
                <a:latin typeface="Times New Roman"/>
                <a:hlinkClick r:id="rId2"/>
              </a:rPr>
              <a:t>http://files.school-collection.edu.ru/dlrstore/669b2b54-e921-11dc-95ff-0800200c9a66/2_5.swf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Отталкивание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ежду молекулами существует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f28330"/>
                </a:solidFill>
                <a:uFillTx/>
                <a:latin typeface="Times New Roman"/>
                <a:hlinkClick r:id="rId3"/>
              </a:rPr>
              <a:t>http://files.school-collection.edu.ru/dlrstore/669b2b54-e921-11dc-95ff-0800200c9a66/2_5.swf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28330"/>
                </a:solidFill>
                <a:uFillTx/>
                <a:latin typeface="Times New Roman"/>
                <a:hlinkClick r:id="rId4" action="ppaction://hlinksldjump"/>
              </a:rPr>
              <a:t>   </a:t>
            </a:r>
            <a:r>
              <a:rPr b="0" lang="ru-RU" sz="2000" spc="-1" strike="noStrike" u="sng">
                <a:solidFill>
                  <a:srgbClr val="f28330"/>
                </a:solidFill>
                <a:uFillTx/>
                <a:latin typeface="Times New Roman"/>
                <a:hlinkClick r:id="rId5" action="ppaction://hlinksldjump"/>
              </a:rPr>
              <a:t>3.Вопросы самоконтроля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f28330"/>
                </a:solidFill>
                <a:uFillTx/>
                <a:latin typeface="Times New Roman"/>
                <a:hlinkClick r:id="rId6"/>
              </a:rPr>
              <a:t>Тест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5</a:t>
            </a:r>
            <a:r>
              <a:rPr b="0" lang="ru-RU" sz="2000" spc="-1" strike="noStrike" u="sng">
                <a:solidFill>
                  <a:srgbClr val="f28330"/>
                </a:solidFill>
                <a:uFillTx/>
                <a:latin typeface="Times New Roman"/>
                <a:hlinkClick r:id="rId7"/>
              </a:rPr>
              <a:t>.  Явление смачивания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f28330"/>
                </a:solidFill>
                <a:uFillTx/>
                <a:latin typeface="Times New Roman"/>
                <a:hlinkClick r:id="rId8"/>
              </a:rPr>
              <a:t>Тест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53000" indent="-153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f28330"/>
                </a:solidFill>
                <a:uFillTx/>
                <a:latin typeface="Times New Roman"/>
                <a:hlinkClick r:id="rId9"/>
              </a:rPr>
              <a:t>Домашнее задание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500200" y="154080"/>
            <a:ext cx="3071880" cy="62751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5"/>
          <p:cNvSpPr/>
          <p:nvPr/>
        </p:nvSpPr>
        <p:spPr>
          <a:xfrm>
            <a:off x="1357200" y="5643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28330"/>
                </a:solidFill>
                <a:uFillTx/>
                <a:latin typeface="Arial"/>
                <a:hlinkClick r:id="rId2"/>
              </a:rPr>
              <a:t>http://files.school-collection.edu.ru/dlrstore/669b2b54-e921-11dc-95ff-0800200c9a66/2_5.swf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071720" y="357120"/>
            <a:ext cx="6858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оединение частей стекла и пластилина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28330"/>
                </a:solidFill>
                <a:uFillTx/>
                <a:latin typeface="Arial"/>
                <a:hlinkClick r:id="rId1"/>
              </a:rPr>
              <a:t>http://files.school-collection.edu.ru/dlrstore/669b2b54-e921-11dc-95ff-0800200c9a66/2_5.swf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6" name="Управляющая кнопка: домой 4">
            <a:hlinkClick r:id="rId2" action="ppaction://hlinksldjump"/>
          </p:cNvPr>
          <p:cNvSpPr/>
          <p:nvPr/>
        </p:nvSpPr>
        <p:spPr>
          <a:xfrm>
            <a:off x="7858080" y="6458040"/>
            <a:ext cx="428760" cy="399960"/>
          </a:xfrm>
          <a:custGeom>
            <a:avLst/>
            <a:gdLst>
              <a:gd name="textAreaLeft" fmla="*/ 25920 w 428760"/>
              <a:gd name="textAreaRight" fmla="*/ 402840 w 42876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3154" h="21600">
                <a:moveTo>
                  <a:pt x="0" y="0"/>
                </a:moveTo>
                <a:lnTo>
                  <a:pt x="23154" y="0"/>
                </a:lnTo>
                <a:lnTo>
                  <a:pt x="23154" y="21600"/>
                </a:lnTo>
                <a:lnTo>
                  <a:pt x="0" y="21600"/>
                </a:lnTo>
                <a:close/>
              </a:path>
              <a:path fill="lightenLess" w="23154" h="21600">
                <a:moveTo>
                  <a:pt x="0" y="0"/>
                </a:moveTo>
                <a:lnTo>
                  <a:pt x="23154" y="0"/>
                </a:lnTo>
                <a:lnTo>
                  <a:pt x="21754" y="1400"/>
                </a:lnTo>
                <a:lnTo>
                  <a:pt x="1400" y="1400"/>
                </a:lnTo>
                <a:close/>
              </a:path>
              <a:path fill="darken" w="23154" h="21600">
                <a:moveTo>
                  <a:pt x="23154" y="0"/>
                </a:moveTo>
                <a:lnTo>
                  <a:pt x="23154" y="21600"/>
                </a:lnTo>
                <a:lnTo>
                  <a:pt x="21754" y="20200"/>
                </a:lnTo>
                <a:lnTo>
                  <a:pt x="21754" y="1400"/>
                </a:lnTo>
                <a:close/>
              </a:path>
              <a:path fill="darkenLess" w="23154" h="21600">
                <a:moveTo>
                  <a:pt x="23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4" y="20200"/>
                </a:lnTo>
                <a:close/>
              </a:path>
              <a:path fill="lighten" w="23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4" h="21600">
                <a:moveTo>
                  <a:pt x="11577" y="3837"/>
                </a:moveTo>
                <a:lnTo>
                  <a:pt x="14153" y="6448"/>
                </a:lnTo>
                <a:lnTo>
                  <a:pt x="14153" y="4707"/>
                </a:lnTo>
                <a:lnTo>
                  <a:pt x="15929" y="4707"/>
                </a:lnTo>
                <a:lnTo>
                  <a:pt x="15929" y="8224"/>
                </a:lnTo>
                <a:lnTo>
                  <a:pt x="18540" y="10800"/>
                </a:lnTo>
                <a:lnTo>
                  <a:pt x="16886" y="10800"/>
                </a:lnTo>
                <a:lnTo>
                  <a:pt x="16886" y="17989"/>
                </a:lnTo>
                <a:lnTo>
                  <a:pt x="6268" y="17989"/>
                </a:lnTo>
                <a:lnTo>
                  <a:pt x="6268" y="10800"/>
                </a:lnTo>
                <a:lnTo>
                  <a:pt x="4614" y="10800"/>
                </a:lnTo>
                <a:close/>
              </a:path>
              <a:path fill="darkenLess" w="23154" h="21600">
                <a:moveTo>
                  <a:pt x="14153" y="6448"/>
                </a:moveTo>
                <a:lnTo>
                  <a:pt x="14153" y="4707"/>
                </a:lnTo>
                <a:lnTo>
                  <a:pt x="15929" y="4707"/>
                </a:lnTo>
                <a:lnTo>
                  <a:pt x="15929" y="8224"/>
                </a:lnTo>
                <a:close/>
              </a:path>
              <a:path fill="darkenLess" w="23154" h="21600">
                <a:moveTo>
                  <a:pt x="10654" y="14299"/>
                </a:moveTo>
                <a:lnTo>
                  <a:pt x="12500" y="14299"/>
                </a:lnTo>
                <a:lnTo>
                  <a:pt x="12500" y="17989"/>
                </a:lnTo>
                <a:lnTo>
                  <a:pt x="16886" y="17989"/>
                </a:lnTo>
                <a:lnTo>
                  <a:pt x="16886" y="10800"/>
                </a:lnTo>
                <a:lnTo>
                  <a:pt x="6268" y="10800"/>
                </a:lnTo>
                <a:lnTo>
                  <a:pt x="6268" y="17989"/>
                </a:lnTo>
                <a:lnTo>
                  <a:pt x="10654" y="17989"/>
                </a:lnTo>
                <a:close/>
              </a:path>
            </a:pathLst>
          </a:custGeom>
          <a:solidFill>
            <a:srgbClr val="a63121"/>
          </a:solidFill>
          <a:ln w="12600">
            <a:solidFill>
              <a:srgbClr val="792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3"/>
          <a:stretch/>
        </p:blipFill>
        <p:spPr>
          <a:xfrm>
            <a:off x="1143000" y="1643040"/>
            <a:ext cx="6572160" cy="307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372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Вопросы самоконтроля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57160" y="1143000"/>
            <a:ext cx="6858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28330"/>
                </a:solidFill>
                <a:uFillTx/>
                <a:latin typeface="Arial"/>
                <a:hlinkClick r:id="rId1"/>
              </a:rPr>
              <a:t>1.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ttp://files.school-collection.edu.ru/dlrstore/669b2b54-e921-11dc-95ff-0800200c9a66/2_5.swf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6588000" cy="3148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724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Проверка</a:t>
            </a: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43000" y="18284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1.Между молекулами существуют взаимное притяжение и взаимное отталкивание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2.На расстояниях сравнимых с размерами самих молекулам, заметнее проявляется притяжение молекул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На расстояниях меньших , чем размеры самих молекул, заметнее проявляется отталкивание молекул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Управляющая кнопка: домой 3"/>
          <p:cNvSpPr/>
          <p:nvPr/>
        </p:nvSpPr>
        <p:spPr>
          <a:xfrm>
            <a:off x="7786800" y="63579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5118" y="3837"/>
                </a:moveTo>
                <a:lnTo>
                  <a:pt x="17694" y="6448"/>
                </a:ln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lnTo>
                  <a:pt x="22081" y="10800"/>
                </a:lnTo>
                <a:lnTo>
                  <a:pt x="20427" y="10800"/>
                </a:lnTo>
                <a:lnTo>
                  <a:pt x="20427" y="17989"/>
                </a:lnTo>
                <a:lnTo>
                  <a:pt x="9809" y="17989"/>
                </a:lnTo>
                <a:lnTo>
                  <a:pt x="9809" y="10800"/>
                </a:lnTo>
                <a:lnTo>
                  <a:pt x="8155" y="10800"/>
                </a:lnTo>
                <a:close/>
              </a:path>
              <a:path fill="darkenLess" w="30236" h="21600">
                <a:moveTo>
                  <a:pt x="17694" y="6448"/>
                </a:move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close/>
              </a:path>
              <a:path fill="darkenLess" w="30236" h="21600">
                <a:moveTo>
                  <a:pt x="14195" y="14299"/>
                </a:moveTo>
                <a:lnTo>
                  <a:pt x="16040" y="14299"/>
                </a:lnTo>
                <a:lnTo>
                  <a:pt x="16040" y="17989"/>
                </a:lnTo>
                <a:lnTo>
                  <a:pt x="20427" y="17989"/>
                </a:lnTo>
                <a:lnTo>
                  <a:pt x="20427" y="10800"/>
                </a:lnTo>
                <a:lnTo>
                  <a:pt x="9809" y="10800"/>
                </a:lnTo>
                <a:lnTo>
                  <a:pt x="9809" y="17989"/>
                </a:lnTo>
                <a:lnTo>
                  <a:pt x="14195" y="17989"/>
                </a:lnTo>
                <a:close/>
              </a:path>
            </a:pathLst>
          </a:custGeom>
          <a:solidFill>
            <a:srgbClr val="a63121"/>
          </a:solidFill>
          <a:ln w="12600">
            <a:solidFill>
              <a:srgbClr val="792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7372440" cy="84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Тест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6294600" cy="39150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1714680" y="5215320"/>
            <a:ext cx="40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личие притяжения между молекулами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928800" y="114264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2. На расстояниях, сравнимых с размерами самих молекул, заметнее проявляется: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1) диффузия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2) отталкивание молекул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3) броуновское движение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4) притяжение молекул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Прямая соединительная линия 4"/>
          <p:cNvSpPr/>
          <p:nvPr/>
        </p:nvSpPr>
        <p:spPr>
          <a:xfrm>
            <a:off x="1500120" y="3786120"/>
            <a:ext cx="2500560" cy="180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714240" y="856800"/>
            <a:ext cx="6858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3. Два куска мела не соединяются вместе даже при сильном сжатии, а два куска пластилина легко соединяются при незначительном сдавливании, потому что: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00880" indent="-200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1) у пластичных и легкодеформируемых тел притяжение между молекулами всегда преобладает над отталкиванием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00880" indent="-200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2) у твердых тел отталкивание между молекулами всегда преобладает над притяжением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00880" indent="-200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3) молекулы пластичных веществ удается без труда сблизить на расстояние , на котором начинают проявляться силы межмолекулярного притяжения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00880" indent="-200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Прямая соединительная линия 3"/>
          <p:cNvSpPr/>
          <p:nvPr/>
        </p:nvSpPr>
        <p:spPr>
          <a:xfrm flipV="1">
            <a:off x="1071720" y="4857840"/>
            <a:ext cx="5929200" cy="7128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1" name="Прямая соединительная линия 5"/>
          <p:cNvSpPr/>
          <p:nvPr/>
        </p:nvSpPr>
        <p:spPr>
          <a:xfrm>
            <a:off x="1285920" y="4357800"/>
            <a:ext cx="5857920" cy="144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Прямая соединительная линия 7"/>
          <p:cNvSpPr/>
          <p:nvPr/>
        </p:nvSpPr>
        <p:spPr>
          <a:xfrm>
            <a:off x="1143000" y="4572000"/>
            <a:ext cx="5572080" cy="1440"/>
          </a:xfrm>
          <a:prstGeom prst="line">
            <a:avLst/>
          </a:prstGeom>
          <a:ln w="19080">
            <a:solidFill>
              <a:srgbClr val="a63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4:49:58Z</dcterms:created>
  <dc:creator>Петракова М.В.</dc:creator>
  <dc:description/>
  <dc:language>en-US</dc:language>
  <cp:lastModifiedBy>hotel_13</cp:lastModifiedBy>
  <dcterms:modified xsi:type="dcterms:W3CDTF">2015-01-24T13:56:19Z</dcterms:modified>
  <cp:revision>49</cp:revision>
  <dc:subject/>
  <dc:title>Тема урока</dc:title>
</cp:coreProperties>
</file>