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E12-5689-4441-AD7F-59E5406D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572-814E-4962-8AF1-D2CB5149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367ED-30BB-477D-BF17-D5556A7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BD659-DC32-4DD2-AF8C-30F49BB4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4B6EF-FDBF-4CAB-B9FD-180FBF3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0CE4E-7366-4BAE-8B4D-7B78AD2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A645E-79A6-476E-95C3-4294DC8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36F35-1D85-4AC2-97F4-A98DA6F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2B67-0F5E-4EA4-A909-D47A917F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0297-0C79-4961-8167-3477F4D6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4B5C0-D07D-41FF-80C2-639916E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9E4ED-3F73-428E-B048-1407B8E7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B88-4E2B-4594-9F20-7C88037A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7F1AF-6EA0-4E12-A582-BE3B9D7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BA3D8-8B0C-48C2-934B-8EFF13C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74E64-6747-4677-9780-E2C2B69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37867-F4CD-4518-91AF-132E5DC4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97F5E-957B-424A-A7E9-995BAC0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DA7A1-2503-4DED-A5E3-99011BC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0E9C8-63DD-47C6-A8D0-DD43F5D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E3FCF-8621-42C8-BC54-FBC40B3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B6E39-B067-4156-B6F2-914D9FF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45109-093F-4712-8BD0-49D73FC0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1D2-A530-4786-BD8D-6DBA7769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A6B99-6A5D-48EE-A239-68F4870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8C778-94BF-400E-9C3A-273EE955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85CC-2199-4990-8BBB-0EE7BE9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3D5D2-F5E5-4BB9-A456-653A92A4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A72D-848F-4433-9456-3F6F46E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7FBDC-FEC4-4E85-8FA4-3093D88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A6980-B59A-4C33-8FBD-49E1F52F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70FD2-8DE3-4E9D-8A56-6D8C1D7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509E-9D24-48B2-9EFE-4D47E41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15A63-930E-4334-9151-171A17E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CCA4-5560-401A-9ED8-BB641585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7460-937D-4F76-BFA8-904DB38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63FF-5062-445E-8F1B-04465DF3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A9C48-CB76-4B36-AB6D-0CC3FCCA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9F803-9EC5-4E67-BDAE-1CF1247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10235-89FE-4392-AD72-73579665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F4ABB-2451-4D6A-9F54-8B9AEAD1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3A112-0FF5-4B6D-8A9D-BE6F618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CD67D-CA3B-4718-85A7-B1DA5779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D0A92-4957-4C68-868F-CA620AC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901D-A520-4855-9F9E-602DE4C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212F-AD8E-4D90-B177-C28FC4B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A2021-0F37-428A-88C2-CEB3D0E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1DBDE-2F85-4F92-9E53-E159ED7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DE9FC-71C3-49FA-A6E2-5A56C2E5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F3545-D283-4ED5-BB50-D8175E81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F4D2-097F-40F5-94EC-651572D0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9D23-7CF9-4530-B0CB-AAF3B4C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0D34-C3FE-4B8B-A20B-C210E9A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955-E6D5-467F-9CF7-3326CAD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4C0-2F3C-44F6-855D-67FA332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1AA3-CE9C-42D8-B6A0-C309DF0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5A7-E647-47EB-B69D-FB0FA38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F319-A67C-4446-8581-D34AF1DB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D7A-3557-4236-815D-9B2D0DE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024E-2BEC-47C0-B2A5-A1939EF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8AD8-E818-4365-A66F-EC91012B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D377-A8DA-4073-8756-302C1207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0D82-ED5D-4643-9F9B-AD39F266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7FD9-E38F-4A59-BD41-1FC2A526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C097-8390-4CF8-8456-75FB497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1556-49C5-4360-9B80-10331750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1A36-F6EC-4085-99F5-AD580F3E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D35-16F5-490C-9787-95FD579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99BD-FF0E-46C7-9A9D-229AE46A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2C73-4DA3-42A9-8848-F03E97D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66F2-715E-430B-89F3-7AD26DB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20BD-C484-4A21-A389-C8909C9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9A64-1952-43EC-BB6A-C82DF15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3B15-608A-4527-A2D7-5DE1DB82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9D57-4DD6-43C7-8FC1-ED3D4B9D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4BF0-2FD1-405F-8199-B0737E0D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4131-1F42-4CCA-84BC-A910C87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1551-6AA8-4B6B-B7AA-0F6091EE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031-5C42-47B1-8DAE-30D0D9D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0BE9-D703-43A0-9C6A-544757C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B852-7675-4D91-8432-AE4A3A8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F0E3-183D-4413-8AA7-4D7C879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9B27-0FA0-4D91-AB10-3B47AB6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672E-F7D9-43BC-9042-B1DB162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DF71-44C5-43C9-A49C-797686E5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0A07-0408-45DA-8BC1-BBA0C3E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FB25-7CE4-4383-96A4-4D8DD6DC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79B6-0626-46C8-B1E8-AD96A1CB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3CEC-8356-46D1-AF0D-5A9165FF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170-00DF-4F5F-BFE8-43C01871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F33B-3FCE-4494-9CDA-183CA32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8602-AC77-4773-A7EC-E002D11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DF1E-D06C-49D7-8CF0-296F674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4033-27E1-469E-A1A2-47B3D2E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28C7-2D7F-415D-BFEC-0CFF330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1776-3CC7-40A8-BD65-156D247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F851-24B3-44F7-9101-3778CF4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5784-0395-4103-82B3-9C2ACFAB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BEEF9-A852-415D-99F7-AA6A7267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A7CC-0175-4843-BAF1-96FFA777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6EE-63DD-400B-B144-C8D0B55E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D7F1-92A6-4877-B716-B95A8BE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5980A-260C-4AA7-BFD0-ACF2AFA3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54B2D-9ABE-4783-99DE-FDD8ED4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A80BF-2A1A-49E5-AD28-C7366351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F7E28-0D50-4A04-9DA7-503921B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51066-9015-41DD-89B8-DF10B46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3F8F3-4CDA-4935-8A3D-56DFA66C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73E47-2DEC-45CD-9CB9-BDBB3F4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B5B5E-29CF-4D71-983B-D8B2E1E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1CAD2-DCB2-4128-9AD3-68A117B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1EF-2BB2-43F3-A427-F9C6293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EE2C7-57CF-452F-8171-9EF2D74A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D4983-968B-4512-A5E5-957929D1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4A8E8-FB05-4D95-A6F3-921B6747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237F-ED0B-4317-84D7-6AF10A8D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A71F-4F5E-4AA2-B0C6-2FC1162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8DA0-E843-43E8-98FB-6CC1695C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EC9F-B97F-4119-81A8-3D5165F4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E3A2A-1E26-47D6-8C8F-8DFD4C3D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11F1-28B7-4A12-A641-B5DBCB6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D9C8-251E-4703-8D39-FBDEF07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120-C1BC-46B7-9CCE-4D75FC6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D99EB-37D8-4608-BF64-B397D9C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FE8D-084A-4321-B4F4-18277ADD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FAA3-6A47-439C-8E78-82B2331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6C85-54D3-4A53-BFF4-7A09FEA6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32DD-7E69-47E6-B23E-2383902E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86C28-7FF0-43F9-96F5-C227A9EC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E1BE-E24A-449B-A4BD-6AF283D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AD07-BE5A-47BE-9BCC-8FA8D6EA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D2DC3-CFD7-4653-A3E1-AEC481B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4DF7-A39E-4917-B432-5C763A4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CF0-805C-4F2A-BA71-A2C2272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B26A-4586-451B-B6E7-37A93B0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F5714-272E-4FA0-B87E-D5044C1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EB2B9-D5BF-4BD2-9F50-146FAEA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4031-63F6-4DDC-8F44-F65BEC4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95CC-FC23-4877-9BD9-61B8DA2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3879E-B306-4441-B4BB-B27E68F2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9BCD6-3BD4-46A4-8409-423F66E0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2343A-3140-4B9A-9C6B-1A69CF00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2503-1708-4D0C-AA21-9208C20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9FC1-CB1C-42EF-8A5F-13C16B6C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7B7-1459-4E4F-A42C-5DCEB4CD2CF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48D0-FF31-4D90-B9A2-96515410814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5ED0-6EA9-40DF-A081-A01586DDCD5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E1B-0E3F-4BF4-9DB3-E1E347CBFD9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ABE3-CFEE-44AD-A8EC-FED2A9CA510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D8B-B14B-48DA-B0A0-8148A2F3467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0230-2120-4B72-BCE9-CE68C00373D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E0B-4BE5-452E-B56A-D071DF74D20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661-BF2A-487A-A79F-BAC28809BD8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67BB-1D12-42DD-9588-5273B47E9DD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C57-A445-4DA4-8C96-61485074E08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8225-46EA-4DC2-9A84-01669BE0784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991cb"/>
            </a:gs>
            <a:gs pos="100000">
              <a:srgbClr val="add2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495600" y="765000"/>
            <a:ext cx="52214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2652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02652"/>
                </a:solidFill>
                <a:latin typeface="Georgia"/>
              </a:rPr>
              <a:t>Упрямый ребенок. Воспитывать? Ка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2652"/>
                </a:solidFill>
                <a:latin typeface="Georgia"/>
              </a:rPr>
              <a:t>Семинар для родителе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4400" indent="-19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411280" y="5222880"/>
            <a:ext cx="442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468360" y="5229360"/>
            <a:ext cx="899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7687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17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Если ребенок упрямится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95280" y="836640"/>
            <a:ext cx="5184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Не придавайте большого значения упрямству. Примите к сведению приступ, ноне очень волнуйтесь за ребен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ставайтесь вовремя приступа упрямства рядом с ребенком и дайте ему почувствовать, что понимаете, как он страда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Не пытайтесь в это время что-либо внушать вашему ребенку. Ругать в такой ситуации не имеет смысла. Он сильно возбужден и не может вас поня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Будьте в поведении с ребенком настойчивы. Если вы сказали «нет». Оставайтесь и дальше при своем мне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68360" y="112500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2652"/>
                </a:solidFill>
                <a:latin typeface="Georgia"/>
              </a:rPr>
              <a:t>Успехов в воспитании ваших детей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2652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0" name="Picture 2" descr="riposino"/>
          <p:cNvPicPr/>
          <p:nvPr/>
        </p:nvPicPr>
        <p:blipFill>
          <a:blip r:embed="rId1"/>
          <a:stretch/>
        </p:blipFill>
        <p:spPr>
          <a:xfrm>
            <a:off x="250920" y="3284640"/>
            <a:ext cx="3429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250920" y="189000"/>
            <a:ext cx="828180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тили семейного воспитания 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Либеральный тип семейного воспитания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или попустительский) – это низкий уровень контроля. 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водящая роль родителей в такой семье незначительна, они не умеют или не хотят воспитывать ребенка, возможно, высоко ценят его личность, считая простительными различные слабости; легко общаются с ним, доверяют ему, не склонны к запретам и ограничениям. Однако стоит задуматься: по плечу ли ребенку такая свобода? На сколько разумно он этой свободой воспользуется?</a:t>
            </a:r>
            <a:br>
              <a:rPr sz="1600"/>
            </a:b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ритарный тип семейного воспита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высокий уровень контроля и холодные отношения.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дители, придерживающиеся данного стиля поведения с ребенком, хорошо представляют, каким он должен вырасти, и прилагают к этому максимум усилий. В своих требованиях, зачастую, очень категоричны и неуступчивы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8884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мократический стиль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0920" y="980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значает теплые отношения и высокий уровень контроля. Родители признают и поощряют растущую автономию своих детей и личную ответственность в соответствии с их возрастными возможностями. Отношения строятся на взаимном уважении и доверии. Родители открыты для общения и обсуждают с детьми правила поведения в семье. Допускают и изменение своих требований в разумных пред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4 признака «опасного» упрямств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бенок постоянно спорит с вами или у вас разногласия с ним из-за каждой мелоч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3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бенок не желает прислушиваться к чужой точке зре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3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ребенка проблемы в садике или в школе, связанные с его отношениями в группе, класс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3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ают ситуации, когда упрямство может поставить под угрозу безопасность ребенка (например, он отказывается держать вас за руку при пересечении улиц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Памят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24000" y="765000"/>
            <a:ext cx="8434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ичины капризов и упрямств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нарушение режима д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смена обстановк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билие новых впечатлени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плохое самочувствие во время болез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переутомление (физическая и умственная перегруз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черта характер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3" descr="post524126_img1_1_34eb0d4a7ee069fb1e2fed48a2dcd9db"/>
          <p:cNvPicPr/>
          <p:nvPr/>
        </p:nvPicPr>
        <p:blipFill>
          <a:blip r:embed="rId1"/>
          <a:stretch/>
        </p:blipFill>
        <p:spPr>
          <a:xfrm>
            <a:off x="4788000" y="3716280"/>
            <a:ext cx="3600360" cy="257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528920"/>
            <a:ext cx="82296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ллюзия выбо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бенку надо давать больше, чем просто прямой приказ, ему надо предоставлять варианты. Такой интеллектуальный способ при взаимодействии с упорным ребенком будет давать ему, например, два варианта, которые ведут к одной цел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Прямоугольник 4"/>
          <p:cNvSpPr/>
          <p:nvPr/>
        </p:nvSpPr>
        <p:spPr>
          <a:xfrm>
            <a:off x="32400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 преодолеть упрямство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5508720" y="4848120"/>
            <a:ext cx="25905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62028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ктивное слуш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значит «возвращать» ему в беседу то, что он вам поведал, при том обозначив его чув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лгоритм техники активного слушания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нять правильное положение по отношению к ребёнк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тор услышанного от ребён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лать паузы между фраз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означение чувства ребён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увства – в утвердительной форм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457200" y="1052640"/>
          <a:ext cx="8229600" cy="5389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итуация и слова ребёнка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увства ребёнка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твет  родителя 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</a:tr>
              <a:tr h="44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чь:  « Сегодня, когда я выходила из школы, мальчик – хулиган выбил у меня портфель и из него всё высыпалось…»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горчение, 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ида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 Ты очень расстроилась,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было очень обидно.»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http://norbekovclub.ru/upload/blog/b5f/b5f1a73daeb64451602ff28c4361cc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- задавайте ребенку уточняющие вопросы, когда ребенок капризничает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-говорите своему малышу, что вы его любите каждый день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-принимайте ребенка таким какой он есть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-и помните, что вы главный в ваших с ним отношениях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35" name="Содержимое 2" descr=""/>
          <p:cNvPicPr/>
          <p:nvPr/>
        </p:nvPicPr>
        <p:blipFill>
          <a:blip r:embed="rId2"/>
          <a:stretch/>
        </p:blipFill>
        <p:spPr>
          <a:xfrm>
            <a:off x="396720" y="695160"/>
            <a:ext cx="83505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6:41:56Z</dcterms:created>
  <dc:creator>маша</dc:creator>
  <dc:description/>
  <dc:language>en-US</dc:language>
  <cp:lastModifiedBy>Людмила</cp:lastModifiedBy>
  <dcterms:modified xsi:type="dcterms:W3CDTF">2014-12-10T18:52:59Z</dcterms:modified>
  <cp:revision>157</cp:revision>
  <dc:subject/>
  <dc:title>Слайд 1</dc:title>
</cp:coreProperties>
</file>