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38D-5B18-4C8B-8ABB-8A8E553E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53C6-5DD2-4296-A9C8-65C47161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008A-2677-457F-B4F6-56F24B66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ACB9-4F6B-42BB-9611-6D1C7A15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AF09-CF11-477A-9226-76309E11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FFE-CBF6-4E9A-88DF-6B8287D3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5DCD-F12D-4E9D-BD1E-30D78A9B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EA1-EE7A-4B29-AD33-6E5EFB22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A524-8ED0-4EE3-8F3F-A173427A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C7AE-A776-4CDB-811C-1029FFED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217-B4F2-48B3-BE2C-BDB09FEC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439E-71BF-44D8-8A93-08B959F9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FECE-56EC-4FA4-A502-1D229FE1AE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ействительные причаст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шедшего времен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35848" t="18127" r="1148" b="69009"/>
          <a:stretch/>
        </p:blipFill>
        <p:spPr>
          <a:xfrm>
            <a:off x="1187280" y="2324160"/>
            <a:ext cx="712980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8186" r="1148" b="69009"/>
          <a:stretch/>
        </p:blipFill>
        <p:spPr>
          <a:xfrm>
            <a:off x="0" y="836640"/>
            <a:ext cx="9036000" cy="5616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0" y="31384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тельные причаст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ошедшего време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30994" r="1148" b="51465"/>
          <a:stretch/>
        </p:blipFill>
        <p:spPr>
          <a:xfrm>
            <a:off x="0" y="2492280"/>
            <a:ext cx="9036000" cy="33130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ействительные причаст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шедшего времен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69840" y="700200"/>
            <a:ext cx="9213840" cy="123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2А группа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1)с медвежатами, наслаждавшимися в лесной чаще утренней прохладой;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2)туман, застилавший лесные дали прозрачной дымкой;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3)сосны, еще не сбросившие с себя сон;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4)солнце, выглянувшее из-за горизонта: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5)облака, проплывавшие высоко-высоко над деревьями;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6)воздух, пахнувший смолой;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7)у сосны, сломанной бурей;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8)третий, залезший на верхушку сосны;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142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-603720"/>
            <a:ext cx="8496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2 б группа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адрожавшие, побледневший,поднявшихся,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плывший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5327640" cy="34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Исследовать п.17, выучить ОС.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1)Упр.98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2)написать сочинение «Сон осеннего листа»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305400" y="4862520"/>
            <a:ext cx="137160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Осень.</a:t>
            </a:r>
            <a:br>
              <a:rPr sz="3600"/>
            </a:b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Правит городом осенний вернисаж,</a:t>
            </a:r>
            <a:br>
              <a:rPr sz="3600"/>
            </a:b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Зазывая листопадной красотой.</a:t>
            </a:r>
            <a:br>
              <a:rPr sz="3600"/>
            </a:b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И желтеющий, краснеющий пейзаж</a:t>
            </a:r>
            <a:br>
              <a:rPr sz="3600"/>
            </a:b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Каждый день меняет яркий образ свой.</a:t>
            </a:r>
            <a:br>
              <a:rPr sz="3600"/>
            </a:b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За ночь лужицы покрылись коркой льда.</a:t>
            </a:r>
            <a:br>
              <a:rPr sz="3600"/>
            </a:b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В парке ветра уносящийся порыв</a:t>
            </a:r>
            <a:br>
              <a:rPr sz="3600"/>
            </a:b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Закружил, и вся упавшая листва</a:t>
            </a:r>
            <a:br>
              <a:rPr sz="3600"/>
            </a:b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Подхватила ранней осени мотив.</a:t>
            </a:r>
            <a:br>
              <a:rPr sz="3600"/>
            </a:b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А. Ковязина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7142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Шестнадцатое октября.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Классная работ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24177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99"/>
                </a:solidFill>
                <a:latin typeface="Arial"/>
              </a:rPr>
              <a:t>Маренго, палевый, перванш.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2495520" cy="1590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rot="17350800">
            <a:off x="-5400" y="1238760"/>
            <a:ext cx="223236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Осень.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Правит городом осенний вернисаж,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Зазывая листопадной красотой.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И желтеющий ,краснеющий пейзаж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Каждый день меняет яркий образ свой.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За ночь лужицы покрылись коркой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льда.</a:t>
            </a:r>
            <a:br>
              <a:rPr sz="40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В парке ветра уносящийся порыв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Закружил, и вся упавшая листва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Подхватили ранней осени мотив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7142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Осень.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Правит городом осенний вернисаж,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Зазывая листопадной красотой.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И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Arial"/>
              </a:rPr>
              <a:t>желтеющий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Arial"/>
              </a:rPr>
              <a:t>краснеющий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пейзаж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Каждый день меняет яркий образ свой.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За ночь лужицы покрылись коркой льда.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В парке ветра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Arial"/>
              </a:rPr>
              <a:t>уносящийся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порыв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Закружил, и вся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упавшая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листва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Подхватили ранней осени мотив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42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Действительные причастия прошедшего времени.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03640" y="3789360"/>
            <a:ext cx="1552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1 группа-описание природы (Альбом стр.21)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2 группа-работа по карточкам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3 группа-упр.96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140360" y="4365720"/>
            <a:ext cx="5904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18549" r="64958" b="69009"/>
          <a:stretch/>
        </p:blipFill>
        <p:spPr>
          <a:xfrm>
            <a:off x="755640" y="1844640"/>
            <a:ext cx="7561440" cy="4079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ействительные причаст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шедшего времен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3:07:07Z</dcterms:created>
  <dc:creator>00132977</dc:creator>
  <dc:description/>
  <dc:language>en-US</dc:language>
  <cp:lastModifiedBy>00132977</cp:lastModifiedBy>
  <dcterms:modified xsi:type="dcterms:W3CDTF">2009-10-16T02:29:44Z</dcterms:modified>
  <cp:revision>6</cp:revision>
  <dc:subject/>
  <dc:title>Слайд 1</dc:title>
</cp:coreProperties>
</file>