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128-FA07-4922-A8FB-C639F748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E694-CE61-47E1-8CB8-20D367AD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DA1-1B63-4FF0-8F13-4248DEE7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BF9-2BEA-47E9-B2B8-AFCFE58B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8E22-DC3D-4397-891C-E410FFE7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7A88-8A89-449A-9C03-E56FA60E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A133-F1B8-4EED-8899-C281387B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A367-83F5-4748-9A06-AB9100F1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FB4F-EACD-400C-8F25-9DEE8E7F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B3CA-3F1A-4AE1-8CED-92BDD789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F459-75B1-47FF-BFEB-624A63CA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B09-66A7-43D7-A9F0-4E002495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3BF5-76A6-4439-8EFC-5441E472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A96A-122E-4528-A343-C252FCD3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3D37-9150-48F9-8A77-5D322E2D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0ED0-4D71-4E9D-9F58-392F3A20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CF30-CD7C-437F-A97C-9365FDCE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5AF-789F-45FC-A42B-A4B008BC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270-5FB6-486A-BAE9-E65D063C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F81-92DD-456A-9764-51770448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AA7-417C-4E2E-A000-A425E9C3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A16-3534-42DC-8977-1A70EB5B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6E3-A114-4964-819E-62A54D35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C30-9FAD-46D1-9AD7-94C67C88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F3B1-6992-4BB6-8D91-DFBB0A84EB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9D18-9615-4C52-AB73-CD8F404BCB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«ИМЕЮ ПРАВО НА ПРАВА»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классный час в 3 классе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МБОУ СОШ №4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2485440" y="65880"/>
            <a:ext cx="552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- на медицинский уход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6" descr="file_2192c0e03e9cd23136e286081a41be14_111111111111"/>
          <p:cNvPicPr/>
          <p:nvPr/>
        </p:nvPicPr>
        <p:blipFill>
          <a:blip r:embed="rId1"/>
          <a:stretch/>
        </p:blipFill>
        <p:spPr>
          <a:xfrm>
            <a:off x="395280" y="727200"/>
            <a:ext cx="8353440" cy="6130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8"/>
          <p:cNvPicPr/>
          <p:nvPr/>
        </p:nvPicPr>
        <p:blipFill>
          <a:blip r:embed="rId1"/>
          <a:stretch/>
        </p:blipFill>
        <p:spPr>
          <a:xfrm>
            <a:off x="826920" y="1441440"/>
            <a:ext cx="7667640" cy="54165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1044720" y="259560"/>
            <a:ext cx="74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- на безопасные условия жизни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36"/>
          <p:cNvPicPr/>
          <p:nvPr/>
        </p:nvPicPr>
        <p:blipFill>
          <a:blip r:embed="rId1"/>
          <a:srcRect l="10527" t="15059" r="8775" b="0"/>
          <a:stretch/>
        </p:blipFill>
        <p:spPr>
          <a:xfrm>
            <a:off x="900000" y="1773360"/>
            <a:ext cx="7236000" cy="50846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6"/>
          <p:cNvSpPr/>
          <p:nvPr/>
        </p:nvSpPr>
        <p:spPr>
          <a:xfrm>
            <a:off x="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-875160" y="403920"/>
            <a:ext cx="109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- на воспитание в семейном окружен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Кодекс кла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496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-Каждый в классе должен чувствовать себя в безопасности, поэтому никто не должен драться или обижать кого-либо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- Все в классе равны независимо от национальности, пола, убеждений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- Каждый имеет право на имя, обращаться друг к другу следует только по имен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- Все должны уважать право собственности и без разрешения не брать чужие вещи, не отбирать, не ломат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- Никто не должен бояться высказывать свое мнение по любому вопросу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- Будь лично ответственным за свои слова и поступк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- Содержать в чистоте кабинет, установить график дежурств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Рисунок1"/>
          <p:cNvPicPr/>
          <p:nvPr/>
        </p:nvPicPr>
        <p:blipFill>
          <a:blip r:embed="rId1"/>
          <a:stretch/>
        </p:blipFill>
        <p:spPr>
          <a:xfrm>
            <a:off x="2050920" y="0"/>
            <a:ext cx="4865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Право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– совокупность устанавливаемых и охраняемых государством  норм и правил, регулирующих отношения людей в обществе («Толковый словарь»  С. И. Ожегова)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-387360"/>
            <a:ext cx="7921440" cy="724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258920" y="17640"/>
            <a:ext cx="6840360" cy="68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9"/>
          <p:cNvPicPr/>
          <p:nvPr/>
        </p:nvPicPr>
        <p:blipFill>
          <a:blip r:embed="rId1"/>
          <a:stretch/>
        </p:blipFill>
        <p:spPr>
          <a:xfrm>
            <a:off x="684360" y="1700280"/>
            <a:ext cx="7775280" cy="49100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1908000" y="14328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Мы имеем право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68360" y="82692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          </a:t>
            </a:r>
            <a:r>
              <a:rPr b="1" lang="ru-RU" sz="36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- на бесплатное образова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Рисунок 2" descr="D:\1\с РАБОЧЕГО СТОЛА\праваи обязанновсти\Права\3.jpg"/>
          <p:cNvPicPr/>
          <p:nvPr/>
        </p:nvPicPr>
        <p:blipFill>
          <a:blip r:embed="rId1"/>
          <a:stretch/>
        </p:blipFill>
        <p:spPr>
          <a:xfrm>
            <a:off x="0" y="1160640"/>
            <a:ext cx="9074160" cy="56973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900000" y="-7020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- на приемлемый уровень жизн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-84240" y="29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4" descr="4"/>
          <p:cNvPicPr/>
          <p:nvPr/>
        </p:nvPicPr>
        <p:blipFill>
          <a:blip r:embed="rId1"/>
          <a:stretch/>
        </p:blipFill>
        <p:spPr>
          <a:xfrm>
            <a:off x="539640" y="1487520"/>
            <a:ext cx="8244000" cy="5370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"/>
          <p:cNvSpPr/>
          <p:nvPr/>
        </p:nvSpPr>
        <p:spPr>
          <a:xfrm>
            <a:off x="0" y="-1634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- говорить на своём родном языке, исповедовать свою религию, соблюдать обряды своей культуры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D:\1\с РАБОЧЕГО СТОЛА\праваи обязанновсти\Права\2.jpg"/>
          <p:cNvPicPr/>
          <p:nvPr/>
        </p:nvPicPr>
        <p:blipFill>
          <a:blip r:embed="rId1"/>
          <a:stretch/>
        </p:blipFill>
        <p:spPr>
          <a:xfrm>
            <a:off x="826920" y="1844640"/>
            <a:ext cx="8317080" cy="50133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1187280" y="115920"/>
            <a:ext cx="708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-выражать своё мнение и собираться с друзьями с целью выражения своих взгля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2484360" y="-1720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- на отдых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5" descr="5"/>
          <p:cNvPicPr/>
          <p:nvPr/>
        </p:nvPicPr>
        <p:blipFill>
          <a:blip r:embed="rId1"/>
          <a:stretch/>
        </p:blipFill>
        <p:spPr>
          <a:xfrm>
            <a:off x="250920" y="1335240"/>
            <a:ext cx="8675640" cy="552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ра</cp:lastModifiedBy>
  <dcterms:modified xsi:type="dcterms:W3CDTF">2015-01-24T19:24:58Z</dcterms:modified>
  <cp:revision>9</cp:revision>
  <dc:subject/>
  <dc:title>PowerPoint Presentation</dc:title>
</cp:coreProperties>
</file>