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A006-E072-435E-AEF9-9B202491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36E8-B1C4-40C7-A7F7-98778B7B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E02C-B540-445F-AADD-AE4181ED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632B-7519-4CB5-B622-BE95762C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5233-CB04-4A71-8B8A-5A72B25B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34BA-70EB-44A5-9275-9BE137C7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0EC8-FF28-4075-8F91-9EBED78F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2818-AD20-4D4A-8331-D6309DE8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36DA-B8A1-4F22-AEAD-CDF02EAF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3474-5420-4AE8-8E74-69285986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0936-6949-456A-AC8A-E11F6185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843D-A5BC-4399-AD40-25A9668F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97F6-038F-48B1-87E3-0C4B5011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FC7A-F067-4E5F-81B3-E5C027F0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5292-220B-41A3-879A-0EE9A6F7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5739-5148-47F9-96A6-7FBDDC61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8D46-51B6-4527-A116-803E7B2E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5720-77EF-416B-9CEC-9DDDAAD8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5B84-A156-42D1-9E97-AE558874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EB2A-84C2-44E7-9610-AC8C9629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8397-6CB4-4D4D-922B-7A5E731E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C28E-6105-4F5A-9A9C-FCE972CC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AE96-959F-4F92-B63B-FD19D78D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93F-92F4-4081-9992-BAB1EF8C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DC94-E6D1-43D2-B2E6-9B672FB1642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9904-E3F8-4ECE-BCF5-E0D606CA6AE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Blackadder ITC"/>
              </a:rPr>
              <a:t>Тема доклад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lackadder ITC"/>
              </a:rPr>
              <a:t>       </a:t>
            </a:r>
            <a:r>
              <a:rPr b="1" i="1" lang="ru-RU" sz="4800" spc="-1" strike="noStrike">
                <a:solidFill>
                  <a:srgbClr val="000000"/>
                </a:solidFill>
                <a:latin typeface="Blackadder ITC"/>
              </a:rPr>
              <a:t>Принцип Дирих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8480" y="214200"/>
            <a:ext cx="7497720" cy="98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а 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85560" y="2057400"/>
            <a:ext cx="73515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ерно ли, что из шести любых целых чисел найдутся два числа, разность которых делится на 5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42640" y="3428640"/>
            <a:ext cx="77914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1066680" y="14479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 шахматной доске размером 8х8 Вася расставил 14 фигур. Докажите, что найдется квадрат размером 2х2, в котором не будет фигу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1295280" y="30492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а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Задача 6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шке лежат 10 белых и 10 черных шаров. Они тщательно перемешаны и не различимы на ощупь. Какое наименьшее количество шаров нужно вынуть из мешка вслепую, чтобы среди них наверняка оказались два шара 1) одного цвета, 2) разного цвета, 3) белого цв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1828800" y="5562720"/>
            <a:ext cx="428760" cy="476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2"/>
          <a:stretch/>
        </p:blipFill>
        <p:spPr>
          <a:xfrm>
            <a:off x="3048120" y="5867280"/>
            <a:ext cx="428400" cy="476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3"/>
          <a:stretch/>
        </p:blipFill>
        <p:spPr>
          <a:xfrm>
            <a:off x="3429000" y="5486400"/>
            <a:ext cx="428760" cy="476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4"/>
          <a:stretch/>
        </p:blipFill>
        <p:spPr>
          <a:xfrm>
            <a:off x="5562720" y="5791320"/>
            <a:ext cx="428400" cy="4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5"/>
          <a:stretch/>
        </p:blipFill>
        <p:spPr>
          <a:xfrm>
            <a:off x="6324480" y="5562720"/>
            <a:ext cx="505080" cy="4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6"/>
          <a:stretch/>
        </p:blipFill>
        <p:spPr>
          <a:xfrm>
            <a:off x="3886200" y="5715000"/>
            <a:ext cx="504720" cy="47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7"/>
          <a:stretch/>
        </p:blipFill>
        <p:spPr>
          <a:xfrm>
            <a:off x="2286000" y="5791320"/>
            <a:ext cx="504720" cy="476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8"/>
          <a:stretch/>
        </p:blipFill>
        <p:spPr>
          <a:xfrm>
            <a:off x="4495680" y="5638680"/>
            <a:ext cx="5050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Задача 7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есу растет миллион елок. Известно, что на каждой елке не более 600000 иголок. Докажите, что в лесу найдутся две елки с одинаковым числом игол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Задача 8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лассе 37 учеников. Докажите, что среди них найдутся 4 ученика, отмечающие день рождения в одном меся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а 9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о 12 целых чисел. Докажите, что из них можно выбрать два, разность которых делится на 1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Задача 10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вре размером 4х4 метра моль проела 15 дырок. Докажите, что из него можно вырезать коврик размером 1х1 метр, не содержащий внутри дырок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а 1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шке лежат 100 белых и 100 черных шариков. Они тщательно перемешаны и не различимы на ощупь. Какое наименьшее количество шаров нужно вынуть из мешка вслепую, чтобы среди них наверняка оказались два шара 1) одного цвета, 2) разного цвета, 3) белого цв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цип Дирихле помогает нам при решении некоторых задач. Следовательно мы можем утверждать, что принцип Дирихле облегчает решение задач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57200" y="499680"/>
            <a:ext cx="7407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Принцип Дирихл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71680" y="2071440"/>
            <a:ext cx="385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6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Так. Если я что-нибудь в чём-нибудь понимаю,   то дыра – это нора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А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А нора – это кролик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А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А кролик – это подходящая комп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3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Blackadder ITC"/>
              </a:rPr>
              <a:t>Биография</a:t>
            </a:r>
            <a:r>
              <a:rPr b="1" i="1" lang="en-US" sz="4200" spc="-1" strike="noStrike">
                <a:solidFill>
                  <a:srgbClr val="ffffff"/>
                </a:solidFill>
                <a:latin typeface="Blackadder ITC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ирихле Петер Август Лежён (1805-1859) — немецкий математик, иностранный член-корреспондент Петербургской Академии наук (1837), член многих других академий. Основные заслуги П. Дирихле в области математи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становил, что в арифметической прогрессии а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= а1 +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n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= 1,2 ... с целыми взаимно простыми а1 и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держится бесконечно много простых чисе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сследовал понятие условной сходимости ряда, установил признак сходимости ря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вёл функциональные ряды особого ви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вёл (вместе с Н. И. Лобачевским) определение функции через соответствие и т. 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Дирихле"/>
          <p:cNvPicPr/>
          <p:nvPr/>
        </p:nvPicPr>
        <p:blipFill>
          <a:blip r:embed="rId1"/>
          <a:stretch/>
        </p:blipFill>
        <p:spPr>
          <a:xfrm>
            <a:off x="5257800" y="2057400"/>
            <a:ext cx="285768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 учащихся с новыми математическими методами решения задач, которые не рассматриваются в школьном кур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 решать олимпиадные задачи с помощью принципа Дирихл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ь его применение для решения разнообразных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проект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 решать задачи, связанные с числовыми множеств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 решать задачи, связанные с делимостью чисе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 решать некоторые геометрические зада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ь методику решения простейших задачи по теории вероят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Формулировки принципа Дирихл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цип Дирихле - утверждение, устанавливающее связь между объектами («кроликами») и контейнерами («клетками») при выполнении определённых услов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Если в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етках сидит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йцев, причём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хотя бы в одной клетке си­дят, по крайней мере два зай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в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летках сидят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йцев, причём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&gt; т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гда найдётся хотя бы одна пустая кл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219320" y="3962520"/>
            <a:ext cx="3504960" cy="2400120"/>
          </a:xfrm>
          <a:custGeom>
            <a:avLst/>
            <a:gdLst>
              <a:gd name="textAreaLeft" fmla="*/ 876240 w 3504960"/>
              <a:gd name="textAreaRight" fmla="*/ 2628720 w 3504960"/>
              <a:gd name="textAreaTop" fmla="*/ 600120 h 2400120"/>
              <a:gd name="textAreaBottom" fmla="*/ 1800360 h 2400120"/>
            </a:gdLst>
            <a:ahLst/>
            <a:rect l="textAreaLeft" t="textAreaTop" r="textAreaRight" b="textAreaBottom"/>
            <a:pathLst>
              <a:path w="31543" h="21600">
                <a:moveTo>
                  <a:pt x="0" y="0"/>
                </a:moveTo>
                <a:lnTo>
                  <a:pt x="0" y="21600"/>
                </a:lnTo>
                <a:lnTo>
                  <a:pt x="31543" y="21600"/>
                </a:lnTo>
                <a:lnTo>
                  <a:pt x="31543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26143" y="16200"/>
                </a:lnTo>
                <a:lnTo>
                  <a:pt x="26143" y="5400"/>
                </a:lnTo>
                <a:close/>
              </a:path>
            </a:pathLst>
          </a:custGeom>
          <a:solidFill>
            <a:srgbClr val="d8ec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j0304933"/>
          <p:cNvPicPr/>
          <p:nvPr/>
        </p:nvPicPr>
        <p:blipFill>
          <a:blip r:embed="rId1"/>
          <a:stretch/>
        </p:blipFill>
        <p:spPr>
          <a:xfrm>
            <a:off x="1295280" y="4191120"/>
            <a:ext cx="1816200" cy="1663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j0304933"/>
          <p:cNvPicPr/>
          <p:nvPr/>
        </p:nvPicPr>
        <p:blipFill>
          <a:blip r:embed="rId2"/>
          <a:stretch/>
        </p:blipFill>
        <p:spPr>
          <a:xfrm>
            <a:off x="2895480" y="4267080"/>
            <a:ext cx="181620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йцев сидят в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летках, то найдётся клетка, в которой сидят не меньше, чем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/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йцев, и найдётся клетка, в которой сидят не больше, че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/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й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йцев съел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илограммов травы, то какой-то заяц съел не мене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илограммов травы и какой-то заяц съел 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ольш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/m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лограмм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ах сидя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йцев 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или равно, то в какой-то из клеток сидят по крайней мер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я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Задача 1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лассе 30 человек. В диктанте Витя Медведев сделал 13 ошибок, а остальные – меньше. Докажите что по крайней мере три ученика сделали ошибок поров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дача 3 ( обобщенный принцип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газин привезли 25 ящиков с яблоками трех сортов, причем в каждом ящике лежат яблоки одного сорта. Можно ли найти 9 ящиков с яблоками одного сор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</cp:lastModifiedBy>
  <dcterms:modified xsi:type="dcterms:W3CDTF">2012-11-21T15:02:2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