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D57-96B7-4BFC-9EB6-2B241BA2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976-06BE-4A18-BB83-6A5E253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D3B-FC5F-4717-8AE5-B71918DE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A21-61AE-49D2-8A3E-1D888498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AA55-73FE-4187-A81A-DA2263E0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78C-66D1-4999-BA56-477D4CE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3ED7-9183-44B9-9868-28ED6F15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646-CB16-47C2-9D82-0941B4C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BCB3-8681-413C-BFDB-16B78BD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CED-E6CE-4C20-993E-EE6DCD4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2EF6-98C8-44F4-BF3F-CAF0713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DED-8962-4E32-A5BB-6C3E758C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353-54F1-4155-8A1A-85F2DB17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A72-E5AF-4B03-8FEE-369068D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A08-2506-4F50-A156-5256C15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90A9-4FC5-42BB-BC94-EFD15369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25D-6F5C-4EB2-9425-AA2F8530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B0A-D8CE-413C-A26C-3237AFDB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6E2-44C2-4509-BE23-A3ECCA3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C50-AA13-4DC2-83D6-B7F9934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888-2508-4364-855F-35666CEA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302-4788-4A5E-8FA3-5B97EF3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C84-8EC2-42B0-B9BC-472BB5E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EC7-B985-4E1D-9B45-C6460A9E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648A-E42A-4BE4-8642-FAE86F2ED2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7F3-8BB8-46E4-84C8-C3EF741A8B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Blackadder ITC"/>
              </a:rPr>
              <a:t>Тема доклад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       </a:t>
            </a:r>
            <a:r>
              <a:rPr b="1" i="1" lang="ru-RU" sz="4800" spc="-1" strike="noStrike">
                <a:solidFill>
                  <a:srgbClr val="000000"/>
                </a:solidFill>
                <a:latin typeface="Blackadder ITC"/>
              </a:rPr>
              <a:t>Принцип Дирих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749772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а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85560" y="2057400"/>
            <a:ext cx="7351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рно ли, что из шести любых целых чисел найдутся два числа, разность которых делится на 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3428640"/>
            <a:ext cx="7791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066680" y="14479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шахматной доске размером 8х8 Вася расставил 14 фигур. Докажите, что найдется квадрат размером 2х2, в котором не будет фиг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295280" y="3049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шке лежат 10 белых и 10 черных шаров. Они тщательно перемешаны и не различимы на ощупь. Какое наименьшее количество шаров нужно вынуть из мешка вслепую, чтобы среди них наверняка оказались два шара 1) одного цвета, 2) разного цвета, 3) белого ц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828800" y="5562720"/>
            <a:ext cx="428760" cy="476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3048120" y="5867280"/>
            <a:ext cx="428400" cy="47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3429000" y="5486400"/>
            <a:ext cx="4287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5562720" y="5791320"/>
            <a:ext cx="42840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6324480" y="5562720"/>
            <a:ext cx="50508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6"/>
          <a:stretch/>
        </p:blipFill>
        <p:spPr>
          <a:xfrm>
            <a:off x="3886200" y="571500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2286000" y="57913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8"/>
          <a:stretch/>
        </p:blipFill>
        <p:spPr>
          <a:xfrm>
            <a:off x="4495680" y="5638680"/>
            <a:ext cx="505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7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су растет миллион елок. Известно, что на каждой елке не более 600000 иголок. Докажите, что в лесу найдутся две елки с одинаковым числом иго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37 учеников. Докажите, что среди них найдутся 4 ученика, отмечающие день рождения в одном меся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а 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 12 целых чисел. Докажите, что из них можно выбрать два, разность которых делится на 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1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вре размером 4х4 метра моль проела 15 дырок. Докажите, что из него можно вырезать коврик размером 1х1 метр, не содержащий внутри дырок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а 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шке лежат 100 белых и 100 черных шариков. Они тщательно перемешаны и не различимы на ощупь. Какое наименьшее количество шаров нужно вынуть из мешка вслепую, чтобы среди них наверняка оказались два шара 1) одного цвета, 2) разного цвета, 3) белого ц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Дирихле помогает нам при решении некоторых задач. Следовательно мы можем утверждать, что принцип Дирихле облегчает решение зада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7200" y="499680"/>
            <a:ext cx="7407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ринцип Дирихл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71680" y="2071440"/>
            <a:ext cx="385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Так. Если я что-нибудь в чём-нибудь понимаю,   то дыра – это нора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 нора – это кролик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 кролик – это подходящая комп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Blackadder ITC"/>
              </a:rPr>
              <a:t>Биография</a:t>
            </a:r>
            <a:r>
              <a:rPr b="1" i="1" lang="en-US" sz="42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рихле Петер Август Лежён (1805-1859) — немецкий математик, иностранный член-корреспондент Петербургской Академии наук (1837), член многих других академий. Основные заслуги П. Дирихле в области математ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тановил, что в арифметической прогрессии 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= а1 +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= 1,2 ... с целыми взаимно простыми а1 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держится бесконечно много простых чис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сследовал понятие условной сходимости ряда, установил признак сходимости ря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вёл функциональные ряды особого ви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вёл (вместе с Н. И. Лобачевским) определение функции через соответствие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Дирихле"/>
          <p:cNvPicPr/>
          <p:nvPr/>
        </p:nvPicPr>
        <p:blipFill>
          <a:blip r:embed="rId1"/>
          <a:stretch/>
        </p:blipFill>
        <p:spPr>
          <a:xfrm>
            <a:off x="5257800" y="2057400"/>
            <a:ext cx="28576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 учащихся с новыми математическими методами решения задач, которые не рассматриваются в школьном кур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олимпиадные задачи с помощью принципа Дирих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его применение для решения разнообраз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задачи, связанные с числовыми множе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задачи, связанные с делимостью чи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некоторые геометрические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методику решения простейших задачи по теории вероя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улировки принципа Дирихл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Дирихле - утверждение, устанавливающее связь между объектами («кроликами») и контейнерами («клетками») при выполнении определённы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Если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етках сиди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йцев, причё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хотя бы в одной клетке си­дят, по крайней мере два зай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етках сидя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йцев, причё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&gt; 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найдётся хотя бы одна пуст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219320" y="3962520"/>
            <a:ext cx="3504960" cy="2400120"/>
          </a:xfrm>
          <a:custGeom>
            <a:avLst/>
            <a:gdLst>
              <a:gd name="textAreaLeft" fmla="*/ 876240 w 3504960"/>
              <a:gd name="textAreaRight" fmla="*/ 2628720 w 3504960"/>
              <a:gd name="textAreaTop" fmla="*/ 600120 h 2400120"/>
              <a:gd name="textAreaBottom" fmla="*/ 1800360 h 2400120"/>
            </a:gdLst>
            <a:ahLst/>
            <a:rect l="textAreaLeft" t="textAreaTop" r="textAreaRight" b="textAreaBottom"/>
            <a:pathLst>
              <a:path w="31543" h="21600">
                <a:moveTo>
                  <a:pt x="0" y="0"/>
                </a:moveTo>
                <a:lnTo>
                  <a:pt x="0" y="21600"/>
                </a:lnTo>
                <a:lnTo>
                  <a:pt x="31543" y="21600"/>
                </a:lnTo>
                <a:lnTo>
                  <a:pt x="315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6143" y="16200"/>
                </a:lnTo>
                <a:lnTo>
                  <a:pt x="26143" y="5400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j0304933"/>
          <p:cNvPicPr/>
          <p:nvPr/>
        </p:nvPicPr>
        <p:blipFill>
          <a:blip r:embed="rId1"/>
          <a:stretch/>
        </p:blipFill>
        <p:spPr>
          <a:xfrm>
            <a:off x="1295280" y="4191120"/>
            <a:ext cx="1816200" cy="166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304933"/>
          <p:cNvPicPr/>
          <p:nvPr/>
        </p:nvPicPr>
        <p:blipFill>
          <a:blip r:embed="rId2"/>
          <a:stretch/>
        </p:blipFill>
        <p:spPr>
          <a:xfrm>
            <a:off x="2895480" y="4267080"/>
            <a:ext cx="18162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цев сидят 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етках, то найдётся клетка, в которой сидят не меньше, че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йцев, и найдётся клетка, в которой сидят не больше, ч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й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цев съе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лограммов травы, то какой-то заяц съел не мене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лограммов травы и какой-то заяц съел 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ьш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лограмм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х сидя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йцев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, то в какой-то из клеток сидят по крайней мер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1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30 человек. В диктанте Витя Медведев сделал 13 ошибок, а остальные – меньше. Докажите что по крайней мере три ученика сделали ошибок поро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а 3 ( обобщенный принцип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 привезли 25 ящиков с яблоками трех сортов, причем в каждом ящике лежат яблоки одного сорта. Можно ли найти 9 ящиков с яблоками одного сор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</cp:lastModifiedBy>
  <dcterms:modified xsi:type="dcterms:W3CDTF">2012-11-21T15:02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