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9AA-251D-4A7B-A2DA-261508BA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C95-3B11-49CA-B30B-D2F5C704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F1A-41C2-4478-A741-BE5C96BA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DE2-8B6B-445A-9CB2-6E29081E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E45E-F9FF-4259-A5AA-23A98C5C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ACC4-509C-40A4-8C71-7A61BD5A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6C46-296D-46B3-9DEB-1F5F399F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8C36-5B6E-4DAB-9FF0-3B51893F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B647-B951-4E0B-9D43-A6F8AEBD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9F99-C3DC-4248-BF41-3E76FE3E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DE21-6438-4A8B-BA1F-EA39EC4A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C82-ECCD-4983-BECD-B889F6AB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B7EB-C21F-4B14-8B57-7FBBEBB8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8A1E-1A18-446A-B049-B3D507CA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46B9-B483-49AE-9E5A-4E1DC164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FDC3-F62B-4E8E-8627-281D2C1B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650B-E722-45A7-8307-6FEDDC7B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3DF-B545-4635-A833-A34571F2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174-7E3D-428B-A979-740D190C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467-8CD4-4B9F-B912-6892F454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39A-76BD-4B5C-87EA-4DEF8DAC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987-E582-4E2A-9199-DDEA3F3D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316-683F-464B-87D3-00BD426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3E3-D979-4C83-8BB9-00C5F8F0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60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Полилиния 34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Полилиния 35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Полилиния 36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Полилиния 37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Полилиния 38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Полилиния 39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Полилиния 40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Полилиния 41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Полилиния 42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Полилиния 43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Полилиния 44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Полилиния 45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Полилиния 46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Полилиния 47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Полилиния 48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Полилиния 49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Полилиния 50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Полилиния 51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Полилиния 52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Полилиния 53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Полилиния 54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Полилиния 55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Группа 61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Полилиния 57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Полилиния 58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Полилиния 59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7B0-571A-4C06-9945-0F9F43CF6E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Группа 35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Полилиния 36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Полилиния 37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Полилиния 38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Полилиния 39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Полилиния 40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Полилиния 41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Полилиния 42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Полилиния 43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Полилиния 44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Полилиния 45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Полилиния 46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Полилиния 47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Полилиния 48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Полилиния 49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Полилиния 50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Полилиния 51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Полилиния 52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Полилиния 53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Полилиния 54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Полилиния 55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Полилиния 56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Полилиния 57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Группа 58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Полилиния 59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Полилиния 60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Полилиния 61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D47A-6900-491B-89C2-9F283AE60440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езентация на тему: «Птицы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954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ровообращ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7640" y="1916280"/>
            <a:ext cx="4895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Птицы – теплокровные животные с интенсивным обменом веществ и температурой тела 38–45 °C. Интенсивное кровообращение обеспечивается большим объёмом четырёхкамерного сердца и большей частотой его сокращения (до 1000 ударов в минуту у колибри). У птиц два круга кровообращения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2"/>
          <a:stretch/>
        </p:blipFill>
        <p:spPr>
          <a:xfrm>
            <a:off x="6588000" y="1484280"/>
            <a:ext cx="2157480" cy="2603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5576760" y="450864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1-левый желудочек</a:t>
            </a:r>
            <a:br>
              <a:rPr sz="2400"/>
            </a:b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2-правый желудочек</a:t>
            </a:r>
            <a:br>
              <a:rPr sz="2400"/>
            </a:b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3-левое предсердие</a:t>
            </a:r>
            <a:br>
              <a:rPr sz="2400"/>
            </a:b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4-правое предсердие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97080" y="2599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ищевар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60" y="1700280"/>
            <a:ext cx="38880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В расширении пищевода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зобе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 – пища может временно храниться, размягчаясь. В мускульном отделе желудка пища тщательно перетирается (напомним, что у птиц нет зубов); в железистом отделе желудка и кишечнике пища переваривается под действием ферментов. Толстая кишка впадает в клоаку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5" name="Рисунок 1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2736720" cy="42544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6948360" y="981000"/>
            <a:ext cx="205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1 - пищевод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2 - зоб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3 - железистый желудок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4 - печень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5 - мускулистый желудок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6 - двенадцатиперстная кишка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7- поджелудочная железа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8 - желчные протоки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9 -тонкая кишка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10 -прямая кишка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11 -слепые кишки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12 - селезенка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рганы выде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2266560"/>
            <a:ext cx="3887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Органы выделения птиц – крупные бобовидные тазовые почки. Мочевой пузырь отсутствуе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9" name="Рисунок 1" descr=""/>
          <p:cNvPicPr/>
          <p:nvPr/>
        </p:nvPicPr>
        <p:blipFill>
          <a:blip r:embed="rId2"/>
          <a:stretch/>
        </p:blipFill>
        <p:spPr>
          <a:xfrm>
            <a:off x="3851280" y="1968480"/>
            <a:ext cx="3097080" cy="31161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6948360" y="5084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1-почка</a:t>
            </a:r>
            <a:br>
              <a:rPr sz="2400"/>
            </a:b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2-мочеточник</a:t>
            </a:r>
            <a:br>
              <a:rPr sz="2400"/>
            </a:b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3-клоака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рвная систе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27280" y="1844280"/>
            <a:ext cx="42447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Головной мозг достаточно большой, развиты большие полушария и мозжечок. У птиц хорошо развиты зрение, слух и чувство равновесия; обоняние и вкус развиты плохо. Глазные яблоки большие и малоподвижные; ограниченность поля зрения компенсируется подвижностью шеи. Слух особенно хорошо развит у охотящихся в темноте птиц; пещерные птицы ориентируются при помощи эхолокации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3" name="Рисунок 1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456000" cy="2662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468360" y="4653000"/>
            <a:ext cx="33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1-передний мозг</a:t>
            </a:r>
            <a:br>
              <a:rPr sz="2400"/>
            </a:b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2-средний мозг</a:t>
            </a:r>
            <a:br>
              <a:rPr sz="2400"/>
            </a:b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3-мозжечок</a:t>
            </a:r>
            <a:br>
              <a:rPr sz="2400"/>
            </a:b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4-промежуточный мозг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ит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Птицы – экологически успешная группа животных, «захватившая» воздушную стихию от Арктики до Антарктиды, от уровня моря до высокогорий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7" name="Рисунок 6" descr="C:\Documents and Settings\LG\Рабочий стол\биология\35.jpg"/>
          <p:cNvPicPr/>
          <p:nvPr/>
        </p:nvPicPr>
        <p:blipFill>
          <a:blip r:embed="rId2"/>
          <a:stretch/>
        </p:blipFill>
        <p:spPr>
          <a:xfrm>
            <a:off x="4853160" y="1981080"/>
            <a:ext cx="340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щита пти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В последнее время численность многих видов птиц сокращается. Это связано с изменением окружающей среды (загрязнение атмосферы, массовая вырубка лесов, появление в местах обитания птиц завезённых человеком хищников и т. п.) и охотой. За четыре последних века вымерло около 90 видов птиц, многие другие были занесены в Красную книгу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Для повышения численности птиц и привлечения их в города создаются благоприятные условия для их обитания: развешиваются скворечники, проводится зимняя подкормка. В период размножения охота на многих диких птиц запрещена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ласс Птиц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тиц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– класс высокоразвитых теплокровных позвоночных животных, передние конечности которых в ходе эволюции превратились в крылья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9" name="Рисунок 6" descr="C:\Documents and Settings\LG\Рабочий стол\биология\31.jpg"/>
          <p:cNvPicPr/>
          <p:nvPr/>
        </p:nvPicPr>
        <p:blipFill>
          <a:blip r:embed="rId2"/>
          <a:stretch/>
        </p:blipFill>
        <p:spPr>
          <a:xfrm>
            <a:off x="4892760" y="1981080"/>
            <a:ext cx="331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нешнее стро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Тело птицы состоит из головы, шеи, туловища, передних и задних конечностей и хвоста. На голове расположены ротовая полость и органы чувств. Челюсти заканчиваются роговыми покровами, образующими клюв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2" name="Рисунок 6" descr="C:\Documents and Settings\LG\Рабочий стол\биология\06060101.jpg"/>
          <p:cNvPicPr/>
          <p:nvPr/>
        </p:nvPicPr>
        <p:blipFill>
          <a:blip r:embed="rId2"/>
          <a:stretch/>
        </p:blipFill>
        <p:spPr>
          <a:xfrm>
            <a:off x="472428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испособ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Шея отличается большой подвижностью. Тело является опорой для прочного крепления крыльев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ст у птиц сильно укорочен и выполняет рулевую функцию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5" name="Рисунок 6" descr="C:\Documents and Settings\LG\Рабочий стол\биология\32.jpg"/>
          <p:cNvPicPr/>
          <p:nvPr/>
        </p:nvPicPr>
        <p:blipFill>
          <a:blip r:embed="rId3"/>
          <a:stretch/>
        </p:blipFill>
        <p:spPr>
          <a:xfrm>
            <a:off x="4648320" y="2044800"/>
            <a:ext cx="38098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ожа и перь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Тонкая двуслойная кожа лишена потовых желёз и покрыта пухом и перьями. Перья разделяются на служащие для полёта маховые и рулевые и на одевающие тело покровные. Маховые и рулевые перья большие и жёсткие, покровные (контурные и пуховые) – небольшие и мягки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8" name="Рисунок 6" descr="C:\Documents and Settings\LG\Рабочий стол\биология\06060102.png"/>
          <p:cNvPicPr/>
          <p:nvPr/>
        </p:nvPicPr>
        <p:blipFill>
          <a:blip r:embed="rId2"/>
          <a:stretch/>
        </p:blipFill>
        <p:spPr>
          <a:xfrm>
            <a:off x="4648320" y="2344680"/>
            <a:ext cx="38098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пер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Перо состоит из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чина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тержня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пахала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 (у пуховых перьев стержня нет). Опахало состоит из расходящихся от стержня в две стороны бородок, от которых, в свою очередь, отходят другие бородки. Крючки на бородках скрепляют их друг с другом, благодаря чему образуется поверхность пера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Перья у птиц растут на отдельных участках кожи, разделённых обнаженными участками. Окраска перьев зависит от пигментов и от микростуктуры пера; у многих птиц она меняется в течение года. Оперение и роговые покровы птиц раз в год полностью или частично обновляются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начение перье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У основания хвоста имеется единственная наружная железа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копчиковая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. Её выделениями птица смазывает свои перья, которые за счёт этого не намокают и становятся упругими и эластичными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Перья поддерживают тело птицы в воздухе и способствуют поддержанию постоянной температуры тела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Рисунок 6" descr="C:\Documents and Settings\LG\Рабочий стол\биология\33.jpg"/>
          <p:cNvPicPr/>
          <p:nvPr/>
        </p:nvPicPr>
        <p:blipFill>
          <a:blip r:embed="rId3"/>
          <a:stretch/>
        </p:blipFill>
        <p:spPr>
          <a:xfrm>
            <a:off x="4648320" y="2298600"/>
            <a:ext cx="38098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нутреннее стро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4114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ahoma"/>
              </a:rPr>
              <a:t>Внутренние органы птиц имеют сложное строение, в результате чего новый уровень развития: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2c07"/>
                </a:solidFill>
                <a:latin typeface="Tahoma"/>
                <a:ea typeface="Tahoma"/>
              </a:rPr>
              <a:t>- высокая и постоянная температура тела, не зависящая от внешней среды;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2c07"/>
                </a:solidFill>
                <a:latin typeface="Tahoma"/>
                <a:ea typeface="Tahoma"/>
              </a:rPr>
              <a:t>- четырёхкамерное сердце, в котором происходит полное разделение артериальной крови и венозной;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2c07"/>
                </a:solidFill>
                <a:latin typeface="Tahoma"/>
                <a:ea typeface="Tahoma"/>
              </a:rPr>
              <a:t>- срастание многих костей</a:t>
            </a:r>
            <a:r>
              <a:rPr b="0" lang="ru-RU" sz="1600" spc="-1" strike="noStrike">
                <a:solidFill>
                  <a:srgbClr val="172c07"/>
                </a:solidFill>
                <a:latin typeface="Tahoma"/>
              </a:rPr>
              <a:t>,</a:t>
            </a:r>
            <a:r>
              <a:rPr b="0" lang="ru-RU" sz="1600" spc="-1" strike="noStrike">
                <a:solidFill>
                  <a:srgbClr val="172c07"/>
                </a:solidFill>
                <a:latin typeface="Tahoma"/>
                <a:ea typeface="Tahoma"/>
              </a:rPr>
              <a:t> наличие цевки;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2c07"/>
                </a:solidFill>
                <a:latin typeface="Tahoma"/>
                <a:ea typeface="Tahoma"/>
              </a:rPr>
              <a:t>- наличие воздушных мешков;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2c07"/>
                </a:solidFill>
                <a:latin typeface="Tahoma"/>
                <a:ea typeface="Tahoma"/>
              </a:rPr>
              <a:t>- более высокий уровень развития центральной нервной системы</a:t>
            </a:r>
            <a:r>
              <a:rPr b="0" lang="ru-RU" sz="1600" spc="-1" strike="noStrike">
                <a:solidFill>
                  <a:srgbClr val="172c07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6" name="Рисунок 6" descr="C:\Documents and Settings\LG\Рабочий стол\биология\06060301.png"/>
          <p:cNvPicPr/>
          <p:nvPr/>
        </p:nvPicPr>
        <p:blipFill>
          <a:blip r:embed="rId7"/>
          <a:stretch/>
        </p:blipFill>
        <p:spPr>
          <a:xfrm>
            <a:off x="4648320" y="2438280"/>
            <a:ext cx="380988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ыхательная систе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Птицы отличаются своеобразным строением дыхательной системы. Бронхи, пронизывающие небольшие лёгкие, соединены с десятком воздушных мешков. При вдохе воздух поступает в лёгкие и в мешки, при выходе в лёгкие проходит насыщенный кислородом воздух из воздушных мешков. Таким образом увеличивается интенсивность газообмена. Кроме того, воздушные мешки позволяют изменять плотность тела при нырянии, а также предохраняют внутренние органы от перегрева, удаляя избыток тепла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2:24:13Z</dcterms:created>
  <dc:creator>Lussia</dc:creator>
  <dc:description/>
  <dc:language>en-US</dc:language>
  <cp:lastModifiedBy>User</cp:lastModifiedBy>
  <dcterms:modified xsi:type="dcterms:W3CDTF">2015-01-24T18:55:11Z</dcterms:modified>
  <cp:revision>4</cp:revision>
  <dc:subject/>
  <dc:title>Птицы</dc:title>
</cp:coreProperties>
</file>